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F1E-59A5-45FC-9171-70A43A3C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92C-BE18-42BA-B6D3-4F9DB7A7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F0D-4197-42DC-A1C5-52004A69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FD1-17AD-49B2-BE86-0BDD54B4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897-9430-4102-A67C-941AD790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5E0-F6C3-4B42-A0B5-FF2D1C6C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B1D-120F-4010-BB5F-2C3725EE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F27-94C4-4DDB-9813-BF552D78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1E7-F247-4698-A491-9DBC262C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95E-D0F2-4936-B80D-56125CB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6E5-8861-4FF9-B7BF-44B2D425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599-5CB3-4140-8A4F-02CB905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84D2-075E-4144-BA21-8775D25832D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059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2286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11430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621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9907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193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9160" y="380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97000" y="243828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Activo y Pasiv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4720" y="1628640"/>
            <a:ext cx="707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ones de restitución reales, reivindicatorias y poses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7840" y="2378160"/>
            <a:ext cx="84265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Reivindic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85          Sigue reglas generales, en tribunal quiebra, contra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fallido poseedor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enencia) y por ende reputado d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5280" y="2925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321480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716280"/>
            <a:ext cx="90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Reivindicatorias especial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¿Reivindicatoria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82        Título de crédito en poder del fallido que reconoce dominio ajeno, antes d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su 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isión de cobranza </a:t>
            </a:r>
            <a:r>
              <a:rPr b="1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mandato al deudor exp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83        Mercaderías, entregadas, identificables, reconoce dominio aj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589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9640" y="4365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1555920"/>
            <a:ext cx="707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ones de restitución reales, reivindicatorias y poses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989000"/>
            <a:ext cx="964872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rámite Reivindicatori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icio ordinario Art. 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terdictos poseso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70        Reconoce el D° a terce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te tribunal competente reglas generales (# acumul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0200" y="25653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50208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9400" y="4270320"/>
            <a:ext cx="8971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cciones personales de restitución (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ciones, terminaciones, nul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4797360"/>
            <a:ext cx="1000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lido mero tenedor (        reivindicatoria = poseedo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rcicio acciones contrato respectivo, ante juez quiebra, salvo terminación arrend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uesto el término del contrato respe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4941720"/>
            <a:ext cx="360360" cy="142920"/>
          </a:xfrm>
          <a:prstGeom prst="leftRightArrow">
            <a:avLst>
              <a:gd name="adj1" fmla="val 50000"/>
              <a:gd name="adj2" fmla="val 50195"/>
            </a:avLst>
          </a:prstGeom>
          <a:solidFill>
            <a:srgbClr val="b23002"/>
          </a:solidFill>
          <a:ln w="9360">
            <a:solidFill>
              <a:srgbClr val="d23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1840" y="1625760"/>
            <a:ext cx="148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Terc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349360"/>
            <a:ext cx="66787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to       ¿Declarar domin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Recuperar domin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De ella deriva acción restitutor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Evitar el embargo gener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3549600"/>
            <a:ext cx="564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mitación        ¿Incidente 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roceso autónom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437000"/>
            <a:ext cx="705636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5 pendiente la declarato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úa tramitación, acumulánd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tido, si hubo alzamiento automático del embargo? Pero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úa desapoder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50148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51808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8160" y="1628640"/>
            <a:ext cx="144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erc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421000"/>
            <a:ext cx="45720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posición posterior a la decl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811600"/>
            <a:ext cx="7993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admisible, porque terceros no son admitidos a la quiebra salvo casos explíc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misible, porque nada lo nie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rocedimie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24320"/>
            <a:ext cx="8172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521 CPC          Ordinario sin replica ni dup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5 LQ 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680 CPC Su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44370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80" y="1820880"/>
            <a:ext cx="333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Restitución Administ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2279520"/>
            <a:ext cx="6767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uede el síndico?  ¿Es facultad de disposi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Antes o después del invent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uede la Junta de Acree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33240" y="4221000"/>
            <a:ext cx="343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720" y="4748040"/>
            <a:ext cx="23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. Bienes Pas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760" y="5157720"/>
            <a:ext cx="77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ón Pauliana Civil, Pauliana Supletoria en Quiebra y revocatorias concur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ones de inoponibilidad y no de nu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ones pers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ones de ineficacia, ni restitutorias ni indemnizato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076640"/>
            <a:ext cx="3672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4920" y="2421000"/>
            <a:ext cx="28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ón Pauliana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114720"/>
            <a:ext cx="835344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misma acción que revocatorias concursa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gen igualdad acreedores, inoponibilidad es su sa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gunos ven fundamentos distintos pero objetos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juicio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la fe: conocimiento mal estado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riquecimiento injusto en actos gratu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uliana civil es acción subsidiaria de inoponibilidad a revocatorias concursales (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243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798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230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3240" y="1484280"/>
            <a:ext cx="343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68560" y="2708280"/>
            <a:ext cx="8105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ólo existe si hay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actos previos a la Quiebra (ex post: inoponi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descansan en la par condictio? ¿enriquecimiento injusto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responsabilidad fiduciaria con los acree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hay ilicitud en el acto revocado? o ¿sólo un atentado contra la par condicitio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nción ¿nulidad o inoponibil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ción objetiva vs. subjetividad de la acción pau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0720" y="210492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897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3400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390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4336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4840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3240" y="1484280"/>
            <a:ext cx="343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94440" y="1481040"/>
            <a:ext cx="3484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800" y="2130480"/>
            <a:ext cx="40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uliana Civil, proce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09520" y="270828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468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85264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7080" y="3200400"/>
            <a:ext cx="628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jercida por acr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supone el con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requiere título ejecutiv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Acreedor posterior al acto impugnado?,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neficia sólo al acreedor de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H="1" rot="16200000">
            <a:off x="1298520" y="4426200"/>
            <a:ext cx="311760" cy="90684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 flipH="1" rot="16200000">
            <a:off x="1298520" y="4980240"/>
            <a:ext cx="311760" cy="90684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75564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7800" y="1938240"/>
            <a:ext cx="40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uliana Civil, proce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52576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etende ineficacia de acto 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720" y="2916360"/>
            <a:ext cx="507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≠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o material (ocultamiento de bienes por 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io al concur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3309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813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8200" y="42228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erjudica acreedor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00" y="4892760"/>
            <a:ext cx="73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ede ser buen o mal negocio, pero no debe afectar a los acreedor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debe agravar la insolvencia (ej. Factor de liqu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50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6480" y="1773360"/>
            <a:ext cx="8654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mal E° negocios deudor (consilium fraudis) y tercero en acto onero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 momento ejecución acto (participatio fraudis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VIGENCIA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MAL EST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ber del mal E°, ¿es realmente un fraude pauli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io de acción pauliana civil 2468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ión pauliana supletoria: Arts. 75 presunción conoc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557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 fraude pau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355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3508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3906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s supletoria a 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4221000"/>
            <a:ext cx="8016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modo que ap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ando no hay revocatoria especial que apl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ataca actos fuera del período sospechoso especial de cada revocatoria concu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empre con deudor no calif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4937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609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traste entre la apariencia y la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mas buscan la realidad: bienes de la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2/175 indicación bienes pro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7 N° 2 3,4,5 y 7  /  94 inc. 1° atribuciones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o la realidad del proceso es la que 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étodos para determinar la realidad vs. la apar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efinidos, pero ley define algu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autación, administración bienes pres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 y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98208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982080" y="2771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6779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2046240"/>
            <a:ext cx="9072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puede ser posterior al acto impug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ser exitosa, beneficia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od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los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evo acreedor: 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se plantea duda del título ejec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refiere a actos anteriores a la apertura de la Qui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pción 215 y 216: entre aprobación y nulidad convenio: r. gr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segunda quiebra: revocatorias concursales (convenio alzatori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chas veces la ejecución del acto presupone un perjuicio a acree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 da por cumplido requerimiento de acción pauliana civ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263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2695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200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0" y="473076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627520"/>
            <a:ext cx="68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lo que se protege la par condictio por sobre 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561348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hay real consideración del fraude paulia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609560"/>
            <a:ext cx="7920000" cy="64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l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Pauliana Civil subsidiaria en quiebr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licables a todo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licables a deudores calificados, más objetivas y exped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s de actos a título gratuito o de beneficio gratuito 74 - 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 más l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yor expedición de la 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s de actos oneros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ponibilidad facultativa “podrá” 77 - 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ólo califi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656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6560" y="35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6560" y="256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0" y="473076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5627520"/>
            <a:ext cx="68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12580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179640" y="1549440"/>
            <a:ext cx="44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vocatorias Concurs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40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2040" y="1557360"/>
            <a:ext cx="61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lidades de derecho, inoponibilidad forz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220500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ículos 74, 76; actos grat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34600" y="4508640"/>
            <a:ext cx="45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no está obligado a acoger deman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47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484280"/>
            <a:ext cx="5761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573280"/>
            <a:ext cx="7848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ez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ene discreción, debe declarar revo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3141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lidades facultativas, inoponibilidad discre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3068640"/>
            <a:ext cx="64818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379728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ículos 77, 78; actos oner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4086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ciones en cuanto a la fa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8440" y="4892760"/>
            <a:ext cx="553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no debe fallar conforme al mérito del proce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23800" y="5229360"/>
            <a:ext cx="22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sitos 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59360" y="5540400"/>
            <a:ext cx="58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es soberano para apreciar la mala fe de tercer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5800" y="5877000"/>
            <a:ext cx="41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opera de acuerdo a la equ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7640" y="50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537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47640" y="5734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602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06920" y="530208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11080" y="522936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evos antecedentes ilustrativ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9000" y="14842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6560" y="1925640"/>
            <a:ext cx="806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ermina alcance de revocatorias concursales (hasta apertura de la quie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892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335772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07840" y="33577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ándo se tomó conocimiento del estado de insolvencia que afecta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 deudor (Teorías y su relación con concepto de insolv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21960" y="234936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8640" y="273204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pu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58920" y="292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40000" y="285444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38560" y="242100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2720" y="230040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6600" y="280512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pon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399888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las Proce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91160" y="4433760"/>
            <a:ext cx="33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uesta síndico al 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17800" y="4749840"/>
            <a:ext cx="26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ción por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51200" y="5110200"/>
            <a:ext cx="52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lido, acreedores, terceros objetan y prop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34000" y="54705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17360" y="5829480"/>
            <a:ext cx="50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fija, notifica por aviso, apelable devol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0328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5302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5662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03280" y="60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" y="33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19890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echa de la Cesación de Pa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85040" y="242424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udor común: 1° título ejecutivo exig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43280" y="2739960"/>
            <a:ext cx="61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udor calificado: juez, no más de un año desde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49760" y="3100320"/>
            <a:ext cx="484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os particulares, revocatorias concur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3280" y="2571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2932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3292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9000" y="14842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167796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Concursale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36360" y="2197080"/>
            <a:ext cx="9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Destinadas a Revocar Actos a Título Gratuito o Asimi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92240" y="2631960"/>
            <a:ext cx="57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actos a título gratuito propiamente 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22120" y="2948040"/>
            <a:ext cx="45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contra los pagos anticip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44440" y="3308400"/>
            <a:ext cx="41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contra la dación en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60520" y="2779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60520" y="313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6052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81080" y="3668760"/>
            <a:ext cx="62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contra garantías reales sobre bienes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749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-36360" y="4221000"/>
            <a:ext cx="9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Destinadas a Revocar Actos a Título Oneroso o Asimi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00960" y="46483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actos a título oneroso e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14280" y="4964040"/>
            <a:ext cx="43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ciertas compens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71800" y="5324400"/>
            <a:ext cx="631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ciertos pagos de letras de cambio o paga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7640" y="47959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515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551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99520" y="568476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ción de ciertas inscripciones hipotec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62040" y="587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42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1628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actos a título gratuito (Art. 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32000" y="2138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4680" y="1946160"/>
            <a:ext cx="64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cualquier tipo de deudor:  común y calif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230652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24271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12000" y="234936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2498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32000" y="3075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3578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293040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16000" y="343548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"/>
          <p:cNvCxnSpPr/>
          <p:nvPr/>
        </p:nvCxnSpPr>
        <p:spPr>
          <a:xfrm flipH="1" rot="16200000">
            <a:off x="2205720" y="34977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2413080" y="38908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/>
          <p:nvPr/>
        </p:nvCxnSpPr>
        <p:spPr>
          <a:xfrm flipH="1" rot="16200000">
            <a:off x="2205720" y="404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2411280" y="4443480"/>
            <a:ext cx="669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excepción se extiende desde 120 días anteriores a la fech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, en el caso que beneficiario sea pariente ha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arto g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89080" y="530712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no asimila a un acto gratuito, los actos onerosos en que existe una gran diferencia entre las prestaciones recíprocas de las 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5451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06560" y="860400"/>
            <a:ext cx="91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13334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pagos anticipados (Art. 76 N°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2174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84240" y="198288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71640" y="234324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246384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238608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2535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3111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3614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29671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34718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/>
          <p:nvPr/>
        </p:nvCxnSpPr>
        <p:spPr>
          <a:xfrm flipH="1" rot="16200000">
            <a:off x="2205720" y="35341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2413080" y="39276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89080" y="447984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fecha de vencimiento de la obligación cuyo pago se anticipa puede corresponder a una fecha anterior o posterior a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4624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/>
          <p:nvPr/>
        </p:nvCxnSpPr>
        <p:spPr>
          <a:xfrm flipH="1" rot="16200000">
            <a:off x="2205720" y="47343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2340000" y="51274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ras legislaciones sólo obligaciones que vencían con posterioridad a la apertura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54160" y="572760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asimila al pago anticipado el descuento de efectos de comercio o facturas de su car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23280" y="1701720"/>
            <a:ext cx="151272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83320" y="1676520"/>
            <a:ext cx="198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daciones en pago (Art. 76 N°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42920" y="2468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5520" y="227664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2560" y="263700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27576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2920" y="267984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42920" y="2828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42920" y="3405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908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6920" y="326088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376560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/>
          <p:nvPr/>
        </p:nvCxnSpPr>
        <p:spPr>
          <a:xfrm flipH="1" rot="16200000">
            <a:off x="1917000" y="3827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124000" y="42210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00000" y="493560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obligaciones de dinero que el fallido soluciona con especies distintas del dinero o de los efectos de comer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50799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32680" y="1844640"/>
            <a:ext cx="151272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9308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garantías reales para obligaciones preexistentes (Art. 76 N°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256536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56360" y="26859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2000" y="26082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32000" y="3333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2000" y="3836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16000" y="31892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16000" y="36939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/>
          <p:nvPr/>
        </p:nvCxnSpPr>
        <p:spPr>
          <a:xfrm flipH="1" rot="16200000">
            <a:off x="2205720" y="3755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413080" y="41497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9080" y="486396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otorgar garantías reales (prenda e hipoteca) sobre bienes del fallido para caucionar obligaciones pre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32000" y="5008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2205720" y="51249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2340000" y="544500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la garantía se constituye junto con adquirirse la obligación por el deudor, no procede este acción revocatoria, habría que recurrir a las acciones especiales del art. 77 y 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étodos para determinar la realidad vs. la apa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aración de bienes, recuperaciones de terceros, reivindicaciones       personales, reales y especiales, re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ción bienes futuros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ción patrimonial (nulidad, resolución, revoc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 y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actos a título oneroso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86040" y="2565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2685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24360" y="2565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29480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33577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"/>
          <p:cNvCxnSpPr/>
          <p:nvPr/>
        </p:nvCxnSpPr>
        <p:spPr>
          <a:xfrm flipH="1" rot="16200000">
            <a:off x="2205720" y="34200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2413080" y="38131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87280" y="4503600"/>
            <a:ext cx="795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a cualquier acto o contrato a título oneroso e incluso los pagos no considerados en el art. 76 N°1 (pagos 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30200" y="46483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6000" y="306864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as compensaciones (Art. 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86040" y="2565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2685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24360" y="2565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32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16000" y="29480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16000" y="350208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/>
          <p:nvPr/>
        </p:nvCxnSpPr>
        <p:spPr>
          <a:xfrm flipH="1" rot="16200000">
            <a:off x="2205720" y="35643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413080" y="39574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87280" y="4648320"/>
            <a:ext cx="795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la adquisición, por endoso o cesión, de créditos a la orden o nominativos, en contra del fallido para obtener compensaciones en perjuicio de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30200" y="4792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6000" y="306864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 al tiem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la cesión o end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87280" y="5540400"/>
            <a:ext cx="795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lgunos la revocación de la compensación procedería sólo si por dicha compensación se devenga un perjuicio al patrimonio del falli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30200" y="56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os pagos de letras de cambio o pagarés (Art. 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32000" y="2612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84240" y="2421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86040" y="2781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67280" y="2901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24360" y="2781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32000" y="2973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32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32000" y="4479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35733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43369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"/>
          <p:cNvCxnSpPr/>
          <p:nvPr/>
        </p:nvCxnSpPr>
        <p:spPr>
          <a:xfrm flipH="1" rot="16200000">
            <a:off x="2205720" y="43988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413080" y="47926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antes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9308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0000" y="3284640"/>
            <a:ext cx="669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 al tiem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la aceptación de la letra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scripción del pagaré a favor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c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os pagos de letras de cambio o pagarés (Art. 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54160" y="213372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que el deudor ha pagado letras o pagarés de su giro durante el 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16000" y="2852640"/>
            <a:ext cx="795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beneficiario de dichos títulos debe haber tenido conocimiento de la insolvencia del deudor al tiempo de librarse o aceptarse la letra o suscribirse el pagaré a la orden de aqué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81080" y="386064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reembolso se exigirá al primer beneficiario del libramiento, aceptación o suscripción de la letra de cambio o pagaré, respectiv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81080" y="457668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gunos autores consideran procedente extender esta sanción al cheque, fundado en el art. 11 de la Ley de Cuentas Corrientes Bancarias y Che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99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8728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/>
          <p:nvPr/>
        </p:nvCxnSpPr>
        <p:spPr>
          <a:xfrm flipH="1" rot="16200000">
            <a:off x="2205720" y="49021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2413080" y="529596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ros consideran que no es posible dicha extensión por cuanto al tratarse de una sanción su interpretación debe ser restri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as inscripciones hipotecarias (Art. 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71640" y="256536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56360" y="26859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12000" y="26082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3333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3836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16000" y="31892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16000" y="36939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205720" y="3755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2413080" y="41497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71640" y="4792680"/>
            <a:ext cx="795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que el deudor otorga un contrato de hipoteca y éste se inscribe durante el período sospechoso, transcurriendo más de 15 días entre su otorgamiento y la inscripción (este plazo aumento a razón de un día por cada 100km de di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8728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apa de verificación: constituye una subfase de la etapa cognocitiva del proces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 objetivo es identificar los acreedores que serán beneficiarios de la realización del bien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notificación de la resolución que declara la quiebra constituye la relación procesal con los acreedores de la quiebra, quienes tienen la carga de verificar sus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l proce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"/>
          <p:cNvCxnSpPr/>
          <p:nvPr/>
        </p:nvCxnSpPr>
        <p:spPr>
          <a:xfrm flipH="1" rot="16200000">
            <a:off x="1269360" y="37278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H="1" rot="16200000">
            <a:off x="1269360" y="40147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2042640" y="4092480"/>
            <a:ext cx="49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icación en período ordinario o extraordi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0120" y="4473720"/>
            <a:ext cx="6470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tículo 131, no existen acreedores eximidos de la oblig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icar sus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132000" y="5300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3200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32000" y="5732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14600" y="52293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54450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s incidentales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97320" y="5684760"/>
            <a:ext cx="34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ómina de Créditos Recono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33520" y="62960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758520" y="193680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941480"/>
            <a:ext cx="12952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95640" y="200988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20680" y="176040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40480" y="2247840"/>
            <a:ext cx="46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EXTRA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933200" y="280188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79640" y="2801880"/>
            <a:ext cx="4032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08000" y="344484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ebe distinguir ent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16000" y="40957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dentes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"/>
          <p:cNvCxnSpPr/>
          <p:nvPr/>
        </p:nvCxnSpPr>
        <p:spPr>
          <a:xfrm flipH="1" rot="16200000">
            <a:off x="548640" y="36579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1284480" y="4460760"/>
            <a:ext cx="56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30 días desde notificación resolución de apert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319760" y="5110200"/>
            <a:ext cx="66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no fatal, vence con la resolución que cierra p. ordinario (1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39120" y="5468760"/>
            <a:ext cx="81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debe de oficio declarar su término si los interesados no lo hubieren soli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31280" y="4748040"/>
            <a:ext cx="37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común, legal e improrrog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33520" y="62960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58520" y="170028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1704960"/>
            <a:ext cx="12952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116000" y="249084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sidentes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/>
          <p:nvPr/>
        </p:nvCxnSpPr>
        <p:spPr>
          <a:xfrm flipH="1" rot="16200000">
            <a:off x="548640" y="20307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1342080" y="2787480"/>
            <a:ext cx="69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30 días más incremento según T. de Emplazamiento (259 C.P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91320" y="3387600"/>
            <a:ext cx="73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individual y se cuenta desde notificación por carta aérea certifi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348200" y="3673440"/>
            <a:ext cx="66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no fatal, vence con la resolución que cierra p. ordinario (13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67560" y="4008600"/>
            <a:ext cx="81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debe de oficio declarar su término si los interesados no lo hubieren soli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00400" y="3071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legal e improrrog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32480" y="4489560"/>
            <a:ext cx="46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EXTRA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79640" y="4489560"/>
            <a:ext cx="460836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66840" y="5016600"/>
            <a:ext cx="87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que corre desde que el juez declara cerrado período ordinario de verificación ha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tanto subsista el proceso de quiebra (art. 140 “mientras haya fondos para reparti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51800" y="5592600"/>
            <a:ext cx="66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Puga, hasta el momento que el síndico cese en sus 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33520" y="65977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7388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0248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108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203960" y="63896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7440" y="2209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16360" y="225900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11280" y="2114640"/>
            <a:ext cx="14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. Ord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66760" y="211464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. Extraord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5640" y="2498760"/>
            <a:ext cx="394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ción es de cargo del activ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91160" y="2498760"/>
            <a:ext cx="44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ción es de cargo del acree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ci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800" y="3203640"/>
            <a:ext cx="420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ite aprovechar el IVA respect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éditos verificados que consten en fac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16360" y="321804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reedor pierde el IVA como crédito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920" y="3855960"/>
            <a:ext cx="419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ción ordinaria se notifica por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704840" y="3851280"/>
            <a:ext cx="456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ción extraordinaria se notifica por avi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acreedores y por cédula a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18360" y="4441680"/>
            <a:ext cx="451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zo para impugnar créditos verifi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inariamente desde que se agregan a a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ta 15 días después de notificación de cier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rdin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720" y="4503600"/>
            <a:ext cx="411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zo para impugnar créditos verifi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período extraordinario es dentr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días siguientes de notificación por avi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 solicitud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58520" y="155736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1562040"/>
            <a:ext cx="12952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533520" y="62960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2360" y="234936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quisitos formales de verif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26920" y="2776680"/>
            <a:ext cx="58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propios de cualquier demanda (254 C.P.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26920" y="3179880"/>
            <a:ext cx="831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olicitud debe indicar el monto de lo adeudado por concepto de capital e inter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os devengados hasta el día de la declaración de quie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26920" y="381312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juntar minuta de liquidación de crédito y los títulos justificativos de la pret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6920" y="424512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ompañar dos copias de la demanda y sus anexos (una para síndico y otra para el fall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"/>
          <p:cNvCxnSpPr/>
          <p:nvPr/>
        </p:nvCxnSpPr>
        <p:spPr>
          <a:xfrm flipH="1" rot="16200000">
            <a:off x="1226520" y="4548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1908000" y="500868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scute sanción por no entregar las copias que se seña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1701720"/>
            <a:ext cx="8208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o de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reivindicados por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sometidos a revocación en favor de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restituidos por nulidad o re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futuros gratu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neficios líquidos de bienes futuros onero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844640"/>
            <a:ext cx="8064360" cy="1728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860640"/>
            <a:ext cx="8642160" cy="1800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5880" y="1474920"/>
            <a:ext cx="2993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ultado de ecua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0360" y="4043520"/>
            <a:ext cx="9036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peraciones de terceros, separación de bienes: reivindicatorias, resoluciones, compensaciones, modos de extinguir distintos del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afectos al concurso (del deudor: inembargab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imentos en favor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gas y derechos preferentes de terceros no acreedores (ej. bienes futuros, discusión de la masa vs. en la m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9440" y="5925960"/>
            <a:ext cx="329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ctivo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5877000"/>
            <a:ext cx="23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33520" y="63086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uiénes deben verif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26920" y="2560680"/>
            <a:ext cx="792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ste acreedor alguno eximido de esta obligación (131), única forma de lograr la par condic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6920" y="320832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pciones apa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/>
          <p:nvPr/>
        </p:nvCxnSpPr>
        <p:spPr>
          <a:xfrm flipH="1" rot="16200000">
            <a:off x="1442160" y="3274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2050920" y="3718080"/>
            <a:ext cx="70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condicionales (152) que jurídicamente no son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50920" y="4145040"/>
            <a:ext cx="70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privilegiados de primera clase (1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"/>
          <p:cNvCxnSpPr/>
          <p:nvPr/>
        </p:nvCxnSpPr>
        <p:spPr>
          <a:xfrm flipH="1" rot="16200000">
            <a:off x="1442160" y="36835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1979640" y="450864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éditos por costas que se causen en interés de los acr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79640" y="4821120"/>
            <a:ext cx="83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éditos por gastos para poner a disposición de la masa bienes del fall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157720"/>
            <a:ext cx="8316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éditos por gastos de administración, realización activo y présta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tados por síndico para dichos ef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79640" y="5661000"/>
            <a:ext cx="8316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uneraciones de trabajadores e indemnizaciones laborales. Pago administrativ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o que igualmente requiere verificación por parte de acreedor (1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quisitos para verif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77760" y="25653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 dinerarios (1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2924280"/>
            <a:ext cx="83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 documentarios (133) basta antecedente escrito que pruebe o dé certeza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 aunque carezca de mérito ejec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71640" y="349560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ligaciones crediticias deben ser anteriores a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50920" y="400068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fectos de demanda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71640" y="446076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olicitud de verificación y su resolución deben ser notificadas por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482112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es extraordinaria debe notificar por cédula al síndico, sin perjuicio del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71640" y="5180040"/>
            <a:ext cx="83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 relación procesal de juicio incidental de verificación, interrumpe la prescrip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constituye en mora a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ugnación de la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77760" y="256536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to: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ivale a la contestación de la demanda. Pretende obtener la exclusión del pasivo de un determinado acreedor o de la preferencia que se al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71640" y="32796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gitim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/>
          <p:nvPr/>
        </p:nvCxnSpPr>
        <p:spPr>
          <a:xfrm flipH="1" rot="16200000">
            <a:off x="1586880" y="3274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1943280" y="371628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: fallido, síndico, demás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/>
          <p:nvPr/>
        </p:nvCxnSpPr>
        <p:spPr>
          <a:xfrm flipH="1" rot="16200000">
            <a:off x="1586880" y="3635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>
            <a:off x="1979640" y="402912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ferencias: cualquiera de los señalados menos el fallido (13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71640" y="45324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ción de Terc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187280" y="4821120"/>
            <a:ext cx="83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en esta fase excluye al tercero, aun cuando también pueden tener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és ya que la disminución de los créditos disminuye a su vez la neces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cciones revocato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187280" y="565632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ceros están suficientemente protegidos: reposición quiebra, impugnación f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cesación de pago y acción revoc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52360" y="170028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ugnación de la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71640" y="21319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ción del síndico (1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95280" y="242100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ne la facultad y deber legal de impugnar créditos y pref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368360" y="280368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a por la prosecución normal del juic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0000" y="316404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ber de fiscalización (13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0000" y="352260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ugnación de intereses excesivos (13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71640" y="40273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para impug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274760" y="4503600"/>
            <a:ext cx="93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para impugnar créditos verificados ordinariamente desde que se agrega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s hasta 15 días después de notificación de cierre  p. ordinar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58920" y="5157720"/>
            <a:ext cx="78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para impugnar créditos verificados en período extraordinario es dentr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 días siguientes de la notificación por aviso de la solicitud de verificació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332000" y="26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32000" y="29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3200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32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26880" y="630864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ugnación de la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52400" y="26370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0000" y="292572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mita como 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330840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slado de 6 d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476360" y="36687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ción personal o art. 44 C.P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11280" y="402912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tencia es definitiva, pone término a juicio decla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11280" y="44607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a Juzgada: discutible si procede reabrirse en juicio ordinario pos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16320" y="1647720"/>
            <a:ext cx="21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ómina de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9640" y="1652760"/>
            <a:ext cx="223200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26920" y="2276640"/>
            <a:ext cx="8317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Listado, título ejecutivo ejecución colectiva, nómina administrativa o jurisdiccion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la forma y presenta al 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 días cierre período de verificación ord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ividualiza acreedores, montos y pref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rva créditos condicionales e impug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pliable con créditos verificados extraordinari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ermina acreedores para efectos de votar en juntas y percibir 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mutable por resolución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1120" y="2246400"/>
            <a:ext cx="8009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eglas de realización de los bienes recogen los principios que sustenta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icio de quieb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quitar el proceso concursal en períodos breves, para 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ibe la venta como unidad económica y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dad de giro como excepc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ne ciertos plazos programáticos (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ca enajenaciones de activos menores (1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340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340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1280" y="164772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ÓN DEL A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652760"/>
            <a:ext cx="3095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1124640" y="25542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611280" y="164772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S DE LA RE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9640" y="1652760"/>
            <a:ext cx="3095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"/>
          <p:cNvCxnSpPr/>
          <p:nvPr/>
        </p:nvCxnSpPr>
        <p:spPr>
          <a:xfrm flipH="1" rot="16200000">
            <a:off x="1947240" y="1835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2608920" y="22240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autación e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"/>
          <p:cNvCxnSpPr/>
          <p:nvPr/>
        </p:nvCxnSpPr>
        <p:spPr>
          <a:xfrm flipH="1" rot="16200000">
            <a:off x="1947240" y="217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>
            <a:off x="2628720" y="26305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628360" y="299088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propiamente 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"/>
          <p:cNvCxnSpPr/>
          <p:nvPr/>
        </p:nvCxnSpPr>
        <p:spPr>
          <a:xfrm flipH="1" rot="16200000">
            <a:off x="1947240" y="2532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2701800" y="356724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Real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29080" y="3500280"/>
            <a:ext cx="273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25892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94520" y="42861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93800" y="47181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94520" y="5149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5892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25892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419640" y="5157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492360" y="4869000"/>
            <a:ext cx="574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233600" y="4724280"/>
            <a:ext cx="450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 6 meses desde junta constitutiva (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 9 meses para realización de inmue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rrogable una sola 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916360" y="44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268520" y="4221000"/>
            <a:ext cx="44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 6 meses cualquiera sea su integ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2701080" y="162252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629080" y="1555920"/>
            <a:ext cx="2734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0280" y="2852640"/>
            <a:ext cx="8780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activ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21) Realización de bienes próximo a deterioro o a una desvalorización inmin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prescinde de autorización judicial, se entiende que la orden de venta está conte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a sen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venta puede ser privada o al mart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Puga esta forma de realización no excluye los inmuebles en tanto cumpla 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121 (norma correlativa en juicio ejecutivo individual sí lo excluy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8160" y="2270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s Art.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24000" y="2205000"/>
            <a:ext cx="1800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2925000" y="12636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-216000" y="2206800"/>
            <a:ext cx="968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activ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22) realización de especies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orporales mueble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venden al mart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22) realización de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alores mobilia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 cotización bursátil, en remate en bolsa de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dos los demás bienes, corporales e incorporales, pública subasta o licitación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es pública subasta se debe cumplir trámite de tasación, determinación bases de re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fijación de día y 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s necesario citación acreedores hipotecarios (71 pueden iniciar concurso especial y separad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solicitar autorización de otros tribunales que hubieren embargado bienes, alzamien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PSO I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caso de licitación pública la ley exige aprobación de las bases por junta de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8160" y="1550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s Art. 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87880" y="1652760"/>
            <a:ext cx="43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ón de bienes excluidos en art.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8360" y="1484280"/>
            <a:ext cx="165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stión de administración de la Quiebra  (facultad jurisdic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ia del cargo de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er instrumento de conservación del activo concurs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557360"/>
            <a:ext cx="176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2000" y="3205080"/>
            <a:ext cx="790272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 N°2: se incauta de todos los bienes del fallido con fuerz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4 N°1: ministro de fe, libros, documentos y bienes del fallido, custo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Alcances? Numerosas discu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 razonable pareciera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enes en poder del fallido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do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incluso de terce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3320" y="3284640"/>
            <a:ext cx="309600" cy="21564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3320" y="3789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1269360" y="4979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79480" y="214776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 Realización de bienes alterando las normas del procedimiento ordinar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01280" y="2781360"/>
            <a:ext cx="83354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doptar este procedimiento se requiere (123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oto conforme de más de la ½ del pasivo con derecho a vo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creedores verificados y reconoc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jo esta modalidad se puede vender el activo como unidad sin trámites del art.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forma de realización no admite el pacto comisorio, supone la reducción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o a moned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pesar de soberanía de las partes, 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4360" y="2133720"/>
            <a:ext cx="792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11280" y="21477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  Venta del activo al mejor postor en pública subasta ante juez de quieb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640" y="2133720"/>
            <a:ext cx="8064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03440" y="2852640"/>
            <a:ext cx="76784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doptar este procedimiento se requi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oto conforme de más de la mayoría de la ½ del pasivo con derecho a vo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creedores verificados y reconocid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quiere 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aplicable a todo tipo de bi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39640" y="21477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Ven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68360" y="2060640"/>
            <a:ext cx="8424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25320" y="2852640"/>
            <a:ext cx="8467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la venta como conjunto de bienes del deudor, que puede ser total o pa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unidad de bienes supone una integración económica orientada a la producción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ción de biene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e procedimiento de realización no es incompatible con el del art. 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ere aprobación de l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quiere 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68360" y="1989000"/>
            <a:ext cx="84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 Ven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8360" y="1989000"/>
            <a:ext cx="837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6720" y="2709720"/>
            <a:ext cx="856692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roposición a la Junta la puede realizar el síndico, cualquier acreedor y 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bases las confecciona 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be contener los bienes que integra la unidad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 mínimo, garantías y demás modalidades de enaje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venta debe realizarse en pública subasta, al mejor postor y ante juez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e procedimiento sólo puede aplicarse en dos oportunidades. Luego, proce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inario o bajo régimen extraordinario del 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lidades de la venta art. 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55640" y="2205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 Ven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4360" y="206064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3880" y="2852640"/>
            <a:ext cx="8769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o de la venta bajo 124, hipoteca y prenda legal en favor del deudor por oblig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ndientes del adqui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junta puede excluir en las bases algunos bienes de los gravám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concurso se mantiene abierto hasta cumplimiento íntegro de las obligaciones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qui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feccionamiento de la venta se discute por falta de acta de remate que lo form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2824200" y="133524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Su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629080" y="1268280"/>
            <a:ext cx="273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400" y="2421000"/>
            <a:ext cx="915984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alor probable de la realización del activo n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jo este procedimiento síndico provisional pasa a ser síndico defini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determina forma de realización. Única limitación plazo de 6 meses para la liqu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modifica este plazo la circunstancia de existir inmuebles que liqui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ción de acreedores o fallido a este procedimiento, mism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2822400" y="133524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Giro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29080" y="1268280"/>
            <a:ext cx="417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53520" y="2421000"/>
            <a:ext cx="87926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también forma de “realización” y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iro / oficinas, locales o establecimientos             ¿suponen a una empresa?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acionada con permiso de actividades futuras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uidad efectiva símil de prenda pretoria de ejecución indiv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isional           Ef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        Parcial. Pueden ser medidas paral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282920" y="2997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619280" y="443700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42920" y="494172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822040" y="133524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Provi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629080" y="1268280"/>
            <a:ext cx="3095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-89640" y="2349360"/>
            <a:ext cx="938376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ributo del síndico (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ta Junta de Planificación porque ésta resuelve sobre la suerte de los bienes de la masa (1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función de interés de la masa (no del fall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alternativa al cierre y paralización de locales, oficinas y estable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tivo            facilitar realización de bienes y preparar liquidación progre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89080" y="4365720"/>
            <a:ext cx="503280" cy="215640"/>
          </a:xfrm>
          <a:prstGeom prst="leftRightArrow">
            <a:avLst>
              <a:gd name="adj1" fmla="val 50000"/>
              <a:gd name="adj2" fmla="val 46462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23120" y="133524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1268280"/>
            <a:ext cx="2879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-92160" y="1844640"/>
            <a:ext cx="950616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ribución del síndico con autorización del tribunal, por causas graves (99 inc. 2°) o de l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creedores (112), a proposición del síndico o 2 acreedores a partir de la Junta de 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ur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1 año prorrogable o más si acuerdo venta unidad económica (1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uerdo fundado, determinando objeto y bienes, administración y facultades. Si renovació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no puede seguir administr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continuación de giro” se agrega a razón social o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no administrador: interven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pagar a acreedores mediante frutos de la continuidad (= continuación de la empre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afecta acreedores Hipotecarios, prendarios, retencionarios, a menos que consien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ede haber compra de créditos a precio de moneda quiebra para conseguir quó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300360" y="486900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44360" y="1700280"/>
            <a:ext cx="874872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a acreedores es paulatino con ocasión del giro (1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e de la continuidad              deshaciendo lo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pueden realizarse bienes compre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aciones jurídicas preexistentes a la quiebra siguen v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763000" y="1268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29080" y="1268280"/>
            <a:ext cx="27349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27280" y="2205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547640" y="3494160"/>
            <a:ext cx="51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éditos contraídos durante la contin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8000" y="3932280"/>
            <a:ext cx="51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isoria  (1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906640" y="3860640"/>
            <a:ext cx="51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re bienes de la masa, sin perjuicio derecho preferente acreedores privilegiados, preferentes y 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906640" y="4437000"/>
            <a:ext cx="59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cutible si son de la masa o tienen preferencia 2472 n°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8000" y="4797360"/>
            <a:ext cx="51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ectiva   (11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916360" y="48355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re bienes de la continuidad, con preferencia a otros acreedores, salvo hipotecarios, prendarios y retencionarios que no consinti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195640" y="457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95640" y="573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916360" y="5661000"/>
            <a:ext cx="598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de la masa, ¿pero no alcanzan a hipotecarios, prendario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encionari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557360"/>
            <a:ext cx="176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2000" y="2205000"/>
            <a:ext cx="7902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autación deja a salvo el derecho de restituir a legítimos tercer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6 supone presencia del fallido o colaboradores cerc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domicilio del fallido: matriz, sucursales,  ¿domicilio priva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/>
          <p:nvPr/>
        </p:nvCxnSpPr>
        <p:spPr>
          <a:xfrm flipH="1" rot="16200000">
            <a:off x="434160" y="1835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flipH="1" rot="16200000">
            <a:off x="434160" y="2338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flipH="1" rot="16200000">
            <a:off x="434160" y="28911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50920" y="3789360"/>
            <a:ext cx="97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domicilios de terceros: Puelma distingue si terceros reconocen o no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icilio fallido N° 52 N°5, entrega de pape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enes al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enes “inocupables”:(ej. derechos en sociedades) (ej. algunos incorporales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ción de acreedores y terceros en la incau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/>
          <p:nvPr/>
        </p:nvCxnSpPr>
        <p:spPr>
          <a:xfrm flipH="1" rot="16200000">
            <a:off x="434160" y="3346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H="1" rot="16200000">
            <a:off x="434160" y="4570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flipH="1" rot="16200000">
            <a:off x="434160" y="5051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12560" y="2203560"/>
            <a:ext cx="89938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acreedores se pagan en proporción al monto de sus créditos, resguardando siemp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preferencias (148 L.Q. y 2469 C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preferencias sólo se pagan hasta concurrencia de sus respectivas garantí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o demás son val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eriodicidad y forma de pago lo determina la Junta de Acreedores. Sus acuerdos 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eden alterar los montos ni las prefer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subsidio, normas legales (147 y sgt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Reparto a acreedores de 2° y 3° clase, sólo si existe fondo suficiente para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mejor derecho y cubrir gas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Créditos valistas, reparto sólo si se reúne cantidad suficiente para hacer abono del 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114560" y="476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1114560" y="503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79480" y="219852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ación del monto de créditos en moneda nacional, no vencid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971640" y="2133720"/>
            <a:ext cx="7488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5240" y="2852640"/>
            <a:ext cx="67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reajustable en moneda nacional, que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3360" y="3645000"/>
            <a:ext cx="70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reajustable en moneda nacional, que no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3360" y="4365720"/>
            <a:ext cx="70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no reajustable en moneda nacional, que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5880" y="5013360"/>
            <a:ext cx="74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no reajustable en moneda nacional, que no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7" name=""/>
          <p:cNvCxnSpPr/>
          <p:nvPr/>
        </p:nvCxnSpPr>
        <p:spPr>
          <a:xfrm>
            <a:off x="324000" y="312372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18" name=""/>
          <p:cNvSpPr/>
          <p:nvPr/>
        </p:nvSpPr>
        <p:spPr>
          <a:xfrm>
            <a:off x="1198440" y="3243240"/>
            <a:ext cx="69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 actual es capital más reajuste convenido e intereses a fecha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" name=""/>
          <p:cNvCxnSpPr/>
          <p:nvPr/>
        </p:nvCxnSpPr>
        <p:spPr>
          <a:xfrm>
            <a:off x="324000" y="391644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20" name=""/>
          <p:cNvSpPr/>
          <p:nvPr/>
        </p:nvSpPr>
        <p:spPr>
          <a:xfrm>
            <a:off x="1198080" y="4035600"/>
            <a:ext cx="59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 actual es capital más reajuste convenido a fecha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1" name=""/>
          <p:cNvCxnSpPr/>
          <p:nvPr/>
        </p:nvCxnSpPr>
        <p:spPr>
          <a:xfrm>
            <a:off x="324000" y="463716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22" name=""/>
          <p:cNvSpPr/>
          <p:nvPr/>
        </p:nvSpPr>
        <p:spPr>
          <a:xfrm>
            <a:off x="1198800" y="4756320"/>
            <a:ext cx="58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 actual es capital más interés devengado a fecha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59640" y="5380200"/>
            <a:ext cx="703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plica al capital tasa se descuento equivalente a intereses corriente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eraciones no reajustables desde apertura a vencimiento de la de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4" name=""/>
          <p:cNvCxnSpPr/>
          <p:nvPr/>
        </p:nvCxnSpPr>
        <p:spPr>
          <a:xfrm>
            <a:off x="324000" y="530856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25" name=""/>
          <p:cNvSpPr/>
          <p:nvPr/>
        </p:nvSpPr>
        <p:spPr>
          <a:xfrm>
            <a:off x="1095480" y="242100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1114560" y="503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79480" y="219852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ación del monto de créditos en moneda extranje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71640" y="2133720"/>
            <a:ext cx="6192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21320" y="2708280"/>
            <a:ext cx="793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 la obligación surge de la ley o de autorización del Banco Central, se p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jo la moneda establecida en la convención y devenga interés pac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19160" y="3238560"/>
            <a:ext cx="808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68 hace referencia a Decreto 471 del M. de Economía que dejó de existir. 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mas orgánicas Banco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095480" y="242100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35280" y="471816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reedores con derecho a pag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35280" y="4719600"/>
            <a:ext cx="3816360" cy="43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095480" y="479124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1440" y="5149800"/>
            <a:ext cx="85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s acreedores que figuren en Nómina de Créditos Reconocidos (salvo casos 1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2" name=""/>
          <p:cNvCxnSpPr/>
          <p:nvPr/>
        </p:nvCxnSpPr>
        <p:spPr>
          <a:xfrm flipH="1" rot="16200000">
            <a:off x="548640" y="2819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43" name=""/>
          <p:cNvSpPr/>
          <p:nvPr/>
        </p:nvSpPr>
        <p:spPr>
          <a:xfrm>
            <a:off x="171000" y="3897360"/>
            <a:ext cx="883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 la obligación es contractual, se paga en pesos en equivalente vendedor del día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go (20 ley 18.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1114560" y="503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79480" y="198288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tuaciones Especia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71640" y="1917720"/>
            <a:ext cx="2520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6160" y="249228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reedor Con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066680" y="2879640"/>
            <a:ext cx="7663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2 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Bajo condición suspen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uede exigir que se consigne monto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percibiría si se verifica condición o su entrega bajo caución sufi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el caso que no se verifique con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095480" y="206064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39840" y="386064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/>
          <p:nvPr/>
        </p:nvCxnSpPr>
        <p:spPr>
          <a:xfrm flipH="1" rot="16200000">
            <a:off x="54864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48240" y="3716280"/>
            <a:ext cx="51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reedor que verifica en período extraordi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"/>
          <p:cNvCxnSpPr/>
          <p:nvPr/>
        </p:nvCxnSpPr>
        <p:spPr>
          <a:xfrm flipH="1" rot="16200000">
            <a:off x="548640" y="37548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60" name=""/>
          <p:cNvSpPr/>
          <p:nvPr/>
        </p:nvSpPr>
        <p:spPr>
          <a:xfrm>
            <a:off x="1127160" y="4173480"/>
            <a:ext cx="934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4  genera efecto inmediato de depósito de repartos a favor del acree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ta que crédito quede recono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1" name=""/>
          <p:cNvCxnSpPr/>
          <p:nvPr/>
        </p:nvCxnSpPr>
        <p:spPr>
          <a:xfrm flipH="1" rot="16200000">
            <a:off x="548640" y="4404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62" name=""/>
          <p:cNvSpPr/>
          <p:nvPr/>
        </p:nvSpPr>
        <p:spPr>
          <a:xfrm>
            <a:off x="1116000" y="4807080"/>
            <a:ext cx="934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4  Una vez reconocido, el pago debe efectuarse con preferencia a los dem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(respecto de los fondos reservados en los repartos prev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9480" y="5367240"/>
            <a:ext cx="46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reedor que a su vez es deudor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548640" y="541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1116000" y="5699160"/>
            <a:ext cx="934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3  Las sumas que le corresponden percibir al acreedor se imputan a su deud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el evento que no haya operado la compens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77336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205000"/>
            <a:ext cx="87487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er acercamiento al Activo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uación del Síndico, en presencia de M. de Fe (secretario, notario, ad-hoc) y expert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2349360"/>
            <a:ext cx="287280" cy="142920"/>
          </a:xfrm>
          <a:custGeom>
            <a:avLst/>
            <a:gdLst>
              <a:gd name="textAreaLeft" fmla="*/ 44640 w 287280"/>
              <a:gd name="textAreaRight" fmla="*/ 251640 w 287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080" y="285264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4495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+ estado.  Incluso, reclamaciones de terceros (94 N°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agrega al juicio día siguiente hábil facción,  notificación por av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57192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1080" y="407664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454356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ite para nuevos bienes (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iones del fallido y acreedores (98)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 tercero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fecto relativo d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65300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522936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77336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565360"/>
            <a:ext cx="874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c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ue criterio activo de derecho. No debe incluir bienes en poder de terceros que no reconocen derechos al fallido.  No debe incluir inembargables.  Debe incluir bienes de terceros o reivindicados (de reivindicación 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Cosa juzgada del inventario? Sólo entre fallido y acreedores, si hubo objeción resuelta por el ju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00" y="270828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436392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40464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263700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ienes de terceros en poder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. 94        inventario debe consignar pretensión de terc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. 98        pero terceros no pueden objetar 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ía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 Restitución o exclusión de la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9810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cciones de Recuperación y Separación de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916280"/>
            <a:ext cx="6193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98760" y="4365720"/>
            <a:ext cx="309240" cy="215640"/>
          </a:xfrm>
          <a:custGeom>
            <a:avLst/>
            <a:gdLst>
              <a:gd name="textAreaLeft" fmla="*/ 48240 w 309240"/>
              <a:gd name="textAreaRight" fmla="*/ 270720 w 3092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3789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3:39:54Z</dcterms:created>
  <dc:creator>GQMC</dc:creator>
  <dc:description/>
  <dc:language>en-US</dc:language>
  <cp:lastModifiedBy>Octavio Bofill G.</cp:lastModifiedBy>
  <dcterms:modified xsi:type="dcterms:W3CDTF">2004-06-10T21:51:12Z</dcterms:modified>
  <cp:revision>75</cp:revision>
  <dc:subject/>
  <dc:title>Efectos declaración de Quieb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26276</vt:r8>
  </property>
  <property fmtid="{D5CDD505-2E9C-101B-9397-08002B2CF9AE}" pid="3" name="_AuthorEmail">
    <vt:lpwstr>ayuri@grasty.cl</vt:lpwstr>
  </property>
  <property fmtid="{D5CDD505-2E9C-101B-9397-08002B2CF9AE}" pid="4" name="_AuthorEmailDisplayName">
    <vt:lpwstr>Ana Maria Yuri</vt:lpwstr>
  </property>
  <property fmtid="{D5CDD505-2E9C-101B-9397-08002B2CF9AE}" pid="5" name="_EmailEntryID">
    <vt:lpwstr>000000006C664B80B1B6D61196840050BA8C3624E4F72A00</vt:lpwstr>
  </property>
  <property fmtid="{D5CDD505-2E9C-101B-9397-08002B2CF9AE}" pid="6" name="_EmailSubject">
    <vt:lpwstr>curso de quiebra</vt:lpwstr>
  </property>
  <property fmtid="{D5CDD505-2E9C-101B-9397-08002B2CF9AE}" pid="7" name="_PreviousAdHocReviewCycleID">
    <vt:r8>1486346728</vt:r8>
  </property>
  <property fmtid="{D5CDD505-2E9C-101B-9397-08002B2CF9AE}" pid="8" name="_ReviewCycleID">
    <vt:r8>-137917959</vt:r8>
  </property>
</Properties>
</file>