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FF6-CC00-4A95-9F3E-9A643622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24C-BA7F-4872-92C1-C0940CBC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ECC-AB3B-4468-A71A-ADD7040C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0E8-0521-4294-B309-D99AD714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AFB-7147-44D1-82A6-5C160009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CC2-01BB-49DE-8408-B8B6EFF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99A-4420-44BB-A162-5E88FE7E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445-31F7-41BB-A8B8-EC64FA77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4E8-3A66-4DA6-A8E9-73DAA83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670-8196-4AE0-8FC0-00426DA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444-C4EE-4700-A266-31DF8D9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644-3BD8-4583-8BC4-7EE8C30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5AE4-C1C5-4BB7-AB4A-59A90C2A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2200" y="31240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RAMITACIÓN DE LA QUI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45480" y="9907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63104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7760" y="141300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tras Características de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0" y="249408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ácter constitutivo y declarativo de la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rot="16200000">
            <a:off x="144216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1908000" y="292428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20" y="330840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ácter declarativo de la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374004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/>
          <p:nvPr/>
        </p:nvCxnSpPr>
        <p:spPr>
          <a:xfrm flipH="1" rot="16200000">
            <a:off x="1485000" y="3323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322200" y="1989000"/>
            <a:ext cx="2089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201132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Ejecu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436572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usa Ejecu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436716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/>
          <p:nvPr/>
        </p:nvCxnSpPr>
        <p:spPr>
          <a:xfrm flipH="1" rot="16200000">
            <a:off x="1413720" y="4548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1908000" y="496584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52293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cumplirse aun pendiente plazo para interposición de recur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no obstante existir un recurso interpuesto en su con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82920" y="573408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cepción art. 38 C.P.C. Procede sus efectos aun sin verificarse 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520" y="525780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de cosa pe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87720" y="1371600"/>
            <a:ext cx="4824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72240" y="14922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a Juzgada de la Sentencia Decla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86160" y="26654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48292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Legal de perso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276640"/>
            <a:ext cx="3825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a algunos la sentencia declarativa del juicio de quiebra produce efecto de cosa juzgada respecto de las partes y de terceros que hayan comparecido en el ju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a otros la sentencia declarativa produce eficacia respecto de todos aquellos que de acuerdo con la ley estarían legitimados para actuar en el ju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2276640"/>
            <a:ext cx="4062600" cy="27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3880" y="5410080"/>
            <a:ext cx="57600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38480" y="5181480"/>
            <a:ext cx="4267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5146560"/>
            <a:ext cx="38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pertura de un procedimiento ejecutivo colectivo en contra de un deudor insolvente supuesto se cumplan requisitos de la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83240" y="222876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de causa de 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242100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1943280"/>
            <a:ext cx="38894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27320" y="1943280"/>
            <a:ext cx="4000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causa de la acción de quiebra en nuestro derecho está constituida por los hechos reveladores de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r el carácter dinámico que presenta esta causa de pedir se considera que la sentencia produce cosa juzgada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93600" y="1484280"/>
            <a:ext cx="41911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00" y="14619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posición a la Sentencia Decla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200" y="2155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curso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2000" y="1886040"/>
            <a:ext cx="5295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nstituye más bien un contradictorio postergado aplicado a la ejecución col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utonomía de este recurso en relación con la  reposición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3531600" y="2770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3219480" y="313704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osición contra sentencia defini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3531600" y="305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675240" y="3451320"/>
            <a:ext cx="54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lazo para ser interpuesto: 10 días/fatal y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353160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578400" y="3740040"/>
            <a:ext cx="54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uspende efectos de sentencia impug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9600" y="402732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ser deducida por el propio deudor solicita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3531600" y="3635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483" name=""/>
          <p:cNvCxnSpPr/>
          <p:nvPr/>
        </p:nvCxnSpPr>
        <p:spPr>
          <a:xfrm flipH="1" rot="16200000">
            <a:off x="3531600" y="3994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348000" y="438768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siempre procedimiento incid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35280" y="467676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resuelve reposición es ape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/>
          <p:nvPr/>
        </p:nvCxnSpPr>
        <p:spPr>
          <a:xfrm flipH="1" rot="16200000">
            <a:off x="3531600" y="4282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4227480" y="4994280"/>
            <a:ext cx="549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lo el solicitante de la quiebra y el que interp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recurso pueden ser partes del mismo sino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ambién pueden serlo el fallido, el síndico, los demás    acreedores y los terceros (estos últimos como   coadyuvan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/>
          <p:nvPr/>
        </p:nvCxnSpPr>
        <p:spPr>
          <a:xfrm flipH="1" rot="16200000">
            <a:off x="3531600" y="46195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6237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070080" y="1413000"/>
            <a:ext cx="29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Objeto del recurso espe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2360" y="2060640"/>
            <a:ext cx="1079640" cy="792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48040" y="292572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ctificar la sentencia declaratoria de quiebra en relación con la determinación de la calidad del 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87640" y="2060640"/>
            <a:ext cx="1008000" cy="792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25920" y="2781360"/>
            <a:ext cx="463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poner la resolución que acoge la solicit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 quiebra en términos que se deje sin efect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lzando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35280" y="357336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-20520" y="3789360"/>
            <a:ext cx="444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Quien deduce el recurso debe desvirtuar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s de la solicitud de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hechos reveladores o antecedentes que 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justific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27720" y="5138640"/>
            <a:ext cx="481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un en el evento que se logren desvirtuar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s de la acción de quiebra, se pue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mpedir el alzamiento de la quiebra si se prueb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insolvencia del deu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35280" y="4795920"/>
            <a:ext cx="0" cy="2887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84720" y="378936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14120" y="4005360"/>
            <a:ext cx="4435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efectos de la reposición con este obje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ólo adquiere relevancia en el ámbito pe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los delitos de quiebra suponen un suje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lific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25640" y="5224320"/>
            <a:ext cx="442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genera efectos procesales. No se alt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procedimiento según la calidad del 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84720" y="494028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87200" y="1557360"/>
            <a:ext cx="382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timados para deducir 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special 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40360" y="177804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92320" y="155736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89440" y="184464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89440" y="21337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40360" y="206532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40360" y="2349360"/>
            <a:ext cx="57600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40360" y="263700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30840" y="2421000"/>
            <a:ext cx="40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índico (sólo respecto de la cal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1360" y="332892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lazo para deducir 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special 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24360" y="347832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81080" y="3284640"/>
            <a:ext cx="32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10 días hábiles contados des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a no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04480" y="38606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laz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360" y="40514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480" y="450864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4724280"/>
            <a:ext cx="57636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58480" y="4508640"/>
            <a:ext cx="34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imiento de los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3200" y="532440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solución d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53006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48040" y="5157720"/>
            <a:ext cx="414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(si versa sob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encia de la quieb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(si versa so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a calidad 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24360" y="595008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643720" y="196524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ambos e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24360" y="167652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0400" y="1514520"/>
            <a:ext cx="44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que acog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120" y="1484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cursos contra la sentencia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 pronuncia sobre l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/>
          <p:nvPr/>
        </p:nvCxnSpPr>
        <p:spPr>
          <a:xfrm flipH="1" rot="16200000">
            <a:off x="5085720" y="1522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666040" y="22766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sación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flipH="1" rot="16200000">
            <a:off x="5085720" y="181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4303800" y="3956040"/>
            <a:ext cx="48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que acog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flipH="1" rot="16200000">
            <a:off x="5085720" y="39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5599080" y="438768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ambos e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35280" y="409896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99080" y="321300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efecto devol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55360" y="2762280"/>
            <a:ext cx="46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que rechaz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 flipH="1" rot="16200000">
            <a:off x="5044320" y="2770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624640" y="35244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sación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5044320" y="305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4087080" y="5181480"/>
            <a:ext cx="50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que rechaz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/>
          <p:nvPr/>
        </p:nvCxnSpPr>
        <p:spPr>
          <a:xfrm flipH="1" rot="16200000">
            <a:off x="5085720" y="51973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5595840" y="561348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efecto devol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3640" y="2347920"/>
            <a:ext cx="835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80" y="1393920"/>
            <a:ext cx="11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0920" y="24908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3640" y="220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4456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6080" y="2538360"/>
            <a:ext cx="110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4560" y="3211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24560" y="364320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5404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684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3388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008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0572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008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2280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38600" y="2689200"/>
            <a:ext cx="94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vacú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44560" y="17715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4560" y="17715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28920" y="1771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5240" y="1628640"/>
            <a:ext cx="17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ér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mplazami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27480" y="17715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7480" y="1771560"/>
            <a:ext cx="146052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78280" y="1771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68240" y="1677960"/>
            <a:ext cx="1059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Prueb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008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8008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120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600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4528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6600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4304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600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4528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9764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97640" y="4076640"/>
            <a:ext cx="21600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9764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76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680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7872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088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668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53440" y="4076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8200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632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6764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096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58320" y="2421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2924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60" y="3284640"/>
            <a:ext cx="1020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He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ve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88200" y="4195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nteced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62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3280" y="2852640"/>
            <a:ext cx="1152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88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565360"/>
            <a:ext cx="1152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900000" y="2347920"/>
            <a:ext cx="777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9080" y="1393920"/>
            <a:ext cx="11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5196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512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216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8000" y="234936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736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7800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800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5948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392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4320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6392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132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392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4320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592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5920" y="4076640"/>
            <a:ext cx="215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9592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6304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508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7700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916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460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51360" y="4076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8028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5464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460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6592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8664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6924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5680" y="26859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u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311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60480" y="347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6120" y="3406680"/>
            <a:ext cx="1404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ntece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rt. 4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81560" y="2852640"/>
            <a:ext cx="11523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9380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3280" y="283068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00000" y="2347920"/>
            <a:ext cx="777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840" y="1519200"/>
            <a:ext cx="90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ofici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5196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512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78000" y="234936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736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800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800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7800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5948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6392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4320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6392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132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6392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64320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9592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95920" y="4076640"/>
            <a:ext cx="215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592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6304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2508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7700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916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3460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51360" y="4076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028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8664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464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0460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592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866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924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320" y="268596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311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60480" y="347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920" y="3406680"/>
            <a:ext cx="1086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aus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speci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560" y="2852640"/>
            <a:ext cx="11523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380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3280" y="283068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16360" y="907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1955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8880" y="14590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se de Ap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0" y="15289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43520" y="1479600"/>
            <a:ext cx="66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so de cognición que permite determinar la procedencia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H="1" rot="16200000">
            <a:off x="621720" y="2217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621720" y="3336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260" name=""/>
          <p:cNvCxnSpPr/>
          <p:nvPr/>
        </p:nvCxnSpPr>
        <p:spPr>
          <a:xfrm flipH="1" rot="16200000">
            <a:off x="621720" y="4499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1416240" y="265896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disc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4720" y="3754440"/>
            <a:ext cx="294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(en el evento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 deduzca reposi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68000" y="489276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4760" y="2708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3800" y="245916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inicia con la 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encia que declara o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curso especial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70400" y="3851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78936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ge las normas de los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5013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489276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empre que exista contradicto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516640"/>
            <a:ext cx="867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quiebra la inicia un acreedor existe un procedimiento breve respecto del cual también se distingue estas eta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80" y="5445000"/>
            <a:ext cx="88200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484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302520" y="206064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cr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71640" y="1628640"/>
            <a:ext cx="2521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040" y="162864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olicitud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1556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udo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36360" y="2637000"/>
            <a:ext cx="60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anteced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unciados en el art.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32180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requiere invocar alguna de las causale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l art.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38640" y="2532240"/>
            <a:ext cx="52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itular de un crédito (sea o no exigible art. 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1021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dicar la causal que justifica la solicitud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echos que la constituy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36360" y="3865680"/>
            <a:ext cx="60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anteced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unciados en el art.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75120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documentos que acrediten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undamentos de la petición u ofrecer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uebas que correspon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461952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vale vista o boleta por equiva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100 U.F., a la orden tribunal, para solv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astos iniciales de la quiebra; crédito preferente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5300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9500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60360" y="15908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20" y="1413000"/>
            <a:ext cx="8771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45                        “El juzgado se pronunciará sobre la solicitud de quiebra a la breve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le con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diencia del deu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………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“……………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.. La audiencia del deudor sólo tendrá carácter inform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dará lugar a incidente………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6360" y="281952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práctica los tribunales confieren traslado al deudor, muchas veces no indican el término   del empla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36360" y="33861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lazamiento se discu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3683160"/>
            <a:ext cx="878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sostienen que sería aplicable el término de emplazamiento de jui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dinario de mayor cuantía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4076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400536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licación reglas  comu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44370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o es aplicable normas de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11640" y="4508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19280" y="486900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consideran que el plazo debe ser de 3 días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529596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imiento para incidentes es el supletorio para todo el proceso concursal art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35280" y="590076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or aplicación del principio de cele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25680" y="537372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6021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1280" y="1484280"/>
            <a:ext cx="4105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240" y="1484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udiencia no da lugar a inc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36360" y="213372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debe fallar con el mérito de la audiencia, antecedentes agregados por el acreedor solicitante y medidas oficiosas que estime el juez para adquirir la convicción de la efectividad de la causal invoc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6360" y="30351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or debe acompañar antecedentes que justifiquen su defensa con el fin de ilustrar al   juez acerca de su situación patrimo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36360" y="36399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práctica los jueces suelen abrir un término prob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9840" y="4214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4149720"/>
            <a:ext cx="1368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3602880" y="4931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619280" y="486900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o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522936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finitiv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1773360"/>
            <a:ext cx="8675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rt. 52 sólo se refiere a la 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rt. 158 C.P.C. no admite como sentencia definitiva a aquellas que la ley indica como tales, sino que aquellas que se conforman con los requisitos de dich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e la sentencia que provee la solicitud de quiebra una sentencia definitiva a la luz del art. 158 del C.P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jurisprudencia ha sido poco uniforme, algunas veces le otorga el carácter de interlocutoria y otras de indefin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mayoría de la doctrina la califica de sentencia defin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determinación de su naturaleza inte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r su 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égimen de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55640" y="5516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3320" y="6021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4-14T22:39:15Z</dcterms:modified>
  <cp:revision>57</cp:revision>
  <dc:subject/>
  <dc:title>Sin título de diapositiva</dc:title>
</cp:coreProperties>
</file>