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520F-606C-40ED-8B79-1FB52C38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8B99-C173-440F-8743-A6445D92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AE3A-F366-4C5B-9CCA-F80523EA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F2F8-242C-46E1-981B-685601B07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5146-BDB3-4800-9E0D-C03E75B4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9F55-94C4-4A52-AB64-07282F0F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7293-1E93-42EE-A721-B3CB5119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F547-E7E7-48EE-BEED-4C92B29D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15AC-3314-49CB-BB45-6CD9CB38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5664-4B6D-4EBE-A41D-401D0456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AA1A-C5F5-4264-BD63-E0F64D7A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D761-618B-4A70-9D99-F97CA181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40FC-0F0A-42E7-A503-899D5CB51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12200" y="3124080"/>
            <a:ext cx="673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TRAMITACIÓN DE LA QUIEB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45480" y="990720"/>
            <a:ext cx="42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ncurs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2916360" y="765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95280" y="631044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4008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6294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713088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617760" y="1413000"/>
            <a:ext cx="43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Otras Características de la Sen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920" y="2494080"/>
            <a:ext cx="87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rácter constitutivo y declarativo de la sen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rot="16200000">
            <a:off x="1442160" y="24832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397" name=""/>
          <p:cNvSpPr/>
          <p:nvPr/>
        </p:nvSpPr>
        <p:spPr>
          <a:xfrm>
            <a:off x="1908000" y="2924280"/>
            <a:ext cx="878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olución que declara la qui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920" y="3308400"/>
            <a:ext cx="87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rácter declarativo de la sen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79640" y="3740040"/>
            <a:ext cx="87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olución que deniega la qui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0" name=""/>
          <p:cNvCxnSpPr/>
          <p:nvPr/>
        </p:nvCxnSpPr>
        <p:spPr>
          <a:xfrm flipH="1" rot="16200000">
            <a:off x="1485000" y="332316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401" name=""/>
          <p:cNvSpPr/>
          <p:nvPr/>
        </p:nvSpPr>
        <p:spPr>
          <a:xfrm>
            <a:off x="322200" y="1989000"/>
            <a:ext cx="20890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0920" y="2011320"/>
            <a:ext cx="87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olución Ejecu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79280" y="4365720"/>
            <a:ext cx="878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usa Ejecuto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79280" y="4367160"/>
            <a:ext cx="1800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" name=""/>
          <p:cNvCxnSpPr/>
          <p:nvPr/>
        </p:nvCxnSpPr>
        <p:spPr>
          <a:xfrm flipH="1" rot="16200000">
            <a:off x="1413720" y="454860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406" name=""/>
          <p:cNvSpPr/>
          <p:nvPr/>
        </p:nvSpPr>
        <p:spPr>
          <a:xfrm>
            <a:off x="1908000" y="4965840"/>
            <a:ext cx="878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olución que declara la qui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482920" y="5229360"/>
            <a:ext cx="87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uede cumplirse aun pendiente plazo para interposición de recur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 no obstante existir un recurso interpuesto en su con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482920" y="5734080"/>
            <a:ext cx="878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cepción art. 38 C.P.C. Procede sus efectos aun sin verificarse s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t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2916360" y="765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95280" y="645336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4008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6294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713088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609480" y="1268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0520" y="5257800"/>
            <a:ext cx="271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Identidad de cosa ped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187720" y="1371600"/>
            <a:ext cx="482436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72240" y="14922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osa Juzgada de la Sentencia Declar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86160" y="2665440"/>
            <a:ext cx="576360" cy="14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2482920"/>
            <a:ext cx="346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Identidad Legal de personas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33520" y="629748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114800" y="2276640"/>
            <a:ext cx="3825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ara algunos la sentencia declarativa del juicio de quiebra produce efecto de cosa juzgada respecto de las partes y de terceros que hayan comparecido en el ju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ara otros la sentencia declarativa produce eficacia respecto de todos aquellos que de acuerdo con la ley estarían legitimados para actuar en el ju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038480" y="2276640"/>
            <a:ext cx="4062600" cy="275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33880" y="5410080"/>
            <a:ext cx="576000" cy="180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038480" y="5181480"/>
            <a:ext cx="42674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14800" y="5146560"/>
            <a:ext cx="3886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Apertura de un procedimiento ejecutivo colectivo en contra de un deudor insolvente supuesto se cumplan requisitos de la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2895480" y="7840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1268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7203960" y="775008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533520" y="629748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7130880" y="612468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83240" y="2228760"/>
            <a:ext cx="299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Identidad de causa de ped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233880" y="2421000"/>
            <a:ext cx="576000" cy="14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95640" y="1943280"/>
            <a:ext cx="388944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027320" y="1943280"/>
            <a:ext cx="40006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esación de pa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La causa de la acción de quiebra en nuestro derecho está constituida por los hechos reveladores de la qui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r el carácter dinámico que presenta esta causa de pedir se considera que la sentencia produce cosa juzgada mater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2895480" y="7840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9480" y="1268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7203960" y="775008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533520" y="629748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7130880" y="612468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93600" y="1484280"/>
            <a:ext cx="41911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6800" y="1461960"/>
            <a:ext cx="43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Oposición a la Sentencia Declar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200" y="2155680"/>
            <a:ext cx="243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Recurso de Repos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132000" y="1886040"/>
            <a:ext cx="52959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nstituye más bien un contradictorio postergado aplicado a la ejecución colec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Autonomía de este recurso en relación con la  reposición civ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"/>
          <p:cNvCxnSpPr/>
          <p:nvPr/>
        </p:nvCxnSpPr>
        <p:spPr>
          <a:xfrm flipH="1" rot="16200000">
            <a:off x="3531600" y="277056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476" name=""/>
          <p:cNvSpPr/>
          <p:nvPr/>
        </p:nvSpPr>
        <p:spPr>
          <a:xfrm>
            <a:off x="3219480" y="3137040"/>
            <a:ext cx="54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posición contra sentencia definiti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7" name=""/>
          <p:cNvCxnSpPr/>
          <p:nvPr/>
        </p:nvCxnSpPr>
        <p:spPr>
          <a:xfrm flipH="1" rot="16200000">
            <a:off x="3531600" y="305964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478" name=""/>
          <p:cNvSpPr/>
          <p:nvPr/>
        </p:nvSpPr>
        <p:spPr>
          <a:xfrm>
            <a:off x="3675240" y="3451320"/>
            <a:ext cx="54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lazo para ser interpuesto: 10 días/fatal y ú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 flipH="1" rot="16200000">
            <a:off x="3531600" y="334692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480" name=""/>
          <p:cNvSpPr/>
          <p:nvPr/>
        </p:nvSpPr>
        <p:spPr>
          <a:xfrm>
            <a:off x="3578400" y="3740040"/>
            <a:ext cx="54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suspende efectos de sentencia impugn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19600" y="4027320"/>
            <a:ext cx="54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uede ser deducida por el propio deudor solicitan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/>
          <p:nvPr/>
        </p:nvCxnSpPr>
        <p:spPr>
          <a:xfrm flipH="1" rot="16200000">
            <a:off x="3531600" y="36352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cxnSp>
        <p:nvCxnSpPr>
          <p:cNvPr id="483" name=""/>
          <p:cNvCxnSpPr/>
          <p:nvPr/>
        </p:nvCxnSpPr>
        <p:spPr>
          <a:xfrm flipH="1" rot="16200000">
            <a:off x="3531600" y="399456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484" name=""/>
          <p:cNvSpPr/>
          <p:nvPr/>
        </p:nvSpPr>
        <p:spPr>
          <a:xfrm>
            <a:off x="3348000" y="4387680"/>
            <a:ext cx="54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pone siempre procedimiento incident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35280" y="4676760"/>
            <a:ext cx="54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olución que resuelve reposición es apel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/>
          <p:nvPr/>
        </p:nvCxnSpPr>
        <p:spPr>
          <a:xfrm flipH="1" rot="16200000">
            <a:off x="3531600" y="428292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487" name=""/>
          <p:cNvSpPr/>
          <p:nvPr/>
        </p:nvSpPr>
        <p:spPr>
          <a:xfrm>
            <a:off x="4227480" y="4994280"/>
            <a:ext cx="5497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solo el solicitante de la quiebra y el que interp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l recurso pueden ser partes del mismo sino q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ambién pueden serlo el fallido, el síndico, los demás    acreedores y los terceros (estos últimos como   coadyuvan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"/>
          <p:cNvCxnSpPr/>
          <p:nvPr/>
        </p:nvCxnSpPr>
        <p:spPr>
          <a:xfrm flipH="1" rot="16200000">
            <a:off x="3531600" y="461952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489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2916360" y="765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1280" y="134136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95280" y="623736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4008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6294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713088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3070080" y="1413000"/>
            <a:ext cx="29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Objeto del recurso espe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de reposición (art. 5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932360" y="2060640"/>
            <a:ext cx="1079640" cy="79200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748040" y="2925720"/>
            <a:ext cx="400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Rectificar la sentencia declaratoria de quiebra en relación con la determinación de la calidad del fall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987640" y="2060640"/>
            <a:ext cx="1008000" cy="79200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-25920" y="2781360"/>
            <a:ext cx="4636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Reponer la resolución que acoge la solicit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e quiebra en términos que se deje sin efecto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alzando la qui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835280" y="3573360"/>
            <a:ext cx="0" cy="28908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-20520" y="3789360"/>
            <a:ext cx="4441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Quien deduce el recurso debe desvirtuar l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s de la solicitud de la qui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hechos reveladores o antecedentes que l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justific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-27720" y="5138640"/>
            <a:ext cx="4812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Aun en el evento que se logren desvirtuar l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s de la acción de quiebra, se pue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impedir el alzamiento de la quiebra si se prueb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la insolvencia del deud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835280" y="4795920"/>
            <a:ext cx="0" cy="28872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84720" y="3789360"/>
            <a:ext cx="0" cy="28908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14120" y="4005360"/>
            <a:ext cx="4435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Los efectos de la reposición con este obje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sólo adquiere relevancia en el ámbito pe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los delitos de quiebra suponen un suje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lificad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25640" y="5224320"/>
            <a:ext cx="442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No genera efectos procesales. No se alte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procedimiento según la calidad del fall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84720" y="4940280"/>
            <a:ext cx="0" cy="28908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2916360" y="765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5280" y="645336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6294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713088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187200" y="1557360"/>
            <a:ext cx="382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Legitimados para deducir el recur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especial de reposición (art. 5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140360" y="1778040"/>
            <a:ext cx="576000" cy="14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792320" y="1557360"/>
            <a:ext cx="130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acre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789440" y="1844640"/>
            <a:ext cx="102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terc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789440" y="2133720"/>
            <a:ext cx="82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fall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140360" y="2065320"/>
            <a:ext cx="576000" cy="14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140360" y="2349360"/>
            <a:ext cx="576000" cy="180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40360" y="2637000"/>
            <a:ext cx="576000" cy="14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830840" y="2421000"/>
            <a:ext cx="40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síndico (sólo respecto de la cal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del deud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71360" y="3328920"/>
            <a:ext cx="329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Plazo para deducir el recur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especial de reposición (art. 5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924360" y="3478320"/>
            <a:ext cx="576360" cy="14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681080" y="3284640"/>
            <a:ext cx="32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10 días hábiles contados des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la not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704480" y="386064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Plazo comú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924360" y="4051440"/>
            <a:ext cx="576360" cy="14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14480" y="4508640"/>
            <a:ext cx="151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Trami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924360" y="4724280"/>
            <a:ext cx="576360" cy="180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758480" y="4508640"/>
            <a:ext cx="34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Procedimiento de los incid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33200" y="5324400"/>
            <a:ext cx="256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Resolución del recur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924360" y="5300640"/>
            <a:ext cx="576360" cy="14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748040" y="5157720"/>
            <a:ext cx="4143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Sentencia definitiva (si versa sob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procedencia de la quiebr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Sentencia interlocutoria (si versa so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la calidad del deud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24360" y="5950080"/>
            <a:ext cx="576360" cy="14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2916360" y="765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5280" y="645336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4008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6294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713088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5643720" y="1965240"/>
            <a:ext cx="280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Apelación ambos efec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924360" y="1676520"/>
            <a:ext cx="576360" cy="14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640400" y="1514520"/>
            <a:ext cx="44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Sentencia definitiva que acoge repos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9120" y="1484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Recursos contra la sentencia q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se pronuncia sobre la repos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3" name=""/>
          <p:cNvCxnSpPr/>
          <p:nvPr/>
        </p:nvCxnSpPr>
        <p:spPr>
          <a:xfrm flipH="1" rot="16200000">
            <a:off x="5085720" y="152280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574" name=""/>
          <p:cNvSpPr/>
          <p:nvPr/>
        </p:nvSpPr>
        <p:spPr>
          <a:xfrm>
            <a:off x="5666040" y="2276640"/>
            <a:ext cx="18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asación for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/>
          <p:nvPr/>
        </p:nvCxnSpPr>
        <p:spPr>
          <a:xfrm flipH="1" rot="16200000">
            <a:off x="5085720" y="18118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576" name=""/>
          <p:cNvSpPr/>
          <p:nvPr/>
        </p:nvSpPr>
        <p:spPr>
          <a:xfrm>
            <a:off x="4303800" y="3956040"/>
            <a:ext cx="482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Sentencia interlocutoria que acoge repos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/>
          <p:nvPr/>
        </p:nvCxnSpPr>
        <p:spPr>
          <a:xfrm flipH="1" rot="16200000">
            <a:off x="5085720" y="397224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578" name=""/>
          <p:cNvSpPr/>
          <p:nvPr/>
        </p:nvSpPr>
        <p:spPr>
          <a:xfrm>
            <a:off x="5599080" y="4387680"/>
            <a:ext cx="280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Apelación ambos efec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635280" y="4098960"/>
            <a:ext cx="576360" cy="14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599080" y="3213000"/>
            <a:ext cx="310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Apelación efecto devolu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455360" y="2762280"/>
            <a:ext cx="463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Sentencia definitiva que rechaza repos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2" name=""/>
          <p:cNvCxnSpPr/>
          <p:nvPr/>
        </p:nvCxnSpPr>
        <p:spPr>
          <a:xfrm flipH="1" rot="16200000">
            <a:off x="5044320" y="277056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583" name=""/>
          <p:cNvSpPr/>
          <p:nvPr/>
        </p:nvSpPr>
        <p:spPr>
          <a:xfrm>
            <a:off x="5624640" y="3524400"/>
            <a:ext cx="18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asación for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 flipH="1" rot="16200000">
            <a:off x="5044320" y="305964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585" name=""/>
          <p:cNvSpPr/>
          <p:nvPr/>
        </p:nvSpPr>
        <p:spPr>
          <a:xfrm>
            <a:off x="4087080" y="5181480"/>
            <a:ext cx="501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Sentencia interlocutoria que rechaza repos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6" name=""/>
          <p:cNvCxnSpPr/>
          <p:nvPr/>
        </p:nvCxnSpPr>
        <p:spPr>
          <a:xfrm flipH="1" rot="16200000">
            <a:off x="5085720" y="519732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587" name=""/>
          <p:cNvSpPr/>
          <p:nvPr/>
        </p:nvSpPr>
        <p:spPr>
          <a:xfrm>
            <a:off x="5595840" y="5613480"/>
            <a:ext cx="310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Apelación efecto devolu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916360" y="765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203960" y="775008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3520" y="629748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130880" y="612468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3640" y="2347920"/>
            <a:ext cx="835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080" y="1393920"/>
            <a:ext cx="1110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Solicitu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quieb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90920" y="249084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3640" y="22035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44560" y="22035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26080" y="2538360"/>
            <a:ext cx="1105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Trasl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(art. 4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44560" y="32115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24560" y="3643200"/>
            <a:ext cx="1422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Notif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(art. 4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54040" y="2492280"/>
            <a:ext cx="121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Sent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p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46840" y="3716280"/>
            <a:ext cx="1212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Declara 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quieb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33880" y="4559400"/>
            <a:ext cx="127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Deniega 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quieb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80080" y="22035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05720" y="5638680"/>
            <a:ext cx="1422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Notif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(art. 5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80080" y="5229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22800" y="22035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38600" y="2689200"/>
            <a:ext cx="945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Evacú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trasl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744560" y="177156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44560" y="177156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28920" y="17715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5240" y="1628640"/>
            <a:ext cx="1748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Térm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emplazamient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327480" y="177156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27480" y="1771560"/>
            <a:ext cx="1460520" cy="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78280" y="17715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68240" y="1677960"/>
            <a:ext cx="10598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Prueb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80080" y="343044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80080" y="436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1200" y="1747800"/>
            <a:ext cx="11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66000" y="2852640"/>
            <a:ext cx="0" cy="12956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345280" y="4148280"/>
            <a:ext cx="72072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66000" y="23479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43040" y="3141720"/>
            <a:ext cx="13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Repos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66000" y="42926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345280" y="5013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97640" y="3213000"/>
            <a:ext cx="0" cy="8636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97640" y="4076640"/>
            <a:ext cx="21600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97640" y="3213000"/>
            <a:ext cx="28728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64760" y="3049560"/>
            <a:ext cx="88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Recha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26800" y="2901960"/>
            <a:ext cx="17305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pela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efecto devolu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78720" y="3213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80880" y="391644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Aco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6680" y="3716280"/>
            <a:ext cx="1467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pela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mbos efe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53440" y="407664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82000" y="4272120"/>
            <a:ext cx="12625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pela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8360" y="35719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6360" y="501336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06320" y="4795920"/>
            <a:ext cx="119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Resolu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Recur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67640" y="501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8360" y="4726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8360" y="537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70960" y="5495760"/>
            <a:ext cx="11772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Casa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Fo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-58320" y="242100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Acre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3640" y="292428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960" y="3284640"/>
            <a:ext cx="10206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Hech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Revel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-88200" y="41958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Antecedent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38624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83280" y="2852640"/>
            <a:ext cx="115272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95880" y="2540160"/>
            <a:ext cx="20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cc0000"/>
                </a:solidFill>
                <a:latin typeface="Tahoma"/>
              </a:rPr>
              <a:t>Incidente Ordin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8000" y="2565360"/>
            <a:ext cx="1152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916360" y="765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134136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2880" y="630864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130880" y="612468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 flipV="1">
            <a:off x="900000" y="2347920"/>
            <a:ext cx="77756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9080" y="1393920"/>
            <a:ext cx="1110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Solicitu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quieb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51960" y="2492280"/>
            <a:ext cx="121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Sent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p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45120" y="3716280"/>
            <a:ext cx="1212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Declara 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quieb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32160" y="4559400"/>
            <a:ext cx="127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Deniega 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quieb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78000" y="2349360"/>
            <a:ext cx="0" cy="35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67360" y="5638680"/>
            <a:ext cx="1422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Notif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(art. 5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78000" y="5229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78000" y="343044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78000" y="436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59480" y="1747800"/>
            <a:ext cx="11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63920" y="2852640"/>
            <a:ext cx="0" cy="12956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643200" y="4148280"/>
            <a:ext cx="72072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63920" y="23479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41320" y="3141720"/>
            <a:ext cx="13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Repos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63920" y="42926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643200" y="5013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95920" y="3213000"/>
            <a:ext cx="0" cy="8636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95920" y="4076640"/>
            <a:ext cx="21564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95920" y="3213000"/>
            <a:ext cx="28728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63040" y="3049560"/>
            <a:ext cx="88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Recha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25080" y="2901960"/>
            <a:ext cx="17305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pela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efecto devolu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77000" y="3213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79160" y="391644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Aco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34600" y="3716280"/>
            <a:ext cx="1467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pela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mbos efe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51360" y="407664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80280" y="4272120"/>
            <a:ext cx="12625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pela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86640" y="35719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54640" y="501336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04600" y="4795920"/>
            <a:ext cx="119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Resolu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Recur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65920" y="501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86640" y="4726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86640" y="537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69240" y="5495760"/>
            <a:ext cx="11772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Casa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Fo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5680" y="2685960"/>
            <a:ext cx="9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Deu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31179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60480" y="347832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6120" y="3406680"/>
            <a:ext cx="1404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Anteced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Art. 4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81560" y="2852640"/>
            <a:ext cx="115236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93800" y="2540160"/>
            <a:ext cx="20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cc0000"/>
                </a:solidFill>
                <a:latin typeface="Tahoma"/>
              </a:rPr>
              <a:t>Incidente Ordin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3280" y="2830680"/>
            <a:ext cx="720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2349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916360" y="765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2880" y="630864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008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294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0" y="637236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130880" y="612468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42880" y="630864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900000" y="2347920"/>
            <a:ext cx="77756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3840" y="1519200"/>
            <a:ext cx="90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Quieb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oficio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51960" y="2492280"/>
            <a:ext cx="121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Sent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p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45120" y="3716280"/>
            <a:ext cx="1212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Declara 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quieb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32160" y="4559400"/>
            <a:ext cx="127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Deniega 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quieb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78000" y="2349360"/>
            <a:ext cx="0" cy="35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67360" y="5638680"/>
            <a:ext cx="1422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Notif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(art. 5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78000" y="5229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78000" y="343044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78000" y="436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59480" y="1747800"/>
            <a:ext cx="11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63920" y="2852640"/>
            <a:ext cx="0" cy="12956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643200" y="4148280"/>
            <a:ext cx="72072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63920" y="23479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41320" y="3141720"/>
            <a:ext cx="13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Repos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63920" y="42926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643200" y="5013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95920" y="3213000"/>
            <a:ext cx="0" cy="8636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95920" y="4076640"/>
            <a:ext cx="21564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95920" y="3213000"/>
            <a:ext cx="28728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063040" y="3049560"/>
            <a:ext cx="88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Recha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25080" y="2901960"/>
            <a:ext cx="17305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pela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efecto devolu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77000" y="3213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79160" y="391644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Aco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34600" y="3716280"/>
            <a:ext cx="1467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pela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mbos efe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51360" y="407664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80280" y="4272120"/>
            <a:ext cx="12625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Apela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86640" y="35719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54640" y="501336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204600" y="4795920"/>
            <a:ext cx="119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Resolu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Recur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65920" y="501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86640" y="4726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86640" y="537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69240" y="5495760"/>
            <a:ext cx="11772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Casa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Fo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9320" y="2685960"/>
            <a:ext cx="6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Ju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16000" y="31179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60480" y="347832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9920" y="3406680"/>
            <a:ext cx="1086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ausa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specia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81560" y="2852640"/>
            <a:ext cx="115236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93800" y="2540160"/>
            <a:ext cx="20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CL" sz="1400" spc="-1" strike="noStrike">
                <a:solidFill>
                  <a:srgbClr val="cc0000"/>
                </a:solidFill>
                <a:latin typeface="Tahoma"/>
              </a:rPr>
              <a:t>Incidente Ordin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73280" y="2830680"/>
            <a:ext cx="720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16000" y="2349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916360" y="9079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119556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97308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8080" y="97308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97308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8880" y="1459080"/>
            <a:ext cx="180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ase de Aper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30400" y="15289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43520" y="1479600"/>
            <a:ext cx="661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ceso de cognición que permite determinar la procedencia de 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i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/>
          <p:nvPr/>
        </p:nvCxnSpPr>
        <p:spPr>
          <a:xfrm flipH="1" rot="16200000">
            <a:off x="621720" y="221760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cxnSp>
        <p:nvCxnSpPr>
          <p:cNvPr id="259" name=""/>
          <p:cNvCxnSpPr/>
          <p:nvPr/>
        </p:nvCxnSpPr>
        <p:spPr>
          <a:xfrm flipH="1" rot="16200000">
            <a:off x="621720" y="333684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cxnSp>
        <p:nvCxnSpPr>
          <p:cNvPr id="260" name=""/>
          <p:cNvCxnSpPr/>
          <p:nvPr/>
        </p:nvCxnSpPr>
        <p:spPr>
          <a:xfrm flipH="1" rot="16200000">
            <a:off x="621720" y="44992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261" name=""/>
          <p:cNvSpPr/>
          <p:nvPr/>
        </p:nvSpPr>
        <p:spPr>
          <a:xfrm>
            <a:off x="1416240" y="2658960"/>
            <a:ext cx="205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Etapa de discu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64720" y="3754440"/>
            <a:ext cx="2942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Etapa de Prue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(en el evento q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se deduzca reposi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68000" y="4892760"/>
            <a:ext cx="210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Etapa de Sen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614760" y="2708280"/>
            <a:ext cx="309600" cy="21600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33800" y="2459160"/>
            <a:ext cx="867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inicia con la deman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ntencia que declara o deniega la qui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curso especial de repos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70400" y="3851280"/>
            <a:ext cx="309600" cy="21600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67280" y="3789360"/>
            <a:ext cx="867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ige las normas de los incid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64000" y="5013360"/>
            <a:ext cx="309600" cy="21600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67280" y="4892760"/>
            <a:ext cx="867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empre que exista contradictor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79280" y="5516640"/>
            <a:ext cx="867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 la quiebra la inicia un acreedor existe un procedimiento breve respecto del cual también se distingue estas etap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080" y="5445000"/>
            <a:ext cx="8820000" cy="6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5280" y="645336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6294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7130880" y="6269040"/>
            <a:ext cx="16891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916360" y="765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1280" y="1484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126036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126036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66680" y="126036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645336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008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294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713088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302520" y="2060640"/>
            <a:ext cx="110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Acree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771640" y="1628640"/>
            <a:ext cx="25210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777040" y="1628640"/>
            <a:ext cx="24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Solicitud de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4000" y="215568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Deudor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-36360" y="2637000"/>
            <a:ext cx="604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ompañar los anteceden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unciados en el art. 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-36360" y="321804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requiere invocar alguna de las causales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iebra del art. 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238640" y="2532240"/>
            <a:ext cx="52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itular de un crédito (sea o no exigible art. 4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0" y="3102120"/>
            <a:ext cx="568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dicar la causal que justifica la solicitud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hechos que la constituy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-36360" y="3865680"/>
            <a:ext cx="604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ompañar los anteceden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unciados en el art. 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0" y="3751200"/>
            <a:ext cx="640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ompañar los documentos que acrediten l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undamentos de la petición u ofrecer l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uebas que correspon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0" y="4619520"/>
            <a:ext cx="640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ompañar vale vista o boleta por equival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 100 U.F., a la orden tribunal, para solvent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astos iniciales de la quiebra; crédito preferente</a:t>
            </a: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71640" y="4437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9280" y="530064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sen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27640" y="55166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92720" y="59500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trasl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916360" y="765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1280" y="134136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5280" y="645336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008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6294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13088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260360" y="159084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0320" y="1413000"/>
            <a:ext cx="8771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rt. 45                        “El juzgado se pronunciará sobre la solicitud de quiebra a la breved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ible con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audiencia del deudor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………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“……………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.. La audiencia del deudor sólo tendrá carácter inform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dará lugar a incidente………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36360" y="2819520"/>
            <a:ext cx="87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la práctica los tribunales confieren traslado al deudor, muchas veces no indican el término   del emplaz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-36360" y="3386160"/>
            <a:ext cx="87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mplazamiento se discu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47640" y="3683160"/>
            <a:ext cx="878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lgunos sostienen que sería aplicable el término de emplazamiento de juic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rdinario de mayor cuantía</a:t>
            </a: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11640" y="4076640"/>
            <a:ext cx="309600" cy="21600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00720" y="4005360"/>
            <a:ext cx="33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Aplicación reglas  comu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3280" y="443700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No es aplicable normas de incid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11640" y="4508640"/>
            <a:ext cx="309600" cy="21564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19280" y="4869000"/>
            <a:ext cx="87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tros consideran que el plazo debe ser de 3 días</a:t>
            </a: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51280" y="5295960"/>
            <a:ext cx="49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Procedimiento para incidentes es el supletorio para todo el proceso concursal art.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635280" y="5900760"/>
            <a:ext cx="47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Por aplicación del principio de celer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325680" y="5373720"/>
            <a:ext cx="309600" cy="21600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348000" y="6021360"/>
            <a:ext cx="309600" cy="21600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916360" y="765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5280" y="645336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4008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6294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580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713088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611280" y="1484280"/>
            <a:ext cx="41050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6240" y="1484280"/>
            <a:ext cx="40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Audiencia no da lugar a incid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-36360" y="2133720"/>
            <a:ext cx="878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Juez debe fallar con el mérito de la audiencia, antecedentes agregados por el acreedor solicitante y medidas oficiosas que estime el juez para adquirir la convicción de la efectividad de la causal invoca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-36360" y="3035160"/>
            <a:ext cx="87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udor debe acompañar antecedentes que justifiquen su defensa con el fin de ilustrar al   juez acerca de su situación patrimon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-36360" y="3639960"/>
            <a:ext cx="87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la práctica los jueces suelen abrir un término proba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9840" y="4214880"/>
            <a:ext cx="13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Sen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5280" y="4149720"/>
            <a:ext cx="1368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8" name=""/>
          <p:cNvCxnSpPr/>
          <p:nvPr/>
        </p:nvCxnSpPr>
        <p:spPr>
          <a:xfrm flipH="1" rot="16200000">
            <a:off x="3602880" y="4931280"/>
            <a:ext cx="311760" cy="907200"/>
          </a:xfrm>
          <a:prstGeom prst="bentConnector2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1619280" y="4869000"/>
            <a:ext cx="87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olución que declara o deniega la qui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95640" y="5229360"/>
            <a:ext cx="18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Sen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definitiva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2916360" y="765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39640" y="134136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87200" y="692280"/>
            <a:ext cx="29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ASE DE AP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79280" y="1773360"/>
            <a:ext cx="86756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l art. 52 sólo se refiere a la resolución que declara la qui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l art. 158 C.P.C. no admite como sentencia definitiva a aquellas que la ley indica como tales, sino que aquellas que se conforman con los requisitos de dicha nor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umple la sentencia que provee la solicitud de quiebra una sentencia definitiva a la luz del art. 158 del C.P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a jurisprudencia ha sido poco uniforme, algunas veces le otorga el carácter de interlocutoria y otras de indefin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a mayoría de la doctrina la califica de sentencia defini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a determinación de su naturaleza interes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r su conten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égimen de recur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5280" y="645336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294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713088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55640" y="5516640"/>
            <a:ext cx="309600" cy="21600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3320" y="6021360"/>
            <a:ext cx="309600" cy="216000"/>
          </a:xfrm>
          <a:custGeom>
            <a:avLst/>
            <a:gdLst>
              <a:gd name="textAreaLeft" fmla="*/ 48240 w 309600"/>
              <a:gd name="textAreaRight" fmla="*/ 271080 w 3096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ctavio Bofill G.</cp:lastModifiedBy>
  <dcterms:modified xsi:type="dcterms:W3CDTF">2004-04-14T22:39:15Z</dcterms:modified>
  <cp:revision>57</cp:revision>
  <dc:subject/>
  <dc:title>Sin título de diapositiva</dc:title>
</cp:coreProperties>
</file>