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783-F919-4A04-AFCA-E2DA17AE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9C7-F449-4B05-926D-6684F558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3F1-4EFC-4B16-A69E-E3FDEAFE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8B4-1542-4890-9F37-7C3BCA80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345-28F6-43A0-A9EB-A63D29B6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555-914A-4B34-B2D8-A9F91006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1E3-6D9E-470D-A934-471EEC99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BFF-D721-4F3C-AD70-17682232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40D-E2A0-4434-BDDF-7F005455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6E3-2EC6-41CD-AAF3-9035216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6D7-3D49-4385-A79E-BEFC386D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4E3-7AB2-4FB0-86A1-1AE4004B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3158-6AFB-4840-80A1-4B3DF0C2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52560" y="31240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45480" y="99072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ncur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11280" y="126828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71640" y="1650960"/>
            <a:ext cx="60544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895480" y="46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333360"/>
            <a:ext cx="7848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05264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380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66680" y="851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87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773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05920" y="393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07000" y="6589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65898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34320" y="65898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23960" y="393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7275600" y="634212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360" y="6524640"/>
            <a:ext cx="6624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258920" y="1065240"/>
            <a:ext cx="69850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1447920"/>
            <a:ext cx="2361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60960" y="146844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2060640"/>
            <a:ext cx="7038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ferencia negativa entre el activo liquidable y el pasivo exigible? o diferencia negativa entre activo y pasiv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negativ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o circulante / Activ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solvencia        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solvencia  =  Falta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lance no considera capacidad de acceso al crédito o a otras fuentes de financiamiento, vía capital o deuda         Estado Financiero 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lujo de caja es demostración financiera dinámica que puede (i) proyectar y (ii) reconocer situación de 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1640" y="40053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63720" y="393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771640" y="38606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67280" y="515772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8120" y="1447920"/>
            <a:ext cx="2361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29360" y="1484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2133720"/>
            <a:ext cx="7543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solvencia no puede significar entonces, una diferencia negativa estática, tiene que significar una incapacidad de pago de un patrimonio examinado desde un punto de vista diná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ece razonable no buscar diferencias entre la cesación de pagos e insolvencia. Es claro que la confusión lingüística del legislador no autoriza a denegar esa posibi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4149720"/>
            <a:ext cx="67694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0480" y="4292640"/>
            <a:ext cx="61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, Cesación de Pagos,  ¿QUÉ ES ENTO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5229360"/>
            <a:ext cx="7543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 Amp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781440" y="5373720"/>
            <a:ext cx="100656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1960" y="5653080"/>
            <a:ext cx="1057320" cy="22392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44720" y="546876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orías acerca de su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895480" y="78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199440" y="213372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eoría Restringi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2638440"/>
            <a:ext cx="4241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simila la insolvencia al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11280" y="2278080"/>
            <a:ext cx="5905800" cy="3456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6400800"/>
            <a:ext cx="57913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11280" y="299736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materialidad del incumplimiento demuestra la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        in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350208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es necesario demostrar insolvencia, basta demostrar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incumplimi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4078440"/>
            <a:ext cx="561672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histórica y positiv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igen CC francés, exigía al comerciante y obligación mercant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ey de Quiebra refiere al incumplimiento como cau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1840" y="184464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eoría Ampl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68360" y="1844640"/>
            <a:ext cx="5761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naliza la capacidad de pago de todos los compromisos en oportunidad e integ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1773360"/>
            <a:ext cx="6121440" cy="39607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2492280"/>
            <a:ext cx="5616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pagos se refiere a la capacidad de hacer los pagos de un patrimonio; no el dejar o no de cumplir un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68360" y="3209760"/>
            <a:ext cx="5616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no es un medio de persecución de obligaciones incumplidas</a:t>
            </a:r>
            <a:r>
              <a:rPr b="0" lang="es-CL" sz="16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68360" y="3786120"/>
            <a:ext cx="5543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armónica del instituto con los fines del D° Concursal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68360" y="4533840"/>
            <a:ext cx="6264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Justificación 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00720" y="4437000"/>
            <a:ext cx="502920" cy="21600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00720" y="4653000"/>
            <a:ext cx="502920" cy="144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92760" y="4221000"/>
            <a:ext cx="23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fusión de térmi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84480" y="4581360"/>
            <a:ext cx="605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esación pagos es figura de la quiebra diferente de la causal            “período sospechos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48360" y="501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659772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08000" y="1413000"/>
            <a:ext cx="4824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942200" y="1557360"/>
            <a:ext cx="46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aracteres que definen la Cesación de P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65160" y="246708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Gener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54200" y="268272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43280" y="256392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do, no hecho aislado (incumplimi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7200" y="2905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Perman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11440" y="312732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43280" y="300816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le, no accidental, irremediable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7080" y="369108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Obje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43280" y="3481560"/>
            <a:ext cx="576108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jetivo. Obliga al juez a convencerse del desequilib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tre lo realizable y crédito vs. prestaciones exig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e mira aún todas las operaciones aceleradas, sino a 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imiento de acuerdo con el pacto origi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52640" y="5138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Insal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84360" y="536256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71640" y="521028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edidas comunes de mercado, de acceso al crédito de mercad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van a revertir la situación. Hay iliquidez cró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195280" y="3913200"/>
            <a:ext cx="144360" cy="0"/>
          </a:xfrm>
          <a:prstGeom prst="line">
            <a:avLst/>
          </a:prstGeom>
          <a:ln w="9360">
            <a:solidFill>
              <a:srgbClr val="cc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268360" y="3625920"/>
            <a:ext cx="648000" cy="28728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68360" y="3913200"/>
            <a:ext cx="574920" cy="50472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13413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62200" y="1700280"/>
            <a:ext cx="49705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5280" y="1797120"/>
            <a:ext cx="53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cepto de Cesación de Pagos 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(Puga y Bofi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5280" y="2708280"/>
            <a:ext cx="84247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do patrimonial vicioso y complejo que se obtiene de comparar su liquidez (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bles y circulantes + capacidad de acceso a fuentes de financiamiento) y su pas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, de modo que pone a su titular en la incapacidad objetiva de cumplir, actual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tencialmente, los compromisos que le afec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8920" y="4532400"/>
            <a:ext cx="37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ferencia – T° Amplia / Restringida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91080" y="472428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60548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blema de prue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494172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ás cómoda la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5326200"/>
            <a:ext cx="576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uenos argumentos en derecho positivo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691080" y="508464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91080" y="544500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95480" y="44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105264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666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7520" y="1220760"/>
            <a:ext cx="21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° Amplia en Chil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67080" y="1414440"/>
            <a:ext cx="30456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98920" y="1255680"/>
            <a:ext cx="576072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justificarse si se entiende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66560" y="1646280"/>
            <a:ext cx="86425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usales son “Hechos Revelad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ausales amplias y restringidas de 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indicio del mal estado de los negocios del deudor que constituyen los hechos reveladores, autoriza a alterar la carga de la prueba (Posición injusta para el acree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alta de acceso a información patrimonial del deu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faculta entonces una declaración de quiebra prima facie, presunción simplemente leg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deja al deudor declarado en quiebra la carga de acreditar la sanidad del patrimonio, mediante el Recurso de Repos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ayoría autores: restring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o ley exige convicción al juez para declarar la quiebra. Si la ley aceptara el mero incumplimiento no habría sido necesario hacer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tibieza del texto es adjetiva             cuestión de prueba, no de fondo</a:t>
            </a: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1198440"/>
            <a:ext cx="583272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708360" y="6165720"/>
            <a:ext cx="287280" cy="142920"/>
          </a:xfrm>
          <a:prstGeom prst="rightArrow">
            <a:avLst>
              <a:gd name="adj1" fmla="val 50000"/>
              <a:gd name="adj2" fmla="val 5025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44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9795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8240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74920" y="5086440"/>
            <a:ext cx="1152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ntinu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g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03640" y="4076640"/>
            <a:ext cx="1439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Negocio fal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sasimient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95640" y="2781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74920" y="5950080"/>
            <a:ext cx="1152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érmino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endCxn id="538" idx="0"/>
          </p:cNvCxnSpPr>
          <p:nvPr/>
        </p:nvCxnSpPr>
        <p:spPr>
          <a:xfrm>
            <a:off x="3850920" y="4726080"/>
            <a:ext cx="1080" cy="31788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3564000" y="2278080"/>
            <a:ext cx="863640" cy="504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J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16000" y="1557360"/>
            <a:ext cx="22305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500720" y="1628640"/>
            <a:ext cx="2017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udor / Fall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3634920" y="1773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0" idx="3"/>
          </p:cNvCxnSpPr>
          <p:nvPr/>
        </p:nvCxnSpPr>
        <p:spPr>
          <a:xfrm>
            <a:off x="3346200" y="1773360"/>
            <a:ext cx="64980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1" idx="1"/>
          </p:cNvCxnSpPr>
          <p:nvPr/>
        </p:nvCxnSpPr>
        <p:spPr>
          <a:xfrm flipH="1">
            <a:off x="3994920" y="1809360"/>
            <a:ext cx="50580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3419640" y="3070080"/>
            <a:ext cx="1079280" cy="72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Sín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92436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851280" y="4739760"/>
            <a:ext cx="0" cy="287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/>
          <p:nvPr/>
        </p:nvCxnSpPr>
        <p:spPr>
          <a:xfrm>
            <a:off x="3850920" y="5711760"/>
            <a:ext cx="1080" cy="2390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 flipV="1">
            <a:off x="3851280" y="55911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979640" y="191772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/>
          <p:nvPr/>
        </p:nvCxnSpPr>
        <p:spPr>
          <a:xfrm>
            <a:off x="1979280" y="2058480"/>
            <a:ext cx="1080" cy="2894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1403280" y="2419200"/>
            <a:ext cx="1079640" cy="7207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Junta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Acre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58920" y="3643200"/>
            <a:ext cx="1297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Verific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14560" y="4653000"/>
            <a:ext cx="151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ago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xtinción Créd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0"/>
          </p:cNvCxnSpPr>
          <p:nvPr/>
        </p:nvCxnSpPr>
        <p:spPr>
          <a:xfrm>
            <a:off x="1979640" y="4195440"/>
            <a:ext cx="2160" cy="3848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 flipV="1">
            <a:off x="1979640" y="420840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8" name=""/>
          <p:cNvCxnSpPr>
            <a:stCxn id="559" idx="0"/>
          </p:cNvCxnSpPr>
          <p:nvPr/>
        </p:nvCxnSpPr>
        <p:spPr>
          <a:xfrm>
            <a:off x="1978200" y="3211200"/>
            <a:ext cx="2160" cy="384840"/>
          </a:xfrm>
          <a:prstGeom prst="straightConnector1">
            <a:avLst/>
          </a:prstGeom>
          <a:ln w="19080">
            <a:solidFill>
              <a:srgbClr val="cc3300"/>
            </a:solidFill>
            <a:prstDash val="sysDot"/>
            <a:miter/>
            <a:tailEnd len="med" type="triangle" w="med"/>
          </a:ln>
        </p:spPr>
      </p:cxnSp>
      <p:sp>
        <p:nvSpPr>
          <p:cNvPr id="560" name=""/>
          <p:cNvSpPr/>
          <p:nvPr/>
        </p:nvSpPr>
        <p:spPr>
          <a:xfrm flipV="1">
            <a:off x="1978200" y="32241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940360" y="2060640"/>
            <a:ext cx="432000" cy="43164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08720" y="2133720"/>
            <a:ext cx="35856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/>
          <p:nvPr/>
        </p:nvCxnSpPr>
        <p:spPr>
          <a:xfrm rot="5400000">
            <a:off x="5236560" y="1789200"/>
            <a:ext cx="2989800" cy="2592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 flipH="1">
            <a:off x="6659280" y="15559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/>
          <p:nvPr/>
        </p:nvCxnSpPr>
        <p:spPr>
          <a:xfrm rot="5400000">
            <a:off x="6786000" y="4705200"/>
            <a:ext cx="2485080" cy="2160"/>
          </a:xfrm>
          <a:prstGeom prst="bentConnector3">
            <a:avLst>
              <a:gd name="adj1" fmla="val 4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4859280" y="263700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tivos d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83280" y="263700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ctivos fu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la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12000" y="3209760"/>
            <a:ext cx="431640" cy="576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580000" y="3209760"/>
            <a:ext cx="432000" cy="5781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03640" y="3932280"/>
            <a:ext cx="1081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Pas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84720" y="40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8472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8472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318360" y="3932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Pre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10080" y="41482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Val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64000" y="5516640"/>
            <a:ext cx="1584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dminist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negocios fuera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la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091280" y="594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858920" y="45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268360" y="1052640"/>
            <a:ext cx="331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structura procedimiento de qui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67652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160" y="16905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cree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16765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16905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u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2 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40435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1 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0435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3 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0384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5" idx="3"/>
            <a:endCxn id="77" idx="1"/>
          </p:cNvCxnSpPr>
          <p:nvPr/>
        </p:nvCxnSpPr>
        <p:spPr>
          <a:xfrm>
            <a:off x="1828800" y="423180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3504960" y="42667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4952880" y="4266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>
            <a:off x="6400800" y="4266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1" idx="3"/>
            <a:endCxn id="73" idx="1"/>
          </p:cNvCxnSpPr>
          <p:nvPr/>
        </p:nvCxnSpPr>
        <p:spPr>
          <a:xfrm>
            <a:off x="3124080" y="190476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225520" y="2362320"/>
            <a:ext cx="1194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er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31240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33080" y="2757600"/>
            <a:ext cx="1469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Obl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3664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1720" y="3657600"/>
            <a:ext cx="144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Transform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58160" y="36576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Distribu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7200" y="36576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ayor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1520" y="36576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inor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0000" y="365760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85680" y="4475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4168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596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7160" y="4495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1880" y="5029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ción Bienes y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réditos Concaten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dena de Pag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85" idx="3"/>
            <a:endCxn id="87" idx="1"/>
          </p:cNvCxnSpPr>
          <p:nvPr/>
        </p:nvCxnSpPr>
        <p:spPr>
          <a:xfrm>
            <a:off x="3429000" y="2550960"/>
            <a:ext cx="1502640" cy="396000"/>
          </a:xfrm>
          <a:prstGeom prst="straightConnector1">
            <a:avLst/>
          </a:prstGeom>
          <a:ln w="28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6" idx="3"/>
            <a:endCxn id="87" idx="1"/>
          </p:cNvCxnSpPr>
          <p:nvPr/>
        </p:nvCxnSpPr>
        <p:spPr>
          <a:xfrm flipV="1">
            <a:off x="3411000" y="2945520"/>
            <a:ext cx="1520280" cy="367560"/>
          </a:xfrm>
          <a:prstGeom prst="straightConnector1">
            <a:avLst/>
          </a:prstGeom>
          <a:ln w="28440">
            <a:solidFill>
              <a:srgbClr val="cc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5" idx="2"/>
            <a:endCxn id="86" idx="0"/>
          </p:cNvCxnSpPr>
          <p:nvPr/>
        </p:nvCxnSpPr>
        <p:spPr>
          <a:xfrm>
            <a:off x="2822040" y="2738160"/>
            <a:ext cx="18360" cy="386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89548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290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99216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94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80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83664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8487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773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36684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23960" y="36684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395360" y="134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8320" y="1844640"/>
            <a:ext cx="2643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) Previ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Regular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Repr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37960" y="1998720"/>
            <a:ext cx="193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gún naturale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s norma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gulan 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70480" y="1898640"/>
            <a:ext cx="3032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) Conve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Administ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Jud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3500280"/>
            <a:ext cx="2449440" cy="6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02480" y="3718080"/>
            <a:ext cx="22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D° Concursal Jud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86160" y="4221000"/>
            <a:ext cx="432000" cy="576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854160" y="4221000"/>
            <a:ext cx="431640" cy="5781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82920" y="4941720"/>
            <a:ext cx="25941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QUIEBRA O JUICI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QUI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6560" y="4941720"/>
            <a:ext cx="21621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ESIÓN DE BIE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6000" y="242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30560" y="2421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51720" y="13413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4842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54480" y="1484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14842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000" y="14842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cumpl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>
            <a:off x="3429000" y="17125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1920" y="2349360"/>
            <a:ext cx="56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de una obligación de ejecución difer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00" y="283680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luciones Derecho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50000" y="234936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cución instantá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20200" y="2836800"/>
            <a:ext cx="267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cución de oblig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29811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8600" y="3587760"/>
            <a:ext cx="30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ones concate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5880" y="3587760"/>
            <a:ext cx="531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cumplimiento introduce anormalidad que af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s de varios acto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8480" y="3740040"/>
            <a:ext cx="152280" cy="152640"/>
          </a:xfrm>
          <a:custGeom>
            <a:avLst/>
            <a:gdLst>
              <a:gd name="textAreaLeft" fmla="*/ 23760 w 152280"/>
              <a:gd name="textAreaRight" fmla="*/ 133560 w 1522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427356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55040" y="4121280"/>
            <a:ext cx="45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propias de intermediarios (comercian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4080" y="4502160"/>
            <a:ext cx="46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lo explica relación histórica entre “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QUIEBRA”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COMERCIA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457848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5880" y="5229360"/>
            <a:ext cx="52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obligaciones concatenadas PUE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5600" y="5084640"/>
            <a:ext cx="29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venir de falta de 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22440" y="5389560"/>
            <a:ext cx="27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vocar falta de 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81480" y="522900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37372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236000" y="6197760"/>
            <a:ext cx="1688760" cy="399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11280" y="5805360"/>
            <a:ext cx="800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lvencia      </a:t>
            </a:r>
            <a:r>
              <a:rPr b="0" i="1" lang="es-CL" sz="1600" spc="-1" strike="noStrike">
                <a:solidFill>
                  <a:srgbClr val="000000"/>
                </a:solidFill>
                <a:latin typeface="Tahoma"/>
              </a:rPr>
              <a:t>solvens        acción o efecto de solventar        extinguir la obligación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540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504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5940360"/>
            <a:ext cx="228600" cy="152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805360"/>
            <a:ext cx="835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6520" y="3068640"/>
            <a:ext cx="23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Medidas Auxilia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acreedore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3068640"/>
            <a:ext cx="719280" cy="14436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24360" y="2923920"/>
            <a:ext cx="71928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35280" y="2732040"/>
            <a:ext cx="22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ejecución individu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2492280"/>
            <a:ext cx="360360" cy="144720"/>
          </a:xfrm>
          <a:prstGeom prst="leftRightArrow">
            <a:avLst>
              <a:gd name="adj1" fmla="val 50000"/>
              <a:gd name="adj2" fmla="val 4957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5448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8000" y="152388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cumpl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3429000" y="17521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443520" y="2209680"/>
            <a:ext cx="292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volu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82840" y="2286000"/>
            <a:ext cx="381240" cy="228600"/>
          </a:xfrm>
          <a:custGeom>
            <a:avLst/>
            <a:gdLst>
              <a:gd name="textAreaLeft" fmla="*/ 59400 w 381240"/>
              <a:gd name="textAreaRight" fmla="*/ 333720 w 381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3280" y="2209680"/>
            <a:ext cx="320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o, pero no quiero cumpli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35320" y="2209680"/>
            <a:ext cx="224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Ejecución individu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24800" y="2317680"/>
            <a:ext cx="152280" cy="152640"/>
          </a:xfrm>
          <a:custGeom>
            <a:avLst/>
            <a:gdLst>
              <a:gd name="textAreaLeft" fmla="*/ 23760 w 152280"/>
              <a:gd name="textAreaRight" fmla="*/ 133560 w 1522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640" y="3137040"/>
            <a:ext cx="386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hay insolvencia de un actor de l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ones concaten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04360" y="3200400"/>
            <a:ext cx="343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uede provocar otras insolv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3560" y="3384720"/>
            <a:ext cx="7621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7280" y="350532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640" y="2514600"/>
            <a:ext cx="31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cumplimiento involu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35480" y="25909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2200" y="251460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ro cumplir, pero no pue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71600" y="25146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[Insolvenci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11840" y="2622600"/>
            <a:ext cx="152640" cy="152280"/>
          </a:xfrm>
          <a:custGeom>
            <a:avLst/>
            <a:gdLst>
              <a:gd name="textAreaLeft" fmla="*/ 23760 w 152640"/>
              <a:gd name="textAreaRight" fmla="*/ 133560 w 1526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43400" y="3733920"/>
            <a:ext cx="27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Preventiv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0120" y="4143240"/>
            <a:ext cx="48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uesta la insolvencia, la sanidad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e solución total, colectiva y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1640" y="4343400"/>
            <a:ext cx="3812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55360" y="4159080"/>
            <a:ext cx="37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gularidad del orden pb.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445140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4480" y="4692600"/>
            <a:ext cx="30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Regularizado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" y="5105520"/>
            <a:ext cx="430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 la insolvencia viene precedida de a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íc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334120"/>
            <a:ext cx="38124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94080" y="5149800"/>
            <a:ext cx="201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itos concur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4320" y="5442120"/>
            <a:ext cx="0" cy="34920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39440" y="5683320"/>
            <a:ext cx="26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[D° Concursal Represiv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048120"/>
            <a:ext cx="84582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8920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804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° 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908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8032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/>
          <p:nvPr/>
        </p:nvCxnSpPr>
        <p:spPr>
          <a:xfrm>
            <a:off x="3998880" y="17521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81720" y="22478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99"/>
                </a:solidFill>
                <a:uFillTx/>
                <a:latin typeface="Tahoma"/>
              </a:rPr>
              <a:t>La Prev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2565360"/>
            <a:ext cx="5113440" cy="36003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61920" y="2674800"/>
            <a:ext cx="4798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Extrajudicial Preventiv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43 N°4 y 169 y siguientes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Judicial Preventiv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173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ntervencion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199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 y artículos 293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l Código de Procedimient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9248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5132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°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0236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8360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/>
          <p:nvPr/>
        </p:nvCxnSpPr>
        <p:spPr>
          <a:xfrm>
            <a:off x="4492440" y="17521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400" y="224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La Solucio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2133720"/>
            <a:ext cx="6553440" cy="4032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73560" y="1844640"/>
            <a:ext cx="693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l Juicio de Quiebr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Ley 18.175, normas repartidas e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erpos legales: Código Civil, Código de Comercio Código Orgánic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ibunales y Código de Procedimient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onvenio Alzatorio o simplemente judicial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artículo 173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guientes de la Ley 18.175, salvo las que se refieran expresament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nvenios judiciales preventiv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esión de Bien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(artículos 246 y siguientes de la Ley 18.175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tículos 1614 y siguientes del Código Civ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Liquidaciones: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 Bancos e Instituciones Financie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Título XV, entre los artículos 117 y siguientes del D.F.L. 25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ebra de Compañías de Seguro  (artículos 65 y siguientes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.F.L. 251) Liquidación de A.F.P.(D.L. 3500). Quiebra de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Ley 18.93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65167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92480" y="15238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51320" y="1523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° 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02360" y="15238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83600" y="15238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solv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/>
          <p:nvPr/>
        </p:nvCxnSpPr>
        <p:spPr>
          <a:xfrm>
            <a:off x="4492440" y="17521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040" y="22478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cc"/>
                </a:solidFill>
                <a:uFillTx/>
                <a:latin typeface="Tahoma"/>
              </a:rPr>
              <a:t>La Re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645336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484360" y="2421000"/>
            <a:ext cx="5256360" cy="12952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4640" y="2459160"/>
            <a:ext cx="489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ime conductas vinculadas a la insolven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itos Relacionados con la Quiebra (Tít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XIII de la Ley 18.17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9520" y="451800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D°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085840" y="459720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85840" y="4749840"/>
            <a:ext cx="914400" cy="152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96000" y="4419720"/>
            <a:ext cx="394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 insolvencia es causa de su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8120" y="4764240"/>
            <a:ext cx="541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objeto es: (i) resguardo del créd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) respeto a la “par condicti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iii) sanidad del mercado, cadena de pa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137160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67652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1960" y="17524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° Concursal Regulariz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17840" y="175248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jecución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167652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4120" y="2722680"/>
            <a:ext cx="276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5040" y="2362320"/>
            <a:ext cx="3826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ase: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Organiza la solución de la insolvencia, tomando en cuenta la perspectiva de todos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ferencias se aplican irrestrictamente, como parte del principio de igualdad de todos los acreedores “par condictio creditorum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gos se distribuyen ciñéndose a las reglas de proporcion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barca la universalidad de los bienes del insolv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08440" y="2286000"/>
            <a:ext cx="38260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ase: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eneficia a un acreedor, aplicando orden de lleg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ferencias sólo se aplican si es solicitada en forma expresa por el interesado (tercería de prel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porcionalidad en pagos (tercería de pago) debe solicita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refiere a los bienes necesarios para cumplir la obligació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1484280"/>
            <a:ext cx="6629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7440" y="1628640"/>
            <a:ext cx="5406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upuesto del D° Concur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Mal estado de los negocios. Cesación de pago. Insolvenc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600" y="2421000"/>
            <a:ext cx="8216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ma discutido en doctrina, sin solución ú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fusa utilización en textos posi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á claro que va más allá del concepto de incumpl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lgunos ven insolvencia y cesación de pago como fenómenos distintos; donde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insolvenci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diferencia negativa entre activo y pasivo,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Cesación de pag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: el estado de incapacidad objetiv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mplir los compromisos credit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 lo equipa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lance Financi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lujo de Caja Ef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429264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14360" y="4797360"/>
            <a:ext cx="3049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23960" y="609480"/>
            <a:ext cx="56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Nociones Fundamen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03-10T21:30:28Z</dcterms:modified>
  <cp:revision>33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41630283</vt:r8>
  </property>
  <property fmtid="{D5CDD505-2E9C-101B-9397-08002B2CF9AE}" pid="3" name="_AuthorEmail">
    <vt:lpwstr>ayuri@grasty.cl</vt:lpwstr>
  </property>
  <property fmtid="{D5CDD505-2E9C-101B-9397-08002B2CF9AE}" pid="4" name="_AuthorEmailDisplayName">
    <vt:lpwstr>Ana Maria Yuri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