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A9A-97D4-4CF9-88AA-B01F95B9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DBF-2B58-4A83-BE89-922C7FC1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652-9E94-4FC9-B3BF-9D7C3DE6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D4D-C579-4256-B742-CDEFC864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B4D-C1F3-4E6F-AA5F-EFB25DB8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013-0164-4CA0-B7A1-B9227352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700-D32E-4B55-97D3-41C3B2A3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963-15C5-4465-9B0A-D54BBDF0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889-929C-462B-8D89-EC64CE85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F10-148F-4E17-BCA7-88952FBC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A76-9479-4BAD-8074-9D754135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151-4710-4FCE-B173-C39E8CB4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D9D7-E6F6-44BA-B3F2-3675D4177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52560" y="31240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45480" y="99072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ncur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11280" y="126828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71640" y="1650960"/>
            <a:ext cx="60544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895480" y="46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1280" y="33336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05264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851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851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66680" y="851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8720" y="393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77320" y="393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05920" y="393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07000" y="65898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705720" y="65898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34320" y="65898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23960" y="39384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275600" y="63421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68360" y="6524640"/>
            <a:ext cx="6624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258920" y="1065240"/>
            <a:ext cx="698508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8120" y="1447920"/>
            <a:ext cx="2361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60960" y="146844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2060640"/>
            <a:ext cx="7038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ferencia negativa entre el activo liquidable y el pasivo exigible? o diferencia negativa entre activo y pasiv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 negativ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o circulante / Activo fi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alta de solvencia        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alta de solvencia  =  Falta de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lance no considera capacidad de acceso al crédito o a otras fuentes de financiamiento, vía capital o deuda         Estado Financiero 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lujo de caja es demostración financiera dinámica que puede (i) proyectar y (ii) reconocer situación de solven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1640" y="40053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63720" y="3933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2771640" y="38606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67280" y="5157720"/>
            <a:ext cx="3045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48120" y="1447920"/>
            <a:ext cx="2361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360" y="14842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2133720"/>
            <a:ext cx="7543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solvencia no puede significar entonces, una diferencia negativa estática, tiene que significar una incapacidad de pago de un patrimonio examinado desde un punto de vista dinám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ece razonable no buscar diferencias entre la cesación de pagos e insolvencia. Es claro que la confusión lingüística del legislador no autoriza a denegar esa posibil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26920" y="4149720"/>
            <a:ext cx="67694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40480" y="4292640"/>
            <a:ext cx="61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, Cesación de Pagos,  ¿QUÉ ES ENTO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9640" y="5229360"/>
            <a:ext cx="7543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oría Restring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oría Amp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781440" y="5373720"/>
            <a:ext cx="1006560" cy="287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1960" y="5653080"/>
            <a:ext cx="1057320" cy="22392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44720" y="546876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orías acerca de su alc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895480" y="7840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13413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99440" y="213372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eoría Restringi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11280" y="2638440"/>
            <a:ext cx="4241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simila la insolvencia al incumpl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11280" y="2278080"/>
            <a:ext cx="5905800" cy="34560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6400800"/>
            <a:ext cx="5791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11280" y="2997360"/>
            <a:ext cx="561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materialidad del incumplimiento demuestra la</a:t>
            </a:r>
            <a:r>
              <a:rPr b="0" lang="es-CL" sz="1600" spc="-1" strike="noStrike">
                <a:solidFill>
                  <a:srgbClr val="5f5f5f"/>
                </a:solidFill>
                <a:latin typeface="Tahoma"/>
              </a:rPr>
              <a:t>         insolven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11280" y="3502080"/>
            <a:ext cx="561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es necesario demostrar insolvencia, basta demostrar</a:t>
            </a:r>
            <a:r>
              <a:rPr b="0" lang="es-CL" sz="1600" spc="-1" strike="noStrike">
                <a:solidFill>
                  <a:srgbClr val="5f5f5f"/>
                </a:solidFill>
                <a:latin typeface="Tahoma"/>
              </a:rPr>
              <a:t> incumplimi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11280" y="4078440"/>
            <a:ext cx="5616720" cy="16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Justificación histórica y positiv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igen CC francés, exigía al comerciante y obligación mercant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ey de Quiebra refiere al incumplimiento como cau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5f5f5f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5f5f5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1840" y="184464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eoría Ampl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68360" y="1844640"/>
            <a:ext cx="5761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naliza la capacidad de pago de todos los compromisos en oportunidad e integ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1773360"/>
            <a:ext cx="6121440" cy="39607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2492280"/>
            <a:ext cx="5616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esación pagos se refiere a la capacidad de hacer los pagos de un patrimonio; no el dejar o no de cumplir un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68360" y="3209760"/>
            <a:ext cx="561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ebra no es un medio de persecución de obligaciones incumplidas</a:t>
            </a:r>
            <a:r>
              <a:rPr b="0" lang="es-CL" sz="16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68360" y="3786120"/>
            <a:ext cx="5543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Justificación armónica del instituto con los fines del D° Concursal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68360" y="4533840"/>
            <a:ext cx="6264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Justificación posi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00720" y="4437000"/>
            <a:ext cx="502920" cy="21600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00720" y="4653000"/>
            <a:ext cx="502920" cy="144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92760" y="4221000"/>
            <a:ext cx="23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fusión de térmi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84480" y="4581360"/>
            <a:ext cx="605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esación pagos es figura de la quiebra diferente de la causal            “período sospechos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48360" y="501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659772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08000" y="1413000"/>
            <a:ext cx="4824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42200" y="1557360"/>
            <a:ext cx="46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aracteres que definen la Cesación de Pa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65160" y="246708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Gener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54200" y="2682720"/>
            <a:ext cx="3049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43280" y="2563920"/>
            <a:ext cx="576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do, no hecho aislado (incumplimi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07200" y="2905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Perman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611440" y="3127320"/>
            <a:ext cx="3049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43280" y="3008160"/>
            <a:ext cx="576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ble, no accidental, irremediable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57080" y="369108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Obje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43280" y="3481560"/>
            <a:ext cx="576108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jetivo. Obliga al juez a convencerse del desequilib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tre lo realizable y crédito vs. prestaciones exigi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e mira aún todas las operaciones aceleradas, sino a 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mplimiento de acuerdo con el pacto origi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52640" y="51386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Insalv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84360" y="5362560"/>
            <a:ext cx="3049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771640" y="5210280"/>
            <a:ext cx="669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didas comunes de mercado, de acceso al crédito de mercad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van a revertir la situación. Hay iliquidez cró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195280" y="3913200"/>
            <a:ext cx="144360" cy="0"/>
          </a:xfrm>
          <a:prstGeom prst="line">
            <a:avLst/>
          </a:prstGeom>
          <a:ln w="9360">
            <a:solidFill>
              <a:srgbClr val="cc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268360" y="3625920"/>
            <a:ext cx="648000" cy="28728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68360" y="3913200"/>
            <a:ext cx="574920" cy="50472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3413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62200" y="1700280"/>
            <a:ext cx="49705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35280" y="1797120"/>
            <a:ext cx="53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oncepto de Cesación de Pagos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(Puga y Bofi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5280" y="2708280"/>
            <a:ext cx="84247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do patrimonial vicioso y complejo que se obtiene de comparar su liquidez (acti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quidables y circulantes + capacidad de acceso a fuentes de financiamiento) y su pa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ible, de modo que pone a su titular en la incapacidad objetiva de cumplir, actual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tencialmente, los compromisos que le afect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8920" y="4532400"/>
            <a:ext cx="37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ferencia – T° Amplia / Restringida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691080" y="4724280"/>
            <a:ext cx="3045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605480"/>
            <a:ext cx="576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blema de prue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4941720"/>
            <a:ext cx="576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ás cómoda la restring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5326200"/>
            <a:ext cx="576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uenos argumentos en derecho positivo chil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91080" y="5084640"/>
            <a:ext cx="3045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691080" y="5445000"/>
            <a:ext cx="3045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895480" y="44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290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105264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824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8080" y="824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824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8487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0773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3059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623960" y="36684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7520" y="1220760"/>
            <a:ext cx="21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° Amplia en Chil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467080" y="1414440"/>
            <a:ext cx="3045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98920" y="1255680"/>
            <a:ext cx="576072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uede justificarse si se entiende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66560" y="1646280"/>
            <a:ext cx="86425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usales son “Hechos Revelador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causales amplias y restringidas de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indicio del mal estado de los negocios del deudor que constituyen los hechos reveladores, autoriza a alterar la carga de la prueba (Posición injusta para el acree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alta de acceso a información patrimonial del deud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faculta entonces una declaración de quiebra prima facie, presunción simplemente leg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deja al deudor declarado en quiebra la carga de acreditar la sanidad del patrimonio, mediante el Recurso de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ayoría autores: restring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o ley exige convicción al juez para declarar la quiebra. Si la ley aceptara el mero incumplimiento no habría sido necesario hacerl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tibieza del texto es adjetiva             cuestión de prueba, no de fondo</a:t>
            </a: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9640" y="1198440"/>
            <a:ext cx="583272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08360" y="6165720"/>
            <a:ext cx="287280" cy="142920"/>
          </a:xfrm>
          <a:prstGeom prst="rightArrow">
            <a:avLst>
              <a:gd name="adj1" fmla="val 50000"/>
              <a:gd name="adj2" fmla="val 502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895480" y="44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90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480" y="9795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824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824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824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8487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0773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3059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623960" y="36684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74920" y="5086440"/>
            <a:ext cx="1152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tinu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g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203640" y="4076640"/>
            <a:ext cx="1439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dminist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Negocio fall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sasimient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995640" y="27813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4920" y="5950080"/>
            <a:ext cx="1152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érmino d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endCxn id="538" idx="0"/>
          </p:cNvCxnSpPr>
          <p:nvPr/>
        </p:nvCxnSpPr>
        <p:spPr>
          <a:xfrm>
            <a:off x="3850920" y="4726080"/>
            <a:ext cx="1080" cy="317880"/>
          </a:xfrm>
          <a:prstGeom prst="straightConnector1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3564000" y="2278080"/>
            <a:ext cx="863640" cy="504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J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116000" y="1557360"/>
            <a:ext cx="22305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00720" y="1628640"/>
            <a:ext cx="2017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udor / Fall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3634920" y="177336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40" idx="3"/>
          </p:cNvCxnSpPr>
          <p:nvPr/>
        </p:nvCxnSpPr>
        <p:spPr>
          <a:xfrm>
            <a:off x="3346200" y="1773360"/>
            <a:ext cx="6498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1" idx="1"/>
          </p:cNvCxnSpPr>
          <p:nvPr/>
        </p:nvCxnSpPr>
        <p:spPr>
          <a:xfrm flipH="1">
            <a:off x="3994920" y="1809360"/>
            <a:ext cx="50580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5" name=""/>
          <p:cNvSpPr/>
          <p:nvPr/>
        </p:nvSpPr>
        <p:spPr>
          <a:xfrm>
            <a:off x="3419640" y="3070080"/>
            <a:ext cx="1079280" cy="720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ín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24360" y="3789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851280" y="4739760"/>
            <a:ext cx="0" cy="287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/>
          <p:nvPr/>
        </p:nvCxnSpPr>
        <p:spPr>
          <a:xfrm>
            <a:off x="3850920" y="5711760"/>
            <a:ext cx="1080" cy="239040"/>
          </a:xfrm>
          <a:prstGeom prst="straightConnector1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 flipV="1">
            <a:off x="3851280" y="5591160"/>
            <a:ext cx="0" cy="287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979640" y="1917720"/>
            <a:ext cx="0" cy="287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"/>
          <p:cNvCxnSpPr/>
          <p:nvPr/>
        </p:nvCxnSpPr>
        <p:spPr>
          <a:xfrm>
            <a:off x="1979280" y="2058480"/>
            <a:ext cx="1080" cy="289440"/>
          </a:xfrm>
          <a:prstGeom prst="straightConnector1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1403280" y="2419200"/>
            <a:ext cx="1079640" cy="720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Junta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Acre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58920" y="3643200"/>
            <a:ext cx="1297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Verificación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réd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14560" y="4653000"/>
            <a:ext cx="151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ago Créd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xtinción Créd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0"/>
          </p:cNvCxnSpPr>
          <p:nvPr/>
        </p:nvCxnSpPr>
        <p:spPr>
          <a:xfrm>
            <a:off x="1979640" y="4195440"/>
            <a:ext cx="2160" cy="384840"/>
          </a:xfrm>
          <a:prstGeom prst="straightConnector1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</p:cxnSp>
      <p:sp>
        <p:nvSpPr>
          <p:cNvPr id="557" name=""/>
          <p:cNvSpPr/>
          <p:nvPr/>
        </p:nvSpPr>
        <p:spPr>
          <a:xfrm flipV="1">
            <a:off x="1979640" y="4208400"/>
            <a:ext cx="0" cy="287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8" name=""/>
          <p:cNvCxnSpPr>
            <a:stCxn id="559" idx="0"/>
          </p:cNvCxnSpPr>
          <p:nvPr/>
        </p:nvCxnSpPr>
        <p:spPr>
          <a:xfrm>
            <a:off x="1978200" y="3211200"/>
            <a:ext cx="2160" cy="384840"/>
          </a:xfrm>
          <a:prstGeom prst="straightConnector1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</p:cxnSp>
      <p:sp>
        <p:nvSpPr>
          <p:cNvPr id="560" name=""/>
          <p:cNvSpPr/>
          <p:nvPr/>
        </p:nvSpPr>
        <p:spPr>
          <a:xfrm flipV="1">
            <a:off x="1978200" y="3224160"/>
            <a:ext cx="0" cy="287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940360" y="2060640"/>
            <a:ext cx="432000" cy="43164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508720" y="2133720"/>
            <a:ext cx="358560" cy="360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"/>
          <p:cNvCxnSpPr/>
          <p:nvPr/>
        </p:nvCxnSpPr>
        <p:spPr>
          <a:xfrm rot="5400000">
            <a:off x="5236560" y="1789200"/>
            <a:ext cx="2989800" cy="2592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 flipH="1">
            <a:off x="6659280" y="15559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/>
          <p:nvPr/>
        </p:nvCxnSpPr>
        <p:spPr>
          <a:xfrm rot="5400000">
            <a:off x="6786000" y="4705200"/>
            <a:ext cx="2485080" cy="216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66" name=""/>
          <p:cNvSpPr/>
          <p:nvPr/>
        </p:nvSpPr>
        <p:spPr>
          <a:xfrm>
            <a:off x="4859280" y="2637000"/>
            <a:ext cx="1081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ctivos d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83280" y="2637000"/>
            <a:ext cx="1081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ctivos fu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la qui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12000" y="3209760"/>
            <a:ext cx="431640" cy="576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580000" y="3209760"/>
            <a:ext cx="432000" cy="5781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03640" y="3932280"/>
            <a:ext cx="1081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as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84720" y="4076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84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84720" y="4292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318360" y="3932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Prefe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310080" y="41482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al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64000" y="5516640"/>
            <a:ext cx="1584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dminist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negocios fuera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la qui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7091280" y="5948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4858920" y="45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268360" y="1052640"/>
            <a:ext cx="331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structura procedimiento de qui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167652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160" y="16905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cree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1676520"/>
            <a:ext cx="1676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16905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e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04352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404352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2 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404352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1 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04352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3 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4038480"/>
            <a:ext cx="76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5" idx="3"/>
            <a:endCxn id="77" idx="1"/>
          </p:cNvCxnSpPr>
          <p:nvPr/>
        </p:nvCxnSpPr>
        <p:spPr>
          <a:xfrm>
            <a:off x="1828800" y="423180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3504960" y="42667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4952880" y="42667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/>
          <p:nvPr/>
        </p:nvCxnSpPr>
        <p:spPr>
          <a:xfrm>
            <a:off x="6400800" y="42667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1" idx="3"/>
            <a:endCxn id="73" idx="1"/>
          </p:cNvCxnSpPr>
          <p:nvPr/>
        </p:nvCxnSpPr>
        <p:spPr>
          <a:xfrm>
            <a:off x="3124080" y="1904760"/>
            <a:ext cx="190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2225520" y="2362320"/>
            <a:ext cx="1194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ere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312408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réd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33080" y="2757600"/>
            <a:ext cx="1469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Obl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2640" y="366408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81720" y="365760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Transform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58160" y="365760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istribu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7200" y="36576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ayor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71520" y="365760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inor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0000" y="365760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onsum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85680" y="4475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41680" y="4495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5960" y="4495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37160" y="4495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81880" y="5029200"/>
            <a:ext cx="3089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ción Bienes y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réditos Concaten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dena de Pag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85" idx="3"/>
            <a:endCxn id="87" idx="1"/>
          </p:cNvCxnSpPr>
          <p:nvPr/>
        </p:nvCxnSpPr>
        <p:spPr>
          <a:xfrm>
            <a:off x="3429000" y="2550960"/>
            <a:ext cx="1502640" cy="396000"/>
          </a:xfrm>
          <a:prstGeom prst="straightConnector1">
            <a:avLst/>
          </a:prstGeom>
          <a:ln w="28440">
            <a:solidFill>
              <a:srgbClr val="cc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6" idx="3"/>
            <a:endCxn id="87" idx="1"/>
          </p:cNvCxnSpPr>
          <p:nvPr/>
        </p:nvCxnSpPr>
        <p:spPr>
          <a:xfrm flipV="1">
            <a:off x="3411000" y="2945520"/>
            <a:ext cx="1520280" cy="367560"/>
          </a:xfrm>
          <a:prstGeom prst="straightConnector1">
            <a:avLst/>
          </a:prstGeom>
          <a:ln w="28440">
            <a:solidFill>
              <a:srgbClr val="cc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5" idx="2"/>
            <a:endCxn id="86" idx="0"/>
          </p:cNvCxnSpPr>
          <p:nvPr/>
        </p:nvCxnSpPr>
        <p:spPr>
          <a:xfrm>
            <a:off x="2822040" y="2738160"/>
            <a:ext cx="18360" cy="386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89548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9480" y="290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9921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09480" y="8366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38080" y="8366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66680" y="8366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8487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773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623960" y="36684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395360" y="134136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D°Concu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8320" y="1844640"/>
            <a:ext cx="2643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) Previ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i) Regulari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ii) Repr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37960" y="1998720"/>
            <a:ext cx="1939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gún naturale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s normas 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gulan 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70480" y="1898640"/>
            <a:ext cx="3032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) Conve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i) Administ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ii) Jud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59280" y="3500280"/>
            <a:ext cx="244944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02480" y="3718080"/>
            <a:ext cx="22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° Concursal Jud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286160" y="4221000"/>
            <a:ext cx="432000" cy="576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3854160" y="4221000"/>
            <a:ext cx="431640" cy="5781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82920" y="4941720"/>
            <a:ext cx="25941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QUIEBRA O JUICI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06560" y="4941720"/>
            <a:ext cx="21621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ESIÓN DE BIE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96000" y="242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30560" y="242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51720" y="134136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D°Concu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4842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54480" y="14842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148428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48000" y="14842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cumpl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/>
          <p:nvPr/>
        </p:nvCxnSpPr>
        <p:spPr>
          <a:xfrm>
            <a:off x="3429000" y="17125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61920" y="2349360"/>
            <a:ext cx="56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cumplimiento de una obligación de ejecución difer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7600" y="2836800"/>
            <a:ext cx="301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luciones Derecho Comú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50000" y="234936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cución instantá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20200" y="2836800"/>
            <a:ext cx="267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cución de obliga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cumpl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2981160"/>
            <a:ext cx="228600" cy="152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8600" y="3587760"/>
            <a:ext cx="30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ligaciones concate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5880" y="3587760"/>
            <a:ext cx="531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cumplimiento introduce anormalidad que af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s de varios acto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8480" y="3740040"/>
            <a:ext cx="152280" cy="152640"/>
          </a:xfrm>
          <a:custGeom>
            <a:avLst/>
            <a:gdLst>
              <a:gd name="textAreaLeft" fmla="*/ 23760 w 152280"/>
              <a:gd name="textAreaRight" fmla="*/ 133560 w 1522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4273560"/>
            <a:ext cx="152640" cy="152280"/>
          </a:xfrm>
          <a:custGeom>
            <a:avLst/>
            <a:gdLst>
              <a:gd name="textAreaLeft" fmla="*/ 23760 w 152640"/>
              <a:gd name="textAreaRight" fmla="*/ 133560 w 1526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55040" y="4121280"/>
            <a:ext cx="451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propias de intermediarios (comercian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14080" y="4502160"/>
            <a:ext cx="46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lo explica relación histórica entre “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QUIEBRA”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COMERCIA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32000" y="4578480"/>
            <a:ext cx="152640" cy="152280"/>
          </a:xfrm>
          <a:custGeom>
            <a:avLst/>
            <a:gdLst>
              <a:gd name="textAreaLeft" fmla="*/ 23760 w 152640"/>
              <a:gd name="textAreaRight" fmla="*/ 133560 w 1526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5880" y="5229360"/>
            <a:ext cx="527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cumplimiento obligaciones concatenadas PUE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5600" y="5084640"/>
            <a:ext cx="29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venir de falta de solv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22440" y="5389560"/>
            <a:ext cx="27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vocar falta de solv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181480" y="5229000"/>
            <a:ext cx="914400" cy="152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5373720"/>
            <a:ext cx="914400" cy="152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236000" y="6197760"/>
            <a:ext cx="1688760" cy="3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805360"/>
            <a:ext cx="800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lvencia      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solvens        acción o efecto de solventar        extinguir la obligación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95400" y="5940360"/>
            <a:ext cx="228600" cy="152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5040" y="5940360"/>
            <a:ext cx="228600" cy="152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5940360"/>
            <a:ext cx="228600" cy="152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805360"/>
            <a:ext cx="835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56520" y="3068640"/>
            <a:ext cx="238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[Medidas Auxiliare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acreedore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24360" y="3068640"/>
            <a:ext cx="719280" cy="14436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724360" y="2923920"/>
            <a:ext cx="719280" cy="152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35280" y="2732040"/>
            <a:ext cx="224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[ejecución individu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80000" y="2492280"/>
            <a:ext cx="360360" cy="144720"/>
          </a:xfrm>
          <a:prstGeom prst="leftRightArrow">
            <a:avLst>
              <a:gd name="adj1" fmla="val 50000"/>
              <a:gd name="adj2" fmla="val 4957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15238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54480" y="15238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152388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48000" y="15238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cumpl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/>
          <p:nvPr/>
        </p:nvCxnSpPr>
        <p:spPr>
          <a:xfrm>
            <a:off x="3429000" y="17521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443520" y="2209680"/>
            <a:ext cx="292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cumplimiento volu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82840" y="2286000"/>
            <a:ext cx="381240" cy="228600"/>
          </a:xfrm>
          <a:custGeom>
            <a:avLst/>
            <a:gdLst>
              <a:gd name="textAreaLeft" fmla="*/ 59400 w 381240"/>
              <a:gd name="textAreaRight" fmla="*/ 333720 w 3812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3280" y="2209680"/>
            <a:ext cx="32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uedo, pero no quiero cumpli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35320" y="2209680"/>
            <a:ext cx="224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[Ejecución individu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24800" y="2317680"/>
            <a:ext cx="152280" cy="152640"/>
          </a:xfrm>
          <a:custGeom>
            <a:avLst/>
            <a:gdLst>
              <a:gd name="textAreaLeft" fmla="*/ 23760 w 152280"/>
              <a:gd name="textAreaRight" fmla="*/ 133560 w 1522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6640" y="3137040"/>
            <a:ext cx="386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 hay insolvencia de un actor de l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ligaciones concate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04360" y="3200400"/>
            <a:ext cx="343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uede provocar otras insolv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73560" y="3384720"/>
            <a:ext cx="7621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7280" y="3505320"/>
            <a:ext cx="0" cy="3492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640" y="2514600"/>
            <a:ext cx="31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cumplimiento involu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35480" y="25909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2200" y="2514600"/>
            <a:ext cx="31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ero cumplir, pero no pue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71600" y="251460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[Insolvenci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11840" y="2622600"/>
            <a:ext cx="152640" cy="152280"/>
          </a:xfrm>
          <a:custGeom>
            <a:avLst/>
            <a:gdLst>
              <a:gd name="textAreaLeft" fmla="*/ 23760 w 152640"/>
              <a:gd name="textAreaRight" fmla="*/ 133560 w 1526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43400" y="3733920"/>
            <a:ext cx="27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[D° Concursal Preventiv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0120" y="4143240"/>
            <a:ext cx="48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uesta la insolvencia, la sanidad del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e solución total, colectiva y univer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11640" y="4343400"/>
            <a:ext cx="38124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55360" y="4159080"/>
            <a:ext cx="37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gularidad del orden pb.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00800" y="4451400"/>
            <a:ext cx="0" cy="3492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44480" y="4692600"/>
            <a:ext cx="307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[D° Concursal Regularizado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" y="5105520"/>
            <a:ext cx="430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 la insolvencia viene precedida de a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líc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334120"/>
            <a:ext cx="38124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94080" y="5149800"/>
            <a:ext cx="201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itos concur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94320" y="5442120"/>
            <a:ext cx="0" cy="3492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39440" y="5683320"/>
            <a:ext cx="26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[D° Concursal Represiv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3048120"/>
            <a:ext cx="84582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15238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48040" y="15238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° Concu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99080" y="152388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80320" y="15238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/>
          <p:nvPr/>
        </p:nvCxnSpPr>
        <p:spPr>
          <a:xfrm>
            <a:off x="3998880" y="17521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81720" y="224784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99"/>
                </a:solidFill>
                <a:uFillTx/>
                <a:latin typeface="Tahoma"/>
              </a:rPr>
              <a:t>La Prev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27280" y="2565360"/>
            <a:ext cx="5113440" cy="36003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61920" y="2674800"/>
            <a:ext cx="4798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onvenio Extrajudicial Preventiv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(artícu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43 N°4 y 169 y siguientes de la Ley 18.17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onvenio Judicial Preventiv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(artículos 173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guientes de la Ley 18.17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Intervencione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(artículos 199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guientes de la Ley 18.175 y artículos 293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guientes del Código de Procedimiento Civ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92480" y="15238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51320" y="15238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°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oncu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02360" y="152388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83600" y="15238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/>
          <p:nvPr/>
        </p:nvCxnSpPr>
        <p:spPr>
          <a:xfrm>
            <a:off x="4492440" y="175212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400" y="22478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La Solucio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2133720"/>
            <a:ext cx="6553440" cy="40320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73560" y="1844640"/>
            <a:ext cx="6930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l Juicio de Quiebr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(Ley 18.175, normas repartidas en otr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erpos legales: Código Civil, Código de Comercio Código Orgánic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ibunales y Código de Procedimiento Civ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onvenio Alzatorio o simplemente judicial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artículo 173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guientes de la Ley 18.175, salvo las que se refieran expresamente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onvenios judiciales preventiv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esión de Biene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(artículos 246 y siguientes de la Ley 18.175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tículos 1614 y siguientes del Código Civ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iquidaciones: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ebra de Bancos e Instituciones Financie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Título XV, entre los artículos 117 y siguientes del D.F.L. 25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ebra de Compañías de Seguro  (artículos 65 y siguientes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.F.L. 251) Liquidación de A.F.P.(D.L. 3500). Quiebra de ISA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Ley 18.93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712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3432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92480" y="15238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51320" y="15238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° Concu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02360" y="152388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83600" y="15238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/>
          <p:nvPr/>
        </p:nvCxnSpPr>
        <p:spPr>
          <a:xfrm>
            <a:off x="4492440" y="175212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0040" y="22478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cc"/>
                </a:solidFill>
                <a:uFillTx/>
                <a:latin typeface="Tahoma"/>
              </a:rPr>
              <a:t>La Re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484360" y="2421000"/>
            <a:ext cx="5256360" cy="129528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94640" y="2459160"/>
            <a:ext cx="4890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rime conductas vinculadas a la insolven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itos Relacionados con la Quiebra (Tít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XIII de la Ley 18.17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9520" y="451800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D°Concu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085840" y="4597200"/>
            <a:ext cx="914400" cy="152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85840" y="4749840"/>
            <a:ext cx="914400" cy="152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96000" y="4419720"/>
            <a:ext cx="39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insolvencia es causa de su a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38120" y="4764240"/>
            <a:ext cx="541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objeto es: (i) resguardo del créd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i) respeto a la “par condicti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ii) sanidad del mercado, cadena de pa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1676520"/>
            <a:ext cx="2819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1960" y="17524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° Concursal Regulariz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17840" y="175248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jecución Individ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00600" y="1676520"/>
            <a:ext cx="2819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4120" y="2722680"/>
            <a:ext cx="276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5040" y="2362320"/>
            <a:ext cx="38260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Base: Insolv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Organiza la solución de la insolvencia, tomando en cuenta la perspectiva de todos los acreedo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ferencias se aplican irrestrictamente, como parte del principio de igualdad de todos los acreedores “par condictio creditorum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agos se distribuyen ciñéndose a las reglas de proporcion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barca la universalidad de los bienes del insolv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08440" y="2286000"/>
            <a:ext cx="38260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Base: Incumpl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Beneficia a un acreedor, aplicando orden de lleg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ferencias sólo se aplican si es solicitada en forma expresa por el interesado (tercería de prelació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porcionalidad en pagos (tercería de pago) debe solicita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 refiere a los bienes necesarios para cumplir la obligació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3000" y="1484280"/>
            <a:ext cx="6629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57440" y="1628640"/>
            <a:ext cx="5406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upuesto del D° Concurs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Mal estado de los negocios. Cesación de pago. Insolvenc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23600" y="2421000"/>
            <a:ext cx="82162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ma discutido en doctrina, sin solución ú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fusa utilización en textos positi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á claro que va más allá del concepto de incumpl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lgunos ven insolvencia y cesación de pago como fenómenos distintos; donde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insolvenci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: diferencia negativa entre activo y pasivo,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esación de pag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: el estado de incapacidad objetiv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mplir los compromisos credit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 lo equipar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lance Financi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lujo de Caja Ef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4292640"/>
            <a:ext cx="3049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14360" y="4797360"/>
            <a:ext cx="3049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4-03-10T21:30:28Z</dcterms:modified>
  <cp:revision>33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41630283</vt:r8>
  </property>
  <property fmtid="{D5CDD505-2E9C-101B-9397-08002B2CF9AE}" pid="3" name="_AuthorEmail">
    <vt:lpwstr>ayuri@grasty.cl</vt:lpwstr>
  </property>
  <property fmtid="{D5CDD505-2E9C-101B-9397-08002B2CF9AE}" pid="4" name="_AuthorEmailDisplayName">
    <vt:lpwstr>Ana Maria Yuri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