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EC52C-0DE5-465C-BD2F-43609CF51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C4DC-87E4-44B3-BB84-B98AE6A0D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6A36E-FDDD-420A-971D-CADE4469F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51DA0-7284-494C-829C-137B21455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50BB0-DCA2-4DD4-B4EA-8D5B42E0A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5C66E-D866-42E1-A56A-159BD21AE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E2824-349F-4335-8503-80AA398D0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D49C7-431B-4286-8EB4-43639CCBE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63BA4-9861-47D5-A787-8B130409F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A916B-2B4C-4F4C-AE53-96A098463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4021-CDC9-4FC6-B863-928B6F94A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A8A7B-C705-4C8D-B521-DAEEEE877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A071-DB4A-4A3E-9311-737B1BBFE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rech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prevención general y especial).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o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certeza científic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iosegu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ndas de radiodifus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a luz de la materia pasada analice las siguientes situaciones y argumente a su respecto.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está analizando un sudsidio a la conservación de bosque nativo, de modo que se pagarán ciertas cantidades a los dueños de terrenos con bosque nativo que no lo exploten.</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están estudiando nuevas normas de emisión para aquellas empresas que emiten mercurio al ambiente. Dado los altos costo de control, se está analizando la introducción de incentivos tributarios a quienes cumplan las normas con un año de anticipación a su vig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n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tir subsidios o incentivos fiscales para cumplir con la normativa ambiental.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t>
            </a:r>
            <a:endParaRPr b="0" lang="en-US" sz="2800" spc="-1" strike="noStrike">
              <a:solidFill>
                <a:srgbClr val="000000"/>
              </a:solidFill>
              <a:latin typeface="Times New Roman"/>
            </a:endParaRPr>
          </a:p>
          <a:p>
            <a:pPr lvl="1" marL="727920" indent="-280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o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4-03-15T18:05:35Z</dcterms:modified>
  <cp:revision>6</cp:revision>
  <dc:subject/>
  <dc:title>PowerPoint Presentation</dc:title>
</cp:coreProperties>
</file>