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60EE99-79CA-45BF-A182-E0E47E6F76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DDB43-E734-42D3-BF84-71CB82C29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E322A5-57A4-4980-8167-4D4F06F3FF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6B92A7-FB5F-42B8-A4BC-1CBEA78BBF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B3489-74F7-459A-8D81-4090466E2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EE146-E191-4025-B6F1-B3C9A027B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98C6C-CD53-4652-A78D-B09B22C24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A29BC-2F2D-4C82-BC15-8A30DF05C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6C9D2-6400-45A4-91A3-694E1A456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3A106-F8B0-4164-A2BD-F10D9D3DA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9B0DE-196C-45E7-961A-FE091C678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28A6D-57CB-4E4E-B788-1AD35191D9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787F9-1048-4771-8483-365CB22533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s Derecho Ambiental</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rso Derecho Ambiental</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Javier Vergar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Derecho a la Informacion</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l Derecho – Deber</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recho para los ciudadano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ber para la autoridad en ciertos caso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ber para los entes regulados en determinados casos: ( manejo de sustancias o desechos peligros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de la Prevención</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vitar las producción de efectos ambientales antes que su reparación.</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Normas de calidad y emisió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stema de Evaluación de Impacto Ambiental</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stema de responsabilidad (prevención general y especial). </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del Gradualismo</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Gradualidad en el establecimientos de nuevos estándar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lazos adecuados para tomar medidas de control de contaminación o para la aplicación de nuevos estándares</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Precautorio</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incipio 15 Declaracion de Río:</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	</a:t>
            </a:r>
            <a:r>
              <a:rPr b="0" lang="es-CL" sz="3200" spc="-1" strike="noStrike">
                <a:solidFill>
                  <a:srgbClr val="000000"/>
                </a:solidFill>
                <a:latin typeface="Tahoma"/>
              </a:rPr>
              <a:t>“</a:t>
            </a:r>
            <a:r>
              <a:rPr b="0" lang="es-CL" sz="3200" spc="-1" strike="noStrike">
                <a:solidFill>
                  <a:srgbClr val="000000"/>
                </a:solidFill>
                <a:latin typeface="Tahoma"/>
              </a:rPr>
              <a:t>Cuando haya peligro de daño grave o irreversible, la falta de certeza científica absoluta no deberá utilizarse como razón para postergar la adopción de medidas eficaces en función de los costos para impedir la degradación del medio ambiente.”</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Precautorio</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ncerteza científica</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Biosegurida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Ondas de radiodifus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la luz de la materia pasada analice las siguientes situaciones y argumente a su respecto. </a:t>
            </a:r>
            <a:endParaRPr b="0" lang="en-US" sz="2800" spc="-1" strike="noStrike">
              <a:solidFill>
                <a:srgbClr val="000000"/>
              </a:solidFill>
              <a:latin typeface="Times New Roman"/>
            </a:endParaRPr>
          </a:p>
          <a:p>
            <a:pPr lvl="1" marL="683280" indent="-262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está analizando un sudsidio a la conservación de bosque nativo, de modo que se pagarán ciertas cantidades a los dueños de terrenos con bosque nativo que no lo exploten.</a:t>
            </a:r>
            <a:endParaRPr b="0" lang="en-US" sz="2400" spc="-1" strike="noStrike">
              <a:solidFill>
                <a:srgbClr val="000000"/>
              </a:solidFill>
              <a:latin typeface="Times New Roman"/>
            </a:endParaRPr>
          </a:p>
          <a:p>
            <a:pPr lvl="1" marL="683280" indent="-262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están estudiando nuevas normas de emisión para aquellas empresas que emiten mercurio al ambiente. Dado los altos costo de control, se está analizando la introducción de incentivos tributarios a quienes cumplan las normas con un año de anticipación a su vigenci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ha definido que el sector termoeléctrico tiene altos niveles de emisión de SO2. Se ha propuesto tomar medidas inmediatas exigiendo en el plazo de seis meses la reducción de las emisiones de esas instalaciones en un 50%.</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ha está produciendo inquietud sobre la líneas de alta tensión, en cuanto a los efectos en salud que puede tener para quienes viven en sus cercanías. No existe una norma sobre el particular, pero se decide establecer una norma de emisión para esas instalaciones.</a:t>
            </a:r>
            <a:endParaRPr b="0" lang="en-US" sz="2400" spc="-1" strike="noStrike">
              <a:solidFill>
                <a:srgbClr val="000000"/>
              </a:solidFill>
              <a:latin typeface="Times New Roman"/>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stamos en un pequeño valle con pocas casas, pero donde las emisiones de las chimeneas de las casas están causando un problema de aumento de concentraciones ambientales. Señale formas de regular ese problem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ontamina Paga</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t>
            </a:r>
            <a:r>
              <a:rPr b="0" lang="es-CL" sz="2800" spc="-1" strike="noStrike">
                <a:solidFill>
                  <a:srgbClr val="000000"/>
                </a:solidFill>
                <a:latin typeface="Tahoma"/>
              </a:rPr>
              <a:t>El particular que actualmente contamina o que lo haga en el futuro debe incorporar en sus costos de producción todas las inversiones necesarias para evitar la contaminación”  (Mensaje ley de Bases) internalizar las externalidad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e deben desarrollan instrumentos de políticas ambientales tendientes a internalizar estos cos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ontamina Paga: Instrumentos de mercado (excepciones al principio)</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ncepto general del principio, es que no pueden exitir subsidios o incentivos fiscales para cumplir con la normativa ambiental. </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xcepciones al principio: </a:t>
            </a:r>
            <a:endParaRPr b="0" lang="en-US" sz="2800" spc="-1" strike="noStrike">
              <a:solidFill>
                <a:srgbClr val="000000"/>
              </a:solidFill>
              <a:latin typeface="Times New Roman"/>
            </a:endParaRPr>
          </a:p>
          <a:p>
            <a:pPr lvl="1" marL="727920" indent="-280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tuaciones externalidades positivas. </a:t>
            </a:r>
            <a:endParaRPr b="0" lang="en-US" sz="2400" spc="-1" strike="noStrike">
              <a:solidFill>
                <a:srgbClr val="000000"/>
              </a:solidFill>
              <a:latin typeface="Times New Roman"/>
            </a:endParaRPr>
          </a:p>
          <a:p>
            <a:pPr lvl="1" marL="727920" indent="-280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equeñas industrias (habitualmente costos de desarrollo, asimetrías de información).</a:t>
            </a:r>
            <a:endParaRPr b="0" lang="en-US" sz="2400" spc="-1" strike="noStrike">
              <a:solidFill>
                <a:srgbClr val="000000"/>
              </a:solidFill>
              <a:latin typeface="Times New Roman"/>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ontamina Paga: Instrumentos de Mercado</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mpuest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Tarifa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ermisos de emisión transabl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positos retornables</a:t>
            </a:r>
            <a:r>
              <a:rPr b="0" lang="es-CL"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ontamina Paga: Instrumentos de Regulación Directa</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Normas de calidad ambiental</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Normas de emisió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Normas de proceso</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ohibicione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 </a:t>
            </a:r>
            <a:r>
              <a:rPr b="0" lang="es-CL" sz="4400" spc="-1" strike="noStrike">
                <a:solidFill>
                  <a:srgbClr val="800000"/>
                </a:solidFill>
                <a:latin typeface="Tahoma"/>
              </a:rPr>
              <a:t>Contamina Paga: Instrumentos de aceptabilidad social</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ducación Ambiental</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nvestiga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ontamina Paga: Instrumentos voluntario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uditorias (vinculados a mercad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cuerdos voluntarios, compromisos voluntarios, autoregulació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de Responsabilidad</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Quien genera daños ambientales debe repararl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iseños especiales de sistemas de responsabilidad  en materia ambiental ( en términos generales o para determinadas actividad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anifestación del principio del que Contamina Pag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Participativo</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as personas tienen derecho a participar en el desarrollo de los procesos ambiental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recho – Deber de Informar</a:t>
            </a:r>
            <a:r>
              <a:rPr b="0" lang="es-CL"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avier Vergara</cp:lastModifiedBy>
  <dcterms:modified xsi:type="dcterms:W3CDTF">2004-03-15T18:05:35Z</dcterms:modified>
  <cp:revision>6</cp:revision>
  <dc:subject/>
  <dc:title>PowerPoint Presentation</dc:title>
</cp:coreProperties>
</file>