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D5852-7408-4C54-BE60-37E9E4AAA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A7CFE-F746-4703-A403-E7A3A090D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70FC1-4B1D-4FD1-B290-939C7AADC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6F2E7-4C88-40D5-9D0C-E95B920C4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F2B22-A753-439D-A17B-3F930A966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E9DDD-85D2-4607-8DF2-FE2975EA6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93E91-054E-404A-AA3F-62A19C700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6D601-7C91-4A3E-A4AF-B73CC9383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F43FB-BC9C-41E0-92CB-5A5981E0D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7B0C7-AF75-4E39-96A0-FEBCF713E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B67EA-BAB5-4BAE-B4AB-199A98B4A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EE206-A023-4BDF-9723-BBA9830A1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256B-3B9F-4C86-B20A-E7A7980045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s Derecho Ambienta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 la Informaci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Derecho – Deb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para los ciudadan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a autoridad en ciertos cas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os entes regulados en determinados casos: ( manejo de sustancias o desechos peligros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la Prevenció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vitar las producción de efectos ambientales antes que su reparació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calidad y emis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Evaluación de Impacto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responsabilidad (prevención general y especial). </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l Gradualismo</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adualidad en el establecimientos de nuevos estánda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lazos adecuados para tomar medidas de control de contaminación o para la aplicación de nuevos estándare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ncipio 15 Declaracion de Rí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a:t>
            </a:r>
            <a:r>
              <a:rPr b="0" lang="es-CL" sz="3200" spc="-1" strike="noStrike">
                <a:solidFill>
                  <a:srgbClr val="000000"/>
                </a:solidFill>
                <a:latin typeface="Tahoma"/>
              </a:rPr>
              <a:t>“</a:t>
            </a:r>
            <a:r>
              <a:rPr b="0" lang="es-CL" sz="3200" spc="-1" strike="noStrike">
                <a:solidFill>
                  <a:srgbClr val="000000"/>
                </a:solidFill>
                <a:latin typeface="Tahoma"/>
              </a:rPr>
              <a:t>Cuando haya peligro de daño grave o irreversible, la falta de certeza científica absoluta no deberá utilizarse como razón para postergar la adopción de medidas eficaces en función de los costos para impedir la degradación del medio ambient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certeza científic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ioseguri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ndas de radiodifus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la luz de la materia pasada analice las siguientes situaciones y argumente a su respecto.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está analizando un sudsidio a la conservación de bosque nativo, de modo que se pagarán ciertas cantidades a los dueños de terrenos con bosque nativo que no lo exploten.</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están estudiando nuevas normas de emisión para aquellas empresas que emiten mercurio al ambiente. Dado los altos costo de control, se está analizando la introducción de incentivos tributarios a quienes cumplan las normas con un año de anticipación a su vigenc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ha definido que el sector termoeléctrico tiene altos niveles de emisión de SO2. Se ha propuesto tomar medidas inmediatas exigiendo en el plazo de seis meses la reducción de las emisiones de esas instalaciones en un 50%.</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ha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2400" spc="-1" strike="noStrike">
              <a:solidFill>
                <a:srgbClr val="000000"/>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t>
            </a:r>
            <a:r>
              <a:rPr b="0" lang="es-CL" sz="2800" spc="-1" strike="noStrike">
                <a:solidFill>
                  <a:srgbClr val="000000"/>
                </a:solidFill>
                <a:latin typeface="Tahoma"/>
              </a:rPr>
              <a:t>El particular que actualmente contamina o que lo haga en el futuro debe incorporar en sus costos de producción todas las inversiones necesarias para evitar la contaminación”  (Mensaje ley de Bases) internalizar las externalidad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eben desarrollan instrumentos de políticas ambientales tendientes a internalizar estos co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excepciones al principio)</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pto general del principio, es que no pueden exitir subsidios o incentivos fiscales para cumplir con la normativa ambiental.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xcepciones al principio: </a:t>
            </a:r>
            <a:endParaRPr b="0" lang="en-US" sz="2800" spc="-1" strike="noStrike">
              <a:solidFill>
                <a:srgbClr val="000000"/>
              </a:solidFill>
              <a:latin typeface="Times New Roman"/>
            </a:endParaRPr>
          </a:p>
          <a:p>
            <a:pPr lvl="1" marL="727920" indent="-280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tuaciones externalidades positivas. </a:t>
            </a:r>
            <a:endParaRPr b="0" lang="en-US" sz="2400" spc="-1" strike="noStrike">
              <a:solidFill>
                <a:srgbClr val="000000"/>
              </a:solidFill>
              <a:latin typeface="Times New Roman"/>
            </a:endParaRPr>
          </a:p>
          <a:p>
            <a:pPr lvl="1" marL="727920" indent="-280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queñas industrias (habitualmente costos de desarrollo, asimetrías de información).</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ues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rif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misos de emisión transab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positos retornables</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Regulación Direct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calidad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em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proce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hib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 </a:t>
            </a:r>
            <a:r>
              <a:rPr b="0" lang="es-CL" sz="4400" spc="-1" strike="noStrike">
                <a:solidFill>
                  <a:srgbClr val="800000"/>
                </a:solidFill>
                <a:latin typeface="Tahoma"/>
              </a:rPr>
              <a:t>Contamina Paga: Instrumentos de aceptabilidad socia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ducación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estig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voluntario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uditorias (vinculados a merc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uerdos voluntarios, compromisos voluntarios, autoregulació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Responsabilidad</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Quien genera daños ambientales debe repararl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eños especiales de sistemas de responsabilidad  en materia ambiental ( en términos generales o para determinadas actividad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anifestación del principio del que Contamina Pag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articipativo</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personas tienen derecho a participar en el desarrollo de los procesos ambient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echo – Deber de Informar</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vier Vergara</cp:lastModifiedBy>
  <dcterms:modified xsi:type="dcterms:W3CDTF">2004-03-15T18:05:35Z</dcterms:modified>
  <cp:revision>6</cp:revision>
  <dc:subject/>
  <dc:title>PowerPoint Presentation</dc:title>
</cp:coreProperties>
</file>