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D37-B509-41CF-B627-75C5B1D9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3E0-DAEA-4C52-86EB-23159CEE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908-4594-41E0-9291-FAD569C8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F1B-1BDF-4D68-8ADD-31B7A5B9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AFD-C2E7-4E31-B20C-01583855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B5C-C0B7-4F2B-BE16-E7A80D92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D3D-586F-4F18-B300-3F6FCBE7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861-9BFE-4DEE-A122-0D164957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CF8-FB77-4C43-8F7A-1735641A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9A1-EBB3-4E9E-83F7-FACA310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450-438A-45E9-BD16-A97D0B04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44E-4FD3-49FA-84BB-AF74F4CC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F808-68E1-43F1-A2C7-D3BE1F1B7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El Derecho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rovers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flictos para regular riqueza de recursos naturales. Invariablemente significa la distribución de d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ones y valores op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aturaleza se caracteriza por tener recursos compart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Orígene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971 Declaración de Foun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972 Declaración de Estocol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988 Comsión Brund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992 Declaración de Rio y la Agenda XX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2002 Rio+10, Conferencia de Sud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6 Etapas del DA en 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recho Común y la Era de la Conservación: Pre 19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sistencia Federal para problemas estatales: 1945-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urgimiento del moderno DA: 1962-19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frastructura regulatoria federal: 1970-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tensión y refinamiento de las tecnicas regulatorias: 1980-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invención de la regulación: 1991-Pres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Que es el D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ula la relación entre el hombre y 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impactos que las conductas del hombre generan en el MA y que redundan en impactos en el h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A no es simpl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reflejar las complejidades que intenta regular: causas físicas y los efectos de la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s simple pues los ecosistemas y las actividades que causan impactos no l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La naturaleza se rehusa a cooper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Amb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. Dificil de comprender por su dimensión espacial y temporal. Un fenómeno puede tener consecuencial multiples, difusas, efectos sinergicos, imposibles de pr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. Cambia muy rapidamente a veces de manera impercep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idumbre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cau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overs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mplej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cosistema en si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conomía altamente industrial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Incertidumbre Cientí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 desafía la capacidad de compren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mensión espacial y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bjetivo de protección: Salud son complejos de determi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venir mas que repa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año ambiental puede tener un crecimiento esponencial. Mientras mas se espera, el daño es mayor que el adic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inam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as las soluciones son provisionar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ujetas a evaluación en la medida que aparece nueva información y las soluciones antiguas son teste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io Leyton F.</cp:lastModifiedBy>
  <dcterms:modified xsi:type="dcterms:W3CDTF">2004-04-01T13:51:3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240423</vt:r8>
  </property>
  <property fmtid="{D5CDD505-2E9C-101B-9397-08002B2CF9AE}" pid="3" name="_AuthorEmail">
    <vt:lpwstr>pleyton@urrutia.cl</vt:lpwstr>
  </property>
  <property fmtid="{D5CDD505-2E9C-101B-9397-08002B2CF9AE}" pid="4" name="_AuthorEmailDisplayName">
    <vt:lpwstr>patricio leyton</vt:lpwstr>
  </property>
  <property fmtid="{D5CDD505-2E9C-101B-9397-08002B2CF9AE}" pid="5" name="_EmailSubject">
    <vt:lpwstr>guías para miercoles</vt:lpwstr>
  </property>
</Properties>
</file>