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B2E-1E6D-4561-9FF2-00B34121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774-C806-4139-AC48-0F04B692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392-72E5-4F7C-8605-38938064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A66-C20E-4F15-9D4F-2A80327D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8FB-6407-4D74-BCAA-B4C4325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C4D-ACF4-48CD-A953-8EE6D8F5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955-BDE7-4F6A-85E1-5D92A76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02C-CAB3-4BD2-85E3-72802C5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7E1-8E37-4D0A-9809-2F828A3F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8F2-742B-4DFE-ABB6-2786630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E55-0ED5-4570-86EA-69D92B9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AC7-08BC-4646-9897-ADD228CB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66F-6AAC-455D-9737-97E86777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rovers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flictos para regular riqueza de recursos naturales. Invariablemente significa la distribución de d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ones y valores o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aturaleza se caracteriza por tener recursos compart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88 Comsión Brund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6 Etapas del DA en 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Común y la Era de la Conservación: Pre 19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sistencia Federal para problemas estatales: 1945-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rgimiento del moderno DA: 1962-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frastructura regulatoria federal: 1970-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tensión y refinamiento de las tecnicas regulatorias: 1980-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invención de la regulación: 1991-Pres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mplej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cosistema en si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conomía altamente industria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certidumbre Cientí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 desafía la capacidad de compren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mensión espacial y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protección: Salud son complejos de determi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venir mas que repa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ño ambiental puede tener un crecimiento esponencial. Mientras mas se espera, el daño es mayor que el adi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inam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as las soluciones son provisionar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jetas a evaluación en la medida que aparece nueva información y las soluciones antiguas son teste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04-01T13:51:3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24042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guías para miercoles</vt:lpwstr>
  </property>
</Properties>
</file>