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965B1-E603-443E-9AE9-EBEADA2F8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AAB39-46FE-4C8C-B12B-735A57C8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55F21-0690-48F1-BDE2-30BAD6D95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9F046-58B3-40B4-8C02-EC7C9F631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0C7AF-40C1-498A-BBDC-23ADFA0C7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01E5E-57DF-4965-B0F8-5BD088D64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323EA-4339-4E9E-BF93-69EE55706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73642-0121-4657-A0DB-AB7628410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94DEB-1F6E-44BF-B792-A0DB0AFE7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C2B28-F865-41D9-A19C-7915A5E77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9E0F3-8716-4447-9C6F-53695A347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183DA-2CFF-4850-A0E5-C97985BC6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A202-A208-4DBD-9095-7717DA27DD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umerosos derechos y garantías a los ciudadan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Puede existir colis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recho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recho a desarrollar actividades económicas lícit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recho de propiedad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26</a:t>
            </a:r>
            <a:r>
              <a:rPr b="1" lang="es-CL"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19 Nº8)</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70" name="PlaceHolder 2"/>
          <p:cNvSpPr>
            <a:spLocks noGrp="1"/>
          </p:cNvSpPr>
          <p:nvPr>
            <p:ph/>
          </p:nvPr>
        </p:nvSpPr>
        <p:spPr>
          <a:xfrm>
            <a:off x="304560" y="1676160"/>
            <a:ext cx="8839080" cy="43434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xiste contaminación si hay </a:t>
            </a:r>
            <a:r>
              <a:rPr b="1" i="1" lang="es-ES_tradnl" sz="2800" spc="-1" strike="noStrike" u="sng">
                <a:solidFill>
                  <a:srgbClr val="000000"/>
                </a:solidFill>
                <a:uFillTx/>
                <a:latin typeface="Tahoma"/>
              </a:rPr>
              <a:t>riesgo </a:t>
            </a:r>
            <a:r>
              <a:rPr b="1" lang="es-ES_tradnl" sz="2800" spc="-1" strike="noStrike">
                <a:solidFill>
                  <a:srgbClr val="000000"/>
                </a:solidFill>
                <a:latin typeface="Tahoma"/>
              </a:rPr>
              <a:t>para la salud o de afectarse recursos naturales: art. 2 letra d)  y art. 2 letra m).</a:t>
            </a:r>
            <a:endParaRPr b="0" lang="en-US" sz="2800" spc="-1" strike="noStrike">
              <a:solidFill>
                <a:srgbClr val="000000"/>
              </a:solidFill>
              <a:latin typeface="Times New Roman"/>
            </a:endParaRPr>
          </a:p>
          <a:p>
            <a:pPr lvl="1" marL="690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26568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90840" indent="-26568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2" marL="10627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8052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n conclus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 podría acreditarse la existencia de riesgo a la salud de la población. El propio Sistema de Evaluación de Impacto Ambiental, lo avala.</a:t>
            </a:r>
            <a:endParaRPr b="0" lang="en-US" sz="20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74"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a:t>
            </a:r>
            <a:r>
              <a:rPr b="1" i="1" lang="es-ES_tradnl" sz="2400" spc="-1" strike="noStrike" u="sng">
                <a:solidFill>
                  <a:srgbClr val="000000"/>
                </a:solidFill>
                <a:uFillTx/>
                <a:latin typeface="Tahoma"/>
              </a:rPr>
              <a:t>El medio ambiente se afecta si se contamina o si se altera de un modo perjudicial para el mejor desarrollo de la vida</a:t>
            </a:r>
            <a:r>
              <a:rPr b="1" lang="es-ES_tradnl" sz="2400" spc="-1" strike="noStrike">
                <a:solidFill>
                  <a:srgbClr val="000000"/>
                </a:solidFill>
                <a:latin typeface="Tahoma"/>
              </a:rPr>
              <a:t>”.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76"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dio Ambiente: 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Se impone al Estado el Deber de velar por la preservación de la naturale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ón Sovietica  1977, otros países de Europa del Este y Central ( esto no habla de la protección efectiva al medio ambiente):</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18: “En interés de la presente y de las futuras generaciones, se adoptan en la U.R.S.S. las medidas necesarias para la protección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medio ambiente mismo (no parec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riterios para definir normas de emisión respecto de diversas fuentes similares (vehículos gasolineros, diesel, diversas fuentes que emiten arsénico, y la norma no es exactamente igu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o se definen los criterios para otorgar los beneficios en virtud del proyecto de ley de Bosque Nativo. Por tipo de especie, cantidades de bosque nativo, es o no discriminatorio.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que se beneficia sólo el bosque nativo y no a quien no ejerce otros derechos (cuotas de captura pesquer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que en materia de bosques se paga a quienes no lo utilizan, y en materia de derechos de agua se pretende imponer una tasa a quienes no lo hacen, existe discriminación arbitraria respecto de uno u otro.</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 19 Nº24)</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expropi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 19 Nº24)</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denominad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rabajo en grupo (que derecho prima):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eclaración monumento natural hecha por D.S. respecto de especies ubicados en propiedad particular que hace explotación productiva de dichos recursos. El D.S. Prohibe  la tala en virtud de convención internacional, aprobada por Chi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triccciones a explotación de bosque nativo en propiedad particular:</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rechazan autorizaciones de tala raza del bosque por el sólo hecho de ser bosque nativ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y exige plan demanejo para asegurar la sustentabilidad de la especi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 </a:t>
            </a:r>
            <a:r>
              <a:rPr b="1" lang="es-CL" sz="1800" spc="-1" strike="noStrike">
                <a:solidFill>
                  <a:srgbClr val="000000"/>
                </a:solidFill>
                <a:latin typeface="Tahoma"/>
              </a:rPr>
              <a:t>Restricciones a propiedad privada en virtud de planes reguladores que emanan de gobierno regional al declarar zonas de protección ecológica;</a:t>
            </a:r>
            <a:endParaRPr b="0" lang="en-US" sz="18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rabajo en grupo:</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a libre de contaminación sea afectado por un acto arbitrario e ilegal imputable a una autoridad  o persona determinada.</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o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l hecho se debe haber consumado, o sólo respecto de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y derecho a gozar de medio ambiente sano es considerado derecho colectivo y no se encuentra en el título de los fundamentales.(Corte Suprema la aceptó en determinados casos a instancia de una ONG, da plazo para que dentro de cierto tiempo se interponga una acción popu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3-24T15:29:13Z</dcterms:modified>
  <cp:revision>13</cp:revision>
  <dc:subject/>
  <dc:title>PowerPoint Presentation</dc:title>
</cp:coreProperties>
</file>