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CFC92-2540-44DD-B7C0-5CA63EEC7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96BB-766D-4037-9489-A08825A8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DA423-F7B6-4262-9D23-0DFC1D8F5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6AF1A-A8EF-4704-9123-B023CE68E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27A01-1733-4A87-9444-A680B9A25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407F8-AE2B-4732-A816-3B9C18519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7CF40-7DE8-4321-838F-48D1EC6ED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67D78-1263-4921-97B1-4BC06519E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FD6F3-2F19-4447-9FB4-AC7A42D9C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CFC7-6E81-4F62-A028-03F806701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8161F-0C72-43E8-A705-F821CD10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0F2E5-90F2-4B53-A3BD-9FACD863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C7BFA-2E0D-4401-B789-561496C4D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800E-AD43-40E3-8D1D-2D540F4AB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7DF7-ABC6-49F7-9DB0-B6A77D6A2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5BF2C-BA3F-4B37-A248-85F4B5DAC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778B9-1FA9-4180-B664-B0EFED714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9E85-8B8C-4872-B059-16BB12954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1BE6-DB92-4343-AA37-4BDDEA9D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DEE8-C533-49D7-899B-586F7BBF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040E-9D88-4BB5-B242-3459321D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53B0-04B1-41F6-963D-D4AB3EFB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CEE2-AA62-4EEE-BF08-C2FE04126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44E3-3DFD-4A4F-A858-5D7CB8D9D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D1A6-5CC2-4F8A-A014-CAF490AF1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4888-BE80-48EB-AB28-3CC0B0145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158"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16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162"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165"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Esquema de la determinación de la Base Imponible del sistema general de Primera Categoría</a:t>
            </a:r>
            <a:r>
              <a:rPr b="0" lang="en-US" sz="3200" spc="-1" strike="noStrike">
                <a:solidFill>
                  <a:srgbClr val="ffcc00"/>
                </a:solidFill>
                <a:latin typeface="Arial"/>
              </a:rPr>
              <a:t> </a:t>
            </a:r>
            <a:endParaRPr b="0" lang="en-US" sz="32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175"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177"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1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18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183"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185"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187"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189"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193"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195"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152"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15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156"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5-26T20:44:54Z</dcterms:modified>
  <cp:revision>74</cp:revision>
  <dc:subject/>
  <dc:title>LEY DE IMPUESTO A LA RENTA</dc:title>
</cp:coreProperties>
</file>