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CEB82-9CFA-4206-A2D2-8D23DDEE2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50F70-660B-4191-8402-0B65A8874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BD5AA-F2EC-450B-911C-CED13B934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968DB-33B4-4181-ADA2-1752E1EFB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DF130-CD2A-4461-A577-0363C60EB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8734C-A5E3-42FC-9034-97ED7EAB9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D0D7C-3FDC-4883-ADE8-4278C09DF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48A17-3237-40EE-91D6-44750B1E5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53E55-06E1-40D8-BD93-BB767BE93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7F43F-E084-4DEE-BAFC-5C9260970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826E-AA04-4E63-BD4F-3730599D8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21C2-35C4-4245-9E88-69038897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26DA7-5068-4B29-B06B-932E02244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555AF-6B27-4EDF-8084-D4340E55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F3E9B-8E0D-4561-AE80-6F9707274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88216-D82D-4516-9710-2B3E38E52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D7977-7F6F-46EB-8EB2-0724ABC37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5C941-7079-42F0-B841-7A6603BDB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EE30-64D2-4BFD-A252-2D5338F08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9B7A-1DEF-418E-8B8A-31D7562B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EDA9-F018-45EE-AD2F-744B72C41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19E5-C0ED-4537-8292-05DEAE4E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7090-EDBC-4D63-AF28-BF960036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A9B9-6630-4D45-9B87-1B210C28E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0F4C-7532-4DD0-B489-4C7AC7A990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99E7-080B-4DAD-8AC5-6A3812142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158"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16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162"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165"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Esquema de la determinación de la Base Imponible del sistema general de Primera Categoría</a:t>
            </a:r>
            <a:r>
              <a:rPr b="0" lang="en-US" sz="3200" spc="-1" strike="noStrike">
                <a:solidFill>
                  <a:srgbClr val="ffcc00"/>
                </a:solidFill>
                <a:latin typeface="Arial"/>
              </a:rPr>
              <a:t> </a:t>
            </a:r>
            <a:endParaRPr b="0" lang="en-US" sz="32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175"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177"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1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18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183"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185"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187"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189"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193"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195"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152"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15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156"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5-26T20:44:54Z</dcterms:modified>
  <cp:revision>74</cp:revision>
  <dc:subject/>
  <dc:title>LEY DE IMPUESTO A LA RENTA</dc:title>
</cp:coreProperties>
</file>