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DEE8E-25CB-4102-A151-0ABAB255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F0E4-B8D6-4731-9212-AFCBB567C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11EDE-2BC2-4FA3-86F7-7589ECCEB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D398D-DE23-4248-ADAF-77F0252D6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B230F-2EAF-4642-9A1C-62FA6AC7B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92F21-6AD4-46B5-8759-DF6824C93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87308-18A7-4C1B-B342-08B7A09C2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76DAD-6E75-48F7-AFBF-CC8702434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84EF8-CEFC-41A6-82D1-A2E4F87D4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18497-406A-495C-B4B3-9983F2B92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EBF09-0FC0-48B4-BE84-77E703E63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F160C-47A0-4897-83B5-CCF56EA25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E0913-8ABD-4C63-858A-E5C6CBFF6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E83F4-018B-4CCD-B47A-2E0A9E3A8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C0EDD-5FB5-4FC0-9D51-76CAF60C8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BDC2D-87D6-42E0-A33B-55C4A8215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D595F-8501-4567-8FB1-CF716D352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317D0-8632-498F-8404-6DED8A8F9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45F1E-D84D-4DF2-BD85-5D07C5040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14900-949F-4479-A051-C839F3BA0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FCDFA-EE32-43EB-8892-C1D835085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63D0-7706-4627-8CF9-42F2DCFE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64A60-0BD3-402C-A8CA-A91CFD00E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70D1C-14E6-48D2-8362-B9E473F62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B955-0A19-455F-BF34-C42A9208D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6C25-C600-4BB8-AAE3-FDEBCCD4C5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158"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160"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162"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165"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16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Esquema de la determinación de la Base Imponible del sistema general de Primera Categoría</a:t>
            </a:r>
            <a:r>
              <a:rPr b="0" lang="en-US" sz="3200" spc="-1" strike="noStrike">
                <a:solidFill>
                  <a:srgbClr val="ffcc00"/>
                </a:solidFill>
                <a:latin typeface="Arial"/>
              </a:rPr>
              <a:t> </a:t>
            </a:r>
            <a:endParaRPr b="0" lang="en-US" sz="32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175"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177"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179"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18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183"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185"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187"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189"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193"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195"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148"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152"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15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156"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4-05-26T20:44:54Z</dcterms:modified>
  <cp:revision>74</cp:revision>
  <dc:subject/>
  <dc:title>LEY DE IMPUESTO A LA RENTA</dc:title>
</cp:coreProperties>
</file>