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3E484-44A0-47BA-BE3B-565BA92F3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37FE1-616F-430F-8C76-90BAA81E7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C8665-D963-4605-91F9-8DD821D96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F299D-468A-44A2-8748-096D53960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8D614-007B-48EF-BB0A-7C69007E7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CCC49-D403-41A3-9B50-CA434DE9A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73443-760E-4F0A-9793-9006814D0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5B4AD-AEC1-431C-8CAE-4E28D693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79BFD-6C78-4EC7-9A6C-D0C9B5DD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8F08-A7CF-4EAA-9CC1-3E1DA980B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20F1-EBAC-430B-8299-0A37CAF4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F3727-D6F4-42C4-99BE-4099CECA6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B6BA-7AD8-424C-B1B5-C381B70D03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Las pérdida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31 Nº3:</a:t>
            </a:r>
            <a:r>
              <a:rPr b="0" i="1" lang="es-ES" sz="1800" spc="-1" strike="noStrike">
                <a:solidFill>
                  <a:srgbClr val="000000"/>
                </a:solidFill>
                <a:latin typeface="Times New Roman"/>
              </a:rPr>
              <a:t>“Las pérdidas sufridas por el negocio o empresa durante el año comercial a que se refiere el impuesto, comprendiendo las que provengan de delitos contra la propiedad.</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	</a:t>
            </a:r>
            <a:r>
              <a:rPr b="0" i="1" lang="es-ES" sz="1800" spc="-1" strike="noStrike">
                <a:solidFill>
                  <a:srgbClr val="000000"/>
                </a:solidFill>
                <a:latin typeface="Times New Roman"/>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990720" y="1467000"/>
          <a:ext cx="7391160" cy="4084560"/>
        </p:xfrm>
        <a:graphic>
          <a:graphicData uri="http://schemas.openxmlformats.org/presentationml/2006/ole">
            <p:oleObj progId="Word.Document.12" r:id="rId1" spid="">
              <p:embed/>
              <p:pic>
                <p:nvPicPr>
                  <p:cNvPr id="63" name="" descr=""/>
                  <p:cNvPicPr/>
                  <p:nvPr/>
                </p:nvPicPr>
                <p:blipFill>
                  <a:blip r:embed="rId2"/>
                  <a:stretch/>
                </p:blipFill>
                <p:spPr>
                  <a:xfrm>
                    <a:off x="990720" y="1467000"/>
                    <a:ext cx="7391160" cy="40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érdidas Físicas o Material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derivan de delitos contra la propiedad o de sucesos de la naturaleza y corresponden pérdidas de activos. Ejemplos: incendios, terremoto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s pérdidas se identifican con activos que pueden estar aseguradas o n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no estar aseguradas se descuentan como gast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estar aseguradas, se deberá confrontar la indemnización del seguro con el valor contable del bien.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 el valor contable del bien es mayor, habrá pérdida por la diferenci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caso contrario, no habrá pérdida sino ren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érdidas Tributari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se producen cuando, durante el respectivo ejercicio, los ingresos han sido menores o inferiores a los costos y gast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onsecuencia, la pérdida tributaria es el resultado de la gestión del negocio durante el ejerci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contempla dos posibilidades para deducir estas pérd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Que hayan utilidades retenidas de ejercicios anteriore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las pérdidas se imputarán a ell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2 hay $84 de utilidades retenidas.</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hay pérdidas por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este caso las pérdidas por $84 del 2003 se imputan contra las utilidades del 2002 por lo que el 2003 no habría pérdidas.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tos $84 se consideran un PPM del ejercicio 2003 y como en este período no hubo utilidades, podría pedir la devolución de este m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Que las pérdidas se imputen contra utilidades futur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iendo pérdidas de arrastre, estas pérdidas pueden imputarse a las utilidades que haya en el perío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000" spc="-1" strike="noStrike">
                <a:solidFill>
                  <a:srgbClr val="000000"/>
                </a:solidFill>
                <a:latin typeface="Times New Roman"/>
              </a:rPr>
              <a:t>Hacia el período 2002 la empresa presenta pérdida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la empresa presenta utilidade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e contribuyente no tendría utilidades el período 2003, por lo que no tendrá obligación de pagar impuesto de 1ª Categoría en el período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Los créditos incobrab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exige “que se hayan castigado durante el año”, que “se hayan contabilizado oportunamente” y que “se hayan agotado prudencialmente los medios de cobr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astigado durante el año, se refiere a que se hayan transformado en incobrables en el período en que se descuent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ontabilizado oportunamente, ya que el crédito debe incluirse como ingreso una vez que se deven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agotado prudencialmente los medios de cobro, dependerá de cada caso y, en definitiva quedará a criterio del SI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mpliendo con estos requisitos, el crédito que se contabilizó en su momento como ingreso, se descontará como gasto al transformarse en incobr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5.- La depreciació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ste en llevar a gasto el valor de adquisición de un bien del activo fís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eterminar la depreciación se debe tomar en cuenta dos factores: el valor de adquisición y la vida útil del bien.</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as depreci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r>
              <a:rPr b="0" lang="es-ES" sz="2000" spc="-1" strike="noStrike">
                <a:solidFill>
                  <a:srgbClr val="000000"/>
                </a:solidFill>
                <a:latin typeface="Times New Roman"/>
              </a:rPr>
              <a:t>	</a:t>
            </a:r>
            <a:r>
              <a:rPr b="1" lang="es-ES" sz="2000" spc="-1" strike="noStrike">
                <a:solidFill>
                  <a:srgbClr val="000000"/>
                </a:solidFill>
                <a:latin typeface="Times New Roman"/>
              </a:rPr>
              <a:t>Depreciación ordinaria o norm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establece según la vida útil del bien y cuya determinación corresponde al SII quien fija pautas sobre la mater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spe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la que determina el SII en relación a las condiciones de explotación del bien y a solicitud del Sujeto pas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r>
              <a:rPr b="0" lang="es-ES" sz="2000" spc="-1" strike="noStrike">
                <a:solidFill>
                  <a:srgbClr val="000000"/>
                </a:solidFill>
                <a:latin typeface="Times New Roman"/>
              </a:rPr>
              <a:t>	</a:t>
            </a:r>
            <a:r>
              <a:rPr b="1" lang="es-ES" sz="2000" spc="-1" strike="noStrike">
                <a:solidFill>
                  <a:srgbClr val="000000"/>
                </a:solidFill>
                <a:latin typeface="Times New Roman"/>
              </a:rPr>
              <a:t>Depreciación acelera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aquella que resulta de fijar a los bienes físicos del activo inmovilizado adquiridos nuevos o internados una vida útil equivalente a 1/3 de la fijada por el SI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xtraordina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de depreciación ordin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necesario para producir la ren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encuentre rebajado como Costo Dir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el sujeto pasivo haya incurrido efectivamente en el gasto y que este se encuentre pagado o adeud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acredite o justifique fehacientemente ante el SI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relacionado con el giro de la empresa o negoc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trate de un gasto que la ley declare como no deduc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sitos para optar por el régimen de depreciación acelerada:</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trate de bienes nuevos o intern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tengan una vida útil de más de 5 año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jempl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misma máquina de coser, se deprecia acelerada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de adquisición $100 y vida útil 10 años. Los 10 años se divide por 3 = 3,33 años, lo aproximamos siempre hacia abajo = 3, y depreciamos la máquina en este tiemp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primer año se rebajan $33,3 el segundo $33,3 y el tercero $33,3 como gasto por depreciació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quiera sea el régimen de depreciación al final de esta el activo se deja contabilizado en “1 peso” no reajustable </a:t>
            </a:r>
            <a:r>
              <a:rPr b="0" lang="es-ES" sz="2400" spc="-1" strike="noStrike">
                <a:solidFill>
                  <a:srgbClr val="000000"/>
                </a:solidFill>
                <a:latin typeface="Times New Roman"/>
              </a:rPr>
              <a:t>que deberá permanecer en la contabilidad hasta la eliminación total del bien motivada por una venta, retiro, castigo u otra ca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 Remuneracion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6</a:t>
            </a:r>
            <a:r>
              <a:rPr b="0" i="1" lang="es-ES" sz="2000" spc="-1" strike="noStrike">
                <a:solidFill>
                  <a:srgbClr val="000000"/>
                </a:solidFill>
                <a:latin typeface="Times New Roman"/>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219320"/>
            <a:ext cx="8229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rentas declaradas, a los servicios prestados y a la rentabilidad del capital, sin perjuicio de los impuestos que procedan respecto de quienes perciban tales pag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s-ES" sz="2000" spc="-1" strike="noStrike">
                <a:solidFill>
                  <a:srgbClr val="000000"/>
                </a:solidFill>
                <a:latin typeface="Times New Roman"/>
              </a:rPr>
              <a:t>(60 UF)</a:t>
            </a:r>
            <a:r>
              <a:rPr b="0" i="1" lang="es-ES" sz="2000" spc="-1" strike="noStrike">
                <a:solidFill>
                  <a:srgbClr val="000000"/>
                </a:solidFill>
                <a:latin typeface="Times New Roman"/>
              </a:rPr>
              <a:t>. En todo caso dichas remuneraciones se considerarán rentas del artículo 42, número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bis.- Becas de estudio de hijos de trabajadores de la empresa.</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e gasto constituye la contrapartida del artículo 17 Nº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Las Donaciones.</a:t>
            </a:r>
            <a:endParaRPr b="0" lang="en-US" sz="3200" spc="-1" strike="noStrike">
              <a:solidFill>
                <a:srgbClr val="000000"/>
              </a:solidFill>
              <a:latin typeface="Times New Roman"/>
            </a:endParaRPr>
          </a:p>
        </p:txBody>
      </p:sp>
      <p:sp>
        <p:nvSpPr>
          <p:cNvPr id="8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posibilidad de deducir como gasto las donaciones tiene un propósito extra fiscal, cual es el de fomentar las donacion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l 2% de la renta líquida de la empresa.</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6‰ (por mil) del capital  propio de la empresa al término del correspondiente ejercici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0% de la renta líquida imponible que son aquellos a las cuales se les aplica el artículo 47 de la ley de rentas municipales DL 3063.</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onaciones hechas al fondo de reconstrucción nacional no tienen top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s donaciones no requieren del tramite de la insinuació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8.- Los reajustes y las diferencias de cambi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8</a:t>
            </a:r>
            <a:r>
              <a:rPr b="0" i="1" lang="es-ES" sz="2000" spc="-1" strike="noStrike">
                <a:solidFill>
                  <a:srgbClr val="000000"/>
                </a:solidFill>
                <a:latin typeface="Times New Roman"/>
              </a:rPr>
              <a:t> “Los reajustes y diferencias de cambio provenientes de créditos o préstamos destinados al giro del negocio o empresa incluso los originados en la adquisición de bienes del activo inmovilizado y realizab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l legislador se refiere a operaciones que se hacen en moneda extranjer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9.- Gastos de organización y puesta en marcha.</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9</a:t>
            </a:r>
            <a:r>
              <a:rPr b="0" lang="es-ES" sz="2000" spc="-1" strike="noStrike">
                <a:solidFill>
                  <a:srgbClr val="000000"/>
                </a:solidFill>
                <a:latin typeface="Times New Roman"/>
              </a:rPr>
              <a:t> </a:t>
            </a:r>
            <a:r>
              <a:rPr b="0" i="1" lang="es-ES" sz="2000" spc="-1" strike="noStrike">
                <a:solidFill>
                  <a:srgbClr val="000000"/>
                </a:solidFill>
                <a:latin typeface="Times New Roman"/>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0.- Gastos de promoción o colocación en el mercad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10</a:t>
            </a:r>
            <a:r>
              <a:rPr b="0" i="1" lang="es-ES" sz="2000" spc="-1" strike="noStrike">
                <a:solidFill>
                  <a:srgbClr val="000000"/>
                </a:solidFill>
                <a:latin typeface="Times New Roman"/>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Gastos de Investigació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 Nº11</a:t>
            </a:r>
            <a:r>
              <a:rPr b="0" lang="es-ES_tradnl" sz="2400" spc="-1" strike="noStrike">
                <a:solidFill>
                  <a:srgbClr val="000000"/>
                </a:solidFill>
                <a:latin typeface="Times New Roman"/>
              </a:rPr>
              <a:t> </a:t>
            </a:r>
            <a:r>
              <a:rPr b="0" i="1" lang="es-ES" sz="2400" spc="-1" strike="noStrike">
                <a:solidFill>
                  <a:srgbClr val="000000"/>
                </a:solidFill>
                <a:latin typeface="Times New Roman"/>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12.- Pagos de royalty al exterior</a:t>
            </a:r>
            <a:r>
              <a:rPr b="0" lang="es-ES_tradn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rt. 59 es el que se refiere al pago que se hace al exterior por concepto de regalías o royalty.  El legislador establece un top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Genéricos, aquellos que no están expresamente descritos por el legislador pero que cumplen con los requisitos propios de los gas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específicos, aquellos que están definidos y descritos por el legislador en los trece numerales del artículo 31 de la 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7848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CEP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1.</a:t>
            </a:r>
            <a:r>
              <a:rPr b="0" lang="es-ES" sz="2000" spc="-1" strike="noStrike">
                <a:solidFill>
                  <a:srgbClr val="000000"/>
                </a:solidFill>
                <a:latin typeface="Times New Roman"/>
              </a:rPr>
              <a:t>	</a:t>
            </a:r>
            <a:r>
              <a:rPr b="0" lang="es-ES" sz="2000" spc="-1" strike="noStrike">
                <a:solidFill>
                  <a:srgbClr val="000000"/>
                </a:solidFill>
                <a:latin typeface="Times New Roman"/>
              </a:rPr>
              <a:t>No existe el tope cuando no hay relación de propiedad, control o administración entre la sociedad que paga el royalty y la que lo recib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000" spc="-1" strike="noStrike">
                <a:solidFill>
                  <a:srgbClr val="000000"/>
                </a:solidFill>
                <a:latin typeface="Times New Roman"/>
              </a:rPr>
              <a:t> Para que sea aplicable lo dispuesto en</a:t>
            </a:r>
            <a:r>
              <a:rPr b="1" i="1" lang="es-ES" sz="2000" spc="-1" strike="noStrike">
                <a:solidFill>
                  <a:srgbClr val="000000"/>
                </a:solidFill>
                <a:latin typeface="Times New Roman"/>
              </a:rPr>
              <a:t>	</a:t>
            </a:r>
            <a:r>
              <a:rPr b="1" i="1" lang="es-ES" sz="2000" spc="-1" strike="noStrike">
                <a:solidFill>
                  <a:srgbClr val="000000"/>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2000" spc="-1" strike="noStrike">
                <a:solidFill>
                  <a:srgbClr val="000000"/>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justes y Corrección Monetaria</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rrección Monetaria (artículo 41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80520"/>
            <a:ext cx="8381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cción Monetaria de la Renta líquid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aliza con objeto de corregir los efectos que la inflación ha de producir en el resultado del ejercicio.</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rrección se realiza en los términos del artículo 32 de LIR de acuerdo con los dispuesto en el artículo 41 LIR.</a:t>
            </a:r>
            <a:endParaRPr b="0" lang="en-US" sz="24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32 nos dice que la Corrección Monetaria aumentará o disminuirá la base imponible dependiendo de que sea lo que se reajus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 Disminuciones a la renta líquida:</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rt. 32 Nº1</a:t>
            </a:r>
            <a:r>
              <a:rPr b="0" i="1" lang="es-ES" sz="2400" spc="-1" strike="noStrike">
                <a:solidFill>
                  <a:srgbClr val="000000"/>
                </a:solidFill>
                <a:latin typeface="Times New Roman"/>
              </a:rPr>
              <a:t>	</a:t>
            </a:r>
            <a:r>
              <a:rPr b="0" i="1" lang="es-ES" sz="2400" spc="-1" strike="noStrike">
                <a:solidFill>
                  <a:srgbClr val="000000"/>
                </a:solidFill>
                <a:latin typeface="Times New Roman"/>
              </a:rPr>
              <a:t>“Se deducirán de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l capital propio inicial del ejercicio;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aumentos de dicho capital  prop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c)</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l capital  propio inicial y de sus aumento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ncepto de Capital Propio Inicial:</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400" spc="-1" strike="noStrike">
                <a:solidFill>
                  <a:srgbClr val="000000"/>
                </a:solidFill>
                <a:latin typeface="Times New Roman"/>
              </a:rPr>
              <a:t>” (41 Nº1).</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1.- Reajuste del capital  propio inicial </a:t>
            </a:r>
            <a:br>
              <a:rPr sz="3200"/>
            </a:br>
            <a:r>
              <a:rPr b="1" lang="es-ES" sz="3200" spc="-1" strike="noStrike">
                <a:solidFill>
                  <a:srgbClr val="000000"/>
                </a:solidFill>
                <a:latin typeface="Times New Roman"/>
              </a:rPr>
              <a:t>(41 Nº1 inciso 1º)</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pital  propio inicial se reajusta de acuerdo a la</a:t>
            </a:r>
            <a:r>
              <a:rPr b="1" lang="es-ES" sz="2400" spc="-1" strike="noStrike">
                <a:solidFill>
                  <a:srgbClr val="000000"/>
                </a:solidFill>
                <a:latin typeface="Times New Roman"/>
              </a:rPr>
              <a:t> variación del IPC </a:t>
            </a:r>
            <a:r>
              <a:rPr b="0" lang="es-ES" sz="2400" spc="-1" strike="noStrike">
                <a:solidFill>
                  <a:srgbClr val="000000"/>
                </a:solidFill>
                <a:latin typeface="Times New Roman"/>
              </a:rPr>
              <a:t>con un mes de desfase, esto es, de noviembre a noviembre de cada año</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2.- Reajuste de los aumentos del capital propio inicial (41 Nº1 inciso 2º).</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Times New Roman"/>
              </a:rPr>
              <a:t>“</a:t>
            </a:r>
            <a:r>
              <a:rPr b="0" i="1" lang="es-ES" sz="2400" spc="-1" strike="noStrike">
                <a:solidFill>
                  <a:srgbClr val="000000"/>
                </a:solidFill>
                <a:latin typeface="Times New Roman"/>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a:t>
            </a:r>
            <a:r>
              <a:rPr b="0" lang="es-ES_tradnl" sz="2400" spc="-1" strike="noStrike">
                <a:solidFill>
                  <a:srgbClr val="000000"/>
                </a:solidFill>
                <a:latin typeface="Times New Roman"/>
              </a:rPr>
              <a:t> Si hay un aumento de capital el 5 de Abril, se reajusta conforme variación del IPC entre el 31 de Marzo y el 30 de Noviem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 qué los reajustes del capital propio inicial y sus aumentos operan como una deducción en la renta líquid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mas fácil explicarlo a través de un ejempl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 $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lación = 1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propio reajustado = $110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 10 representan una </a:t>
            </a:r>
            <a:r>
              <a:rPr b="1" lang="es-ES" sz="2000" spc="-1" strike="noStrike">
                <a:solidFill>
                  <a:srgbClr val="000000"/>
                </a:solidFill>
                <a:latin typeface="Times New Roman"/>
              </a:rPr>
              <a:t>pérdida para la renta líquida</a:t>
            </a:r>
            <a:r>
              <a:rPr b="0" lang="es-ES" sz="2000" spc="-1" strike="noStrike">
                <a:solidFill>
                  <a:srgbClr val="000000"/>
                </a:solidFill>
                <a:latin typeface="Times New Roman"/>
              </a:rPr>
              <a:t> porque sigo teniendo $100 pero, por efecto de la Corrección monetaria, en el balance tengo $110. Por lo que al actualizarlo se debe deducir de la renta líquida ese reajuste, para así mantener el valor real del capital  propi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mismo sucede con los aumentos de capi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 Corrección monetaria de los pasivos reajustables o en moneda extranjera </a:t>
            </a:r>
            <a:br>
              <a:rPr sz="3200"/>
            </a:br>
            <a:r>
              <a:rPr b="1" lang="es-ES" sz="3200" spc="-1" strike="noStrike">
                <a:solidFill>
                  <a:srgbClr val="000000"/>
                </a:solidFill>
                <a:latin typeface="Times New Roman"/>
              </a:rPr>
              <a:t>(41 Nº4).</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asivos se reajustan </a:t>
            </a:r>
            <a:r>
              <a:rPr b="1" lang="es-ES" sz="2400" spc="-1" strike="noStrike">
                <a:solidFill>
                  <a:srgbClr val="000000"/>
                </a:solidFill>
                <a:latin typeface="Times New Roman"/>
              </a:rPr>
              <a:t>de acuerdo a su respectiva cláusula de reajustabilidad</a:t>
            </a:r>
            <a:r>
              <a:rPr b="0" lang="es-ES" sz="2400" spc="-1" strike="noStrike">
                <a:solidFill>
                  <a:srgbClr val="000000"/>
                </a:solidFill>
                <a:latin typeface="Times New Roman"/>
              </a:rPr>
              <a:t>, es decir, podrían reajustarse por el IPC, UF,  moneda extranje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pasivo se reajusta, éste aumenta, por lo tanto, es lógico que se deduzca de las utilidades pues estoy obligado a pagar más producto de la infla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Agregaciones a la renta líquida.</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2 Nº2</a:t>
            </a:r>
            <a:r>
              <a:rPr b="0" i="1" lang="es-ES" sz="2400" spc="-1" strike="noStrike">
                <a:solidFill>
                  <a:srgbClr val="000000"/>
                </a:solidFill>
                <a:latin typeface="Times New Roman"/>
              </a:rPr>
              <a:t>	</a:t>
            </a:r>
            <a:r>
              <a:rPr b="0" i="1" lang="es-ES" sz="2400" spc="-1" strike="noStrike">
                <a:solidFill>
                  <a:srgbClr val="000000"/>
                </a:solidFill>
                <a:latin typeface="Times New Roman"/>
              </a:rPr>
              <a:t>“Se agregarán a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as disminuciones del capital  propio inicial del ejercic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 los ajustes del activo a que se refieren los números 2 al 9 del artículo 41, a menos que ya se encuentren formando parte de la renta líqu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Gastos Genéricos. Ejempl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ntas por arrien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mas de seguro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de transport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entas de luz, agua, teléfon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impresión de boletas, honorari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servici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 las disminuciones del capital  propio inicial.</a:t>
            </a:r>
            <a:br>
              <a:rPr sz="3200"/>
            </a:br>
            <a:r>
              <a:rPr b="1" lang="es-ES" sz="3200" spc="-1" strike="noStrike">
                <a:solidFill>
                  <a:srgbClr val="000000"/>
                </a:solidFill>
                <a:latin typeface="Times New Roman"/>
              </a:rPr>
              <a:t>(41 Nº1 inciso 3º)</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B.- Corrección monetaria de los activo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ajuste de los activos debemos agregarlos a la renta líquida porque producen una utilidad, aunque sea nominal.</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fijo o inmovilizad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Se reajusta igual que el activo físico inmovilizado (41 Nº1)</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realizable.</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Times New Roman"/>
              </a:rPr>
              <a:t>Se reajusta según su </a:t>
            </a:r>
            <a:r>
              <a:rPr b="1" lang="es-ES_tradnl" sz="2000" spc="-1" strike="noStrike">
                <a:solidFill>
                  <a:srgbClr val="000000"/>
                </a:solidFill>
                <a:latin typeface="Times New Roman"/>
              </a:rPr>
              <a:t>costo de reposición</a:t>
            </a:r>
            <a:r>
              <a:rPr b="0" lang="es-ES_tradnl" sz="2000" spc="-1" strike="noStrike">
                <a:solidFill>
                  <a:srgbClr val="000000"/>
                </a:solidFill>
                <a:latin typeface="Times New Roman"/>
              </a:rPr>
              <a:t>, debiendo distinguir respecto de la época de adquisició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segundo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Primer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adquisiciones en 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importado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en proceso de elabor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Bienes Adquiridos durante el segundo semestre:</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	</a:t>
            </a:r>
            <a:r>
              <a:rPr b="0" i="1" lang="es-ES" sz="32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 Bienes adquiridos durante el primer semestr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Bienes adquiridos en ejercicios anteriores</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c)</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Bienes Importados</a:t>
            </a:r>
            <a:endParaRPr b="0" lang="en-US" sz="2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rPr>
              <a:t>El costo de reposición es el </a:t>
            </a:r>
            <a:r>
              <a:rPr b="1" lang="es-ES" sz="1800" spc="-1" strike="noStrike">
                <a:solidFill>
                  <a:srgbClr val="000000"/>
                </a:solidFill>
                <a:latin typeface="Times New Roman"/>
              </a:rPr>
              <a:t>valor de la última importación</a:t>
            </a:r>
            <a:r>
              <a:rPr b="0" lang="es-ES" sz="1800" spc="-1" strike="noStrike">
                <a:solidFill>
                  <a:srgbClr val="000000"/>
                </a:solidFill>
                <a:latin typeface="Times New Roman"/>
              </a:rPr>
              <a:t>, no importando si es más barato o más car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adquirí durante el segundo semestre sino que sólo en el </a:t>
            </a:r>
            <a:r>
              <a:rPr b="1" lang="es-ES" sz="1800" spc="-1" strike="noStrike">
                <a:solidFill>
                  <a:srgbClr val="000000"/>
                </a:solidFill>
                <a:latin typeface="Times New Roman"/>
              </a:rPr>
              <a:t>primero</a:t>
            </a:r>
            <a:r>
              <a:rPr b="0" lang="es-ES" sz="1800" spc="-1" strike="noStrike">
                <a:solidFill>
                  <a:srgbClr val="000000"/>
                </a:solidFill>
                <a:latin typeface="Times New Roman"/>
              </a:rPr>
              <a:t>, su costo de reposición será equivalente al</a:t>
            </a:r>
            <a:r>
              <a:rPr b="1" lang="es-ES" sz="1800" spc="-1" strike="noStrike">
                <a:solidFill>
                  <a:srgbClr val="000000"/>
                </a:solidFill>
                <a:latin typeface="Times New Roman"/>
              </a:rPr>
              <a:t> valor de la última importación reajustado por el tipo de cambio del segundo semest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se adquirieron durante el primero ni segundo semestre, hay que tomar el </a:t>
            </a:r>
            <a:r>
              <a:rPr b="1" lang="es-ES" sz="1800" spc="-1" strike="noStrike">
                <a:solidFill>
                  <a:srgbClr val="000000"/>
                </a:solidFill>
                <a:latin typeface="Times New Roman"/>
              </a:rPr>
              <a:t>valor que tenía el bien en el último ejercicio y eso ajustarlo de acuerdo al tipo de cambio del ejercicio. </a:t>
            </a:r>
            <a:r>
              <a:rPr b="0" lang="es-ES" sz="1800" spc="-1" strike="noStrike">
                <a:solidFill>
                  <a:srgbClr val="000000"/>
                </a:solidFill>
                <a:latin typeface="Times New Roman"/>
              </a:rPr>
              <a:t>(</a:t>
            </a:r>
            <a:r>
              <a:rPr b="0" i="1" lang="es-ES" sz="1800" spc="-1" strike="noStrike">
                <a:solidFill>
                  <a:srgbClr val="000000"/>
                </a:solidFill>
                <a:latin typeface="Times New Roman"/>
              </a:rPr>
              <a:t>41 Nº3 c)</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a:t>
            </a:r>
            <a:r>
              <a:rPr b="1" i="1" lang="es-ES" sz="2800" spc="-1" strike="noStrike">
                <a:solidFill>
                  <a:srgbClr val="000000"/>
                </a:solidFill>
                <a:latin typeface="Times New Roman"/>
              </a:rPr>
              <a:t> </a:t>
            </a:r>
            <a:r>
              <a:rPr b="1" lang="es-ES" sz="2800" spc="-1" strike="noStrike">
                <a:solidFill>
                  <a:srgbClr val="000000"/>
                </a:solidFill>
                <a:latin typeface="Times New Roman"/>
              </a:rPr>
              <a:t>Bienes que están en proceso de elaboración.</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valor de la materia se determina de acuerdo a las reglas vistas</a:t>
            </a:r>
            <a:r>
              <a:rPr b="0" lang="es-ES" sz="3200" spc="-1" strike="noStrike">
                <a:solidFill>
                  <a:srgbClr val="000000"/>
                </a:solidFill>
                <a:latin typeface="Aria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reajustados los activos pasivos y el capital tenemos la </a:t>
            </a:r>
            <a:r>
              <a:rPr b="1" lang="es-ES" sz="3200" spc="-1" strike="noStrike">
                <a:solidFill>
                  <a:srgbClr val="000000"/>
                </a:solidFill>
                <a:latin typeface="Times New Roman"/>
              </a:rPr>
              <a:t>renta líquida ajustada</a:t>
            </a:r>
            <a:r>
              <a:rPr b="0" lang="es-ES" sz="3200" spc="-1" strike="noStrike">
                <a:solidFill>
                  <a:srgbClr val="000000"/>
                </a:solidFill>
                <a:latin typeface="Times New Roman"/>
              </a:rPr>
              <a:t>. A la renta líquida ajustada hay que hacerle unos </a:t>
            </a:r>
            <a:r>
              <a:rPr b="1" lang="es-ES" sz="3200" spc="-1" strike="noStrike">
                <a:solidFill>
                  <a:srgbClr val="000000"/>
                </a:solidFill>
                <a:latin typeface="Times New Roman"/>
              </a:rPr>
              <a:t>ajustes finales</a:t>
            </a:r>
            <a:r>
              <a:rPr b="0" lang="es-ES" sz="3200" spc="-1" strike="noStrike">
                <a:solidFill>
                  <a:srgbClr val="000000"/>
                </a:solidFill>
                <a:latin typeface="Times New Roman"/>
              </a:rPr>
              <a:t> y así tendremos la base imponible de Primer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 Gastos Específico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es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esto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érdid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éditos incobrabl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reci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uner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cas de estudio para hijos de trabajadores de la empresa.</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aciones</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justes y diferencias de camb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organización y puesta en march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colocación en mercado de nuevos produ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investig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os de royalty a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 Intere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1.</a:t>
            </a:r>
            <a:r>
              <a:rPr b="0" lang="es-MX" sz="2400" spc="-1" strike="noStrike">
                <a:solidFill>
                  <a:srgbClr val="000000"/>
                </a:solidFill>
                <a:latin typeface="Times New Roman"/>
              </a:rPr>
              <a:t> </a:t>
            </a:r>
            <a:r>
              <a:rPr b="0" i="1" lang="es-MX" sz="2400" spc="-1" strike="noStrike">
                <a:solidFill>
                  <a:srgbClr val="000000"/>
                </a:solidFill>
                <a:latin typeface="Times New Roman"/>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interes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vendedor de jarrones pide un préstamo para adquirir un horno y paga intereses por aqué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intereses puede deducirlos como gastos, porque se relacionan con el giro del nego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2.- Impuestos establecidos por leyes chilena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2.</a:t>
            </a:r>
            <a:r>
              <a:rPr b="0" lang="es-MX" sz="2400" spc="-1" strike="noStrike">
                <a:solidFill>
                  <a:srgbClr val="000000"/>
                </a:solidFill>
                <a:latin typeface="Times New Roman"/>
              </a:rPr>
              <a:t> </a:t>
            </a:r>
            <a:r>
              <a:rPr b="0" i="1" lang="es-MX" sz="2400" spc="-1" strike="noStrike">
                <a:solidFill>
                  <a:srgbClr val="000000"/>
                </a:solidFill>
                <a:latin typeface="Times New Roman"/>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uestos que pueden rebajarse</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no nos dice que impuestos pueden rebajarse, pero si cuales n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de la L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establecidos por leyes extranjer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ontribuciones de mejor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onces ¿cuáles impuestos puedo rebaj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 de la ley de timbr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entes municip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iva cuando da parcialmente crédito fiscal. La parte irrecuperable es ga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04:19Z</dcterms:created>
  <dc:creator>Juan Francisco Reyes</dc:creator>
  <dc:description/>
  <dc:language>en-US</dc:language>
  <cp:lastModifiedBy>home</cp:lastModifiedBy>
  <dcterms:modified xsi:type="dcterms:W3CDTF">2004-05-12T23:47:20Z</dcterms:modified>
  <cp:revision>3</cp:revision>
  <dc:subject/>
  <dc:title>3.- Gastos necesarios                (Art. 31 LIR)</dc:title>
</cp:coreProperties>
</file>