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27B83-5ED4-4685-A6EF-0E0E8141A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AFF6C-D6A1-4BE4-8399-096C7D90A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A6970-BE05-499A-A7CE-C88CD0855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BF382-AF35-4449-9948-C53778C2C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89CEC-C4D7-4529-9673-921C95ED1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D416A-2CA4-4036-8649-746248578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8DBD7-EB0A-4EDB-B1AB-02422E691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89815-1C04-4552-82DD-C67B0DE2E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B411E-8886-49CC-A439-D730AF46F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740C3-010B-4891-B3E0-ED564108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6F752-9AD9-4E42-BBB7-4CC6A5EE3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331A-9C9B-4766-A8CC-EACBB7B6E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1175-94AD-4126-AC3C-531B610B2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ACION DE LA BASE IMPONIBLE DE PRIMERA CATEGORÍA</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STEMA GENER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ETAPA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 Mercaderías Internadas al paí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el valor CIF, los derechos de internación, los gastos del desaduanamiento y optativamente el flete y seguros hasta las bodegas del importad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3ª par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 Bienes producidos o elaborados por el contribuyent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el valor de la materia prima aplicando las normas anteriores y el valor de la mano de ob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4ª 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eptos relevantes</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NO DE OBRA: </a:t>
            </a:r>
            <a:r>
              <a:rPr b="0" lang="es-MX" sz="2000" spc="-1" strike="noStrike">
                <a:solidFill>
                  <a:srgbClr val="000000"/>
                </a:solidFill>
                <a:latin typeface="Times New Roman"/>
              </a:rPr>
              <a:t>Está constituida por la mano de obra fabril que puede ser identificada derechamente con los bienes producidos y, en algunos casos, con procesos específicos.</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TERIA PRIMA:</a:t>
            </a:r>
            <a:r>
              <a:rPr b="0" lang="es-MX" sz="2000" spc="-1" strike="noStrike">
                <a:solidFill>
                  <a:srgbClr val="000000"/>
                </a:solidFill>
                <a:latin typeface="Times New Roman"/>
              </a:rPr>
              <a:t> Comprende los materiales directamente utilizados en la producción o elaboración, las piezas terminadas y los servicios proporcionados por terceros y que guarden directa y estrecha relación con los bienes manufactura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Fabrica de Zapatos.</a:t>
            </a:r>
            <a:endParaRPr b="0" lang="en-US" sz="4400" spc="-1" strike="noStrike">
              <a:solidFill>
                <a:srgbClr val="000000"/>
              </a:solidFill>
              <a:latin typeface="Times New Roman"/>
            </a:endParaRPr>
          </a:p>
        </p:txBody>
      </p:sp>
      <p:sp>
        <p:nvSpPr>
          <p:cNvPr id="69" name="PlaceHolder 2"/>
          <p:cNvSpPr>
            <a:spLocks noGrp="1"/>
          </p:cNvSpPr>
          <p:nvPr>
            <p:ph/>
          </p:nvPr>
        </p:nvSpPr>
        <p:spPr>
          <a:xfrm>
            <a:off x="228600" y="1447920"/>
            <a:ext cx="86104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ecto de la </a:t>
            </a:r>
            <a:r>
              <a:rPr b="1" lang="en-US" sz="2400" spc="-1" strike="noStrike">
                <a:solidFill>
                  <a:srgbClr val="000000"/>
                </a:solidFill>
                <a:latin typeface="Times New Roman"/>
              </a:rPr>
              <a:t>MANO DE OBRA</a:t>
            </a:r>
            <a:r>
              <a:rPr b="0" lang="en-US" sz="2400" spc="-1" strike="noStrike">
                <a:solidFill>
                  <a:srgbClr val="000000"/>
                </a:solidFill>
                <a:latin typeface="Times New Roman"/>
              </a:rPr>
              <a:t>, la fábrica contrata personal de aseo, personal de confección, guardias de seguridad, gerente de producción, una secretaria y gerente gener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todos estos trabajadores se identifican con el producto </a:t>
            </a:r>
            <a:r>
              <a:rPr b="1" lang="en-US" sz="2400" spc="-1" strike="noStrike">
                <a:solidFill>
                  <a:srgbClr val="000000"/>
                </a:solidFill>
                <a:latin typeface="Times New Roman"/>
              </a:rPr>
              <a:t>el personal de confección y el gerente de producción.</a:t>
            </a:r>
            <a:r>
              <a:rPr b="0" lang="en-US" sz="2400" spc="-1" strike="noStrike">
                <a:solidFill>
                  <a:srgbClr val="000000"/>
                </a:solidFill>
                <a:latin typeface="Times New Roman"/>
              </a:rPr>
              <a:t> Su salario es lo que se descontará como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ecto de la </a:t>
            </a:r>
            <a:r>
              <a:rPr b="1" lang="en-US" sz="2400" spc="-1" strike="noStrike">
                <a:solidFill>
                  <a:srgbClr val="000000"/>
                </a:solidFill>
                <a:latin typeface="Times New Roman"/>
              </a:rPr>
              <a:t>MATERIA PRIMA</a:t>
            </a:r>
            <a:r>
              <a:rPr b="0" lang="en-US" sz="2400" spc="-1" strike="noStrike">
                <a:solidFill>
                  <a:srgbClr val="000000"/>
                </a:solidFill>
                <a:latin typeface="Times New Roman"/>
              </a:rPr>
              <a:t>, la fábrica compra cuero, hilo, goma, boletas, facturas, cordones, bolsas de basura y toalla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estos implementos identificamos con el producto final </a:t>
            </a:r>
            <a:r>
              <a:rPr b="1" lang="en-US" sz="2400" spc="-1" strike="noStrike">
                <a:solidFill>
                  <a:srgbClr val="000000"/>
                </a:solidFill>
                <a:latin typeface="Times New Roman"/>
              </a:rPr>
              <a:t>el cuero, el hilo, la goma y los cordones</a:t>
            </a:r>
            <a:r>
              <a:rPr b="0" lang="en-US" sz="2400" spc="-1" strike="noStrike">
                <a:solidFill>
                  <a:srgbClr val="000000"/>
                </a:solidFill>
                <a:latin typeface="Times New Roman"/>
              </a:rPr>
              <a:t>. Sólo estos elementos serán rebajados como costos de los ingresos bru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 Mineral extraído</a:t>
            </a:r>
            <a:endParaRPr b="0" lang="en-US" sz="4400" spc="-1" strike="noStrike">
              <a:solidFill>
                <a:srgbClr val="000000"/>
              </a:solidFill>
              <a:latin typeface="Times New Roman"/>
            </a:endParaRPr>
          </a:p>
        </p:txBody>
      </p:sp>
      <p:sp>
        <p:nvSpPr>
          <p:cNvPr id="71" name="PlaceHolder 2"/>
          <p:cNvSpPr>
            <a:spLocks noGrp="1"/>
          </p:cNvSpPr>
          <p:nvPr>
            <p:ph/>
          </p:nvPr>
        </p:nvSpPr>
        <p:spPr>
          <a:xfrm>
            <a:off x="228600" y="1523880"/>
            <a:ext cx="86104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a:t>
            </a:r>
            <a:r>
              <a:rPr b="1" i="1" lang="es-MX" sz="3200" spc="-1" strike="noStrike">
                <a:solidFill>
                  <a:srgbClr val="000000"/>
                </a:solidFill>
                <a:latin typeface="Times New Roman"/>
              </a:rPr>
              <a:t>... considerará también la parte del valor de adquisición de las pertenencias respectivas que corresponda a la proporción que el mineral extraído represente en el total del mineral que técnicamente se estime contiene el correspondiente grupo de pertenencias, en la forma que determine el Reglamen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tículo 30 inciso 1º, parte fin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de mineral extraído</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estima que una mina tiene reservas por 10.000 toneladas. La mina vale $100 y en el período se extrajeron 1.000 tonel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mineral extraído (1.000 ton) equivale al 10% de las reservas estimada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consiguiente se descuenta, como costo, el 10% del valor de la pertenencia, o sea $1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 Bienes del activo realizable de una empresa.</a:t>
            </a:r>
            <a:endParaRPr b="0" lang="en-US" sz="4400" spc="-1" strike="noStrike">
              <a:solidFill>
                <a:srgbClr val="000000"/>
              </a:solidFill>
              <a:latin typeface="Times New Roman"/>
            </a:endParaRPr>
          </a:p>
        </p:txBody>
      </p:sp>
      <p:sp>
        <p:nvSpPr>
          <p:cNvPr id="75"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a:t>
            </a:r>
            <a:r>
              <a:rPr b="1" i="1" lang="es-MX" sz="2400" spc="-1" strike="noStrike">
                <a:solidFill>
                  <a:srgbClr val="000000"/>
                </a:solidFill>
                <a:latin typeface="Times New Roman"/>
              </a:rPr>
              <a:t>...el costo directo de venta de las mercaderías, materias primas y otros bienes del activo realizable o para determinar el costo directo de los mismos bienes cuando se apliquen a procesos productivos y/o artículos terminados o en proceso, deberán utilizarse los costos directos más antiguos sin perjuicio que el contribuyente opte por utilizar el método denominado "Costo Promedio Ponderado". El método de valorización adoptado respecto de un ejercicio determinará a su vez el valor de las existencias al término de éste, sin perjuicio del ajuste que ordena el artículo 41. El método elegido deberá mantenerse consistentemente a lo menos durante cinco ejercicios comerciales consecu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rtículo 30 inciso 2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ciones contables básicas relativas a los costo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ndo uno vende bienes del activo realizable se encuentra con que puede tener existencias desde hace varios períodos. Los costos de estas existencias pueden haber ido variando a lo largo del tiempo por distintos motivos: valor de materias primas, aranceles aduaneros, valor del dólar,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descontar el costo de estas existencias, contablemente hay tres formas de hacerl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FO (First In First Ou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FO (Last In First Ou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PP (Costo Promedio Ponderado)</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579132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uando hay diferencias en los valores de uno u otro período, optar por uno u otro método lleva a que los costos sean mayores o menores y por ende a tener mayores o menores utilidades.</a:t>
            </a:r>
            <a:br>
              <a:rPr sz="2800"/>
            </a:br>
            <a:r>
              <a:rPr b="0" lang="en-US" sz="2800" spc="-1" strike="noStrike">
                <a:solidFill>
                  <a:srgbClr val="000000"/>
                </a:solidFill>
                <a:latin typeface="Times New Roman"/>
              </a:rPr>
              <a:t>La LIR nos dice que debemos aplicar el método FIFO, o sea aplicar los costos más antiguos, pero nos da la posibilidad de optar por el sistema CPP en que los valores de los distintos períodos se promedian y se aplican a todas las existencias de la empresa indistint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80" name=""/>
          <p:cNvGraphicFramePr/>
          <p:nvPr/>
        </p:nvGraphicFramePr>
        <p:xfrm>
          <a:off x="663480" y="2381400"/>
          <a:ext cx="7770960" cy="2193840"/>
        </p:xfrm>
        <a:graphic>
          <a:graphicData uri="http://schemas.openxmlformats.org/presentationml/2006/ole">
            <p:oleObj progId="Word.Document.12" r:id="rId1" spid="">
              <p:embed/>
              <p:pic>
                <p:nvPicPr>
                  <p:cNvPr id="81" name="" descr=""/>
                  <p:cNvPicPr/>
                  <p:nvPr/>
                </p:nvPicPr>
                <p:blipFill>
                  <a:blip r:embed="rId2"/>
                  <a:stretch/>
                </p:blipFill>
                <p:spPr>
                  <a:xfrm>
                    <a:off x="663480" y="2381400"/>
                    <a:ext cx="7770960" cy="219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 INGRESOS BRUTOS         (29 LIR)</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nstituyen "ingresos brutos" todos los ingresos derivados de la explotación de bienes y actividades incluidas en la presente categoría, excepto los ingresos a que se refiere el artículo 1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O O CPP?</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hubiera una venta de 200 unidades de mercadería y aplicáramos el sistema FIFO, nuestros costos serían de 100 unidades a $15 c/u y 100 unidades a $20 c/u, por un total de $350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aplicamos el sistema CPP, nuestros costos promedios serían de $25 por unidad por un total de $5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 Bienes enajenados o prometidos enajenar.</a:t>
            </a:r>
            <a:endParaRPr b="0" lang="en-US" sz="4400" spc="-1" strike="noStrike">
              <a:solidFill>
                <a:srgbClr val="000000"/>
              </a:solidFill>
              <a:latin typeface="Times New Roman"/>
            </a:endParaRPr>
          </a:p>
        </p:txBody>
      </p:sp>
      <p:sp>
        <p:nvSpPr>
          <p:cNvPr id="85" name="PlaceHolder 2"/>
          <p:cNvSpPr>
            <a:spLocks noGrp="1"/>
          </p:cNvSpPr>
          <p:nvPr>
            <p:ph/>
          </p:nvPr>
        </p:nvSpPr>
        <p:spPr>
          <a:xfrm>
            <a:off x="0" y="1676520"/>
            <a:ext cx="8610480" cy="4495680"/>
          </a:xfrm>
          <a:prstGeom prst="rect">
            <a:avLst/>
          </a:prstGeom>
          <a:noFill/>
          <a:ln w="0">
            <a:noFill/>
          </a:ln>
        </p:spPr>
        <p:txBody>
          <a:bodyPr lIns="90000" rIns="90000" tIns="46800" bIns="46800" anchor="t">
            <a:normAutofit/>
          </a:bodyPr>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se estimará su costo directo de acuerdo </a:t>
            </a:r>
            <a:r>
              <a:rPr b="1" i="1" lang="es-MX" sz="2800" spc="-1" strike="noStrike">
                <a:solidFill>
                  <a:srgbClr val="000000"/>
                </a:solidFill>
                <a:latin typeface="Times New Roman"/>
              </a:rPr>
              <a:t>al que el contribuyente haya tenido presente para celebrar el respectivo contrato</a:t>
            </a:r>
            <a:r>
              <a:rPr b="0" i="1" lang="es-MX" sz="2800" spc="-1" strike="noStrike">
                <a:solidFill>
                  <a:srgbClr val="000000"/>
                </a:solidFill>
                <a:latin typeface="Times New Roman"/>
              </a:rPr>
              <a:t>. En todo caso, el valor de la enajenación o promesa deberá arrojar una utilidad estimada de la operación que diga relación con la que se ha obtenido en el mismo ejercicio respecto de las demás operaciones; todo ello sin perjuicio de ajustar la renta bruta definitiva de acuerdo al costo directo real en el ejercicio en que dicho costo se produzca.”</a:t>
            </a:r>
            <a:endParaRPr b="0" lang="en-US" sz="2800" spc="-1" strike="noStrike">
              <a:solidFill>
                <a:srgbClr val="000000"/>
              </a:solidFill>
              <a:latin typeface="Times New Roman"/>
            </a:endParaRPr>
          </a:p>
          <a:p>
            <a:pPr lvl="1" marL="743040" indent="-285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30 inciso 3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 Promesa de venta de bienes inmuebles.</a:t>
            </a:r>
            <a:endParaRPr b="0" lang="en-US" sz="4400" spc="-1" strike="noStrike">
              <a:solidFill>
                <a:srgbClr val="000000"/>
              </a:solidFill>
              <a:latin typeface="Times New Roman"/>
            </a:endParaRPr>
          </a:p>
        </p:txBody>
      </p:sp>
      <p:sp>
        <p:nvSpPr>
          <p:cNvPr id="87" name="PlaceHolder 2"/>
          <p:cNvSpPr>
            <a:spLocks noGrp="1"/>
          </p:cNvSpPr>
          <p:nvPr>
            <p:ph/>
          </p:nvPr>
        </p:nvSpPr>
        <p:spPr>
          <a:xfrm>
            <a:off x="533160" y="1981080"/>
            <a:ext cx="7924680" cy="4114800"/>
          </a:xfrm>
          <a:prstGeom prst="rect">
            <a:avLst/>
          </a:prstGeom>
          <a:noFill/>
          <a:ln w="0">
            <a:noFill/>
          </a:ln>
        </p:spPr>
        <p:txBody>
          <a:bodyPr lIns="90000" rIns="90000" tIns="46800" bIns="46800" anchor="t">
            <a:normAutofit/>
          </a:bodyPr>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el caso de </a:t>
            </a:r>
            <a:r>
              <a:rPr b="1" i="1" lang="es-MX" sz="2800" spc="-1" strike="noStrike">
                <a:solidFill>
                  <a:srgbClr val="000000"/>
                </a:solidFill>
                <a:latin typeface="Times New Roman"/>
              </a:rPr>
              <a:t>contratos de promesa de venta de inmuebles</a:t>
            </a:r>
            <a:r>
              <a:rPr b="0" i="1" lang="es-MX" sz="2800" spc="-1" strike="noStrike">
                <a:solidFill>
                  <a:srgbClr val="000000"/>
                </a:solidFill>
                <a:latin typeface="Times New Roman"/>
              </a:rPr>
              <a:t>, el costo directo de su adquisición o construcción se deducirá en el ejercicio en que se suscriba el contrato de venta correspondiente. Tratándose de </a:t>
            </a:r>
            <a:r>
              <a:rPr b="1" i="1" lang="es-MX" sz="2800" spc="-1" strike="noStrike">
                <a:solidFill>
                  <a:srgbClr val="000000"/>
                </a:solidFill>
                <a:latin typeface="Times New Roman"/>
              </a:rPr>
              <a:t>contratos de construcción por suma alzada</a:t>
            </a:r>
            <a:r>
              <a:rPr b="0" i="1" lang="es-MX" sz="2800" spc="-1" strike="noStrike">
                <a:solidFill>
                  <a:srgbClr val="000000"/>
                </a:solidFill>
                <a:latin typeface="Times New Roman"/>
              </a:rPr>
              <a:t>, el costo directo deberá deducirse en el ejercicio en que se presente cada cobro.”</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rtículo 30 inciso 4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 este inciso hay dos situa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37160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tos de promesa de venta de inmue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se descuenta en el período en que se celebra el contrato de venta prometido.</a:t>
            </a:r>
            <a:endParaRPr b="0" lang="en-US" sz="2800" spc="-1" strike="noStrike">
              <a:solidFill>
                <a:srgbClr val="000000"/>
              </a:solidFill>
              <a:latin typeface="Times New Roman"/>
            </a:endParaRPr>
          </a:p>
        </p:txBody>
      </p:sp>
      <p:sp>
        <p:nvSpPr>
          <p:cNvPr id="90" name="PlaceHolder 3"/>
          <p:cNvSpPr>
            <a:spLocks noGrp="1"/>
          </p:cNvSpPr>
          <p:nvPr>
            <p:ph/>
          </p:nvPr>
        </p:nvSpPr>
        <p:spPr>
          <a:xfrm>
            <a:off x="4647960" y="1219320"/>
            <a:ext cx="3809880" cy="49528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tos de construcción por suma alzada.</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sto se determina por parcialidades a medida que se van haciendo los pagos, considerando los costos totales de la obra, sin importar los costos en que se haya incurrido efectivam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 Contrato de construcción de una obra de uso público.</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los contratos de construcción de una obra de uso público a que se refiere el artículo 15, el costo representado por el valor total de la obra, en los términos señalados en los incisos sexto y séptimo del referido artículo, deberá deducirse en el ejercicio en que se inicie la explotación de la obra.”</a:t>
            </a:r>
            <a:r>
              <a:rPr b="1" i="1" lang="es-MX"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rtículo 30 inciso 5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iso final del artículo 30.</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447920"/>
            <a:ext cx="7772400" cy="48765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a:t>
            </a:r>
            <a:r>
              <a:rPr b="0" i="1" lang="es-MX" sz="2800" spc="-1" strike="noStrike">
                <a:solidFill>
                  <a:srgbClr val="000000"/>
                </a:solidFill>
                <a:latin typeface="Times New Roman"/>
              </a:rPr>
              <a:t>En los </a:t>
            </a:r>
            <a:r>
              <a:rPr b="1" i="1" lang="es-MX" sz="2800" spc="-1" strike="noStrike">
                <a:solidFill>
                  <a:srgbClr val="000000"/>
                </a:solidFill>
                <a:latin typeface="Times New Roman"/>
              </a:rPr>
              <a:t>casos en que no pueda establecerse claramente estas deducciones</a:t>
            </a:r>
            <a:r>
              <a:rPr b="0" i="1" lang="es-MX" sz="2800" spc="-1" strike="noStrike">
                <a:solidFill>
                  <a:srgbClr val="000000"/>
                </a:solidFill>
                <a:latin typeface="Times New Roman"/>
              </a:rPr>
              <a:t>, </a:t>
            </a:r>
            <a:r>
              <a:rPr b="1" i="1" lang="es-MX" sz="2800" spc="-1" strike="noStrike">
                <a:solidFill>
                  <a:srgbClr val="000000"/>
                </a:solidFill>
                <a:latin typeface="Times New Roman"/>
              </a:rPr>
              <a:t>la Dirección Regional podrá autorizar a los contribuyentes que dichos costos directos se rebajen conjuntamente con los gastos necesarios para producir la renta, a que se refiere el artículo siguiente</a:t>
            </a:r>
            <a:r>
              <a:rPr b="0" i="1" lang="es-MX"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a es una norma que permite que los costos que no se puedan</a:t>
            </a:r>
            <a:r>
              <a:rPr b="0" i="1" lang="es-MX" sz="2800" spc="-1" strike="noStrike">
                <a:solidFill>
                  <a:srgbClr val="000000"/>
                </a:solidFill>
                <a:latin typeface="Times New Roman"/>
              </a:rPr>
              <a:t> </a:t>
            </a:r>
            <a:r>
              <a:rPr b="0" lang="es-MX" sz="2800" spc="-1" strike="noStrike">
                <a:solidFill>
                  <a:srgbClr val="000000"/>
                </a:solidFill>
                <a:latin typeface="Times New Roman"/>
              </a:rPr>
              <a:t>identificar con un producto en los términos explicados puedan ser rebajados como gastos previa autorización de la Dirección Regional del SI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trate de un gasto necesario para producir la ren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no se encuentre rebajado como Costo Direc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el sujeto pasivo haya incurrido efectivamente en el gasto y que este se encuentre pagado o adeud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acredite o justifique fehacientemente ante el SI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se trate de un gasto relacionado con el giro de la empresa o nego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e no se trate de un gasto que la ley declare como no deduc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tos Genéricos, aquellos que no están expresamente descritos por el legislador pero que cumplen con los requisitos propios de los gas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tos específicos, aquellos que están definidos y descritos por el legislador en los trece numerales del artículo 31 de la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de ingresos</a:t>
            </a:r>
            <a:endParaRPr b="0" lang="en-US" sz="4400" spc="-1" strike="noStrike">
              <a:solidFill>
                <a:srgbClr val="000000"/>
              </a:solidFill>
              <a:latin typeface="Times New Roman"/>
            </a:endParaRPr>
          </a:p>
        </p:txBody>
      </p:sp>
      <p:sp>
        <p:nvSpPr>
          <p:cNvPr id="4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dos de las ven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ados de servi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s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ue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c.</a:t>
            </a:r>
            <a:endParaRPr b="0" lang="en-US" sz="2800" spc="-1" strike="noStrike">
              <a:solidFill>
                <a:srgbClr val="000000"/>
              </a:solidFill>
              <a:latin typeface="Times New Roman"/>
            </a:endParaRPr>
          </a:p>
        </p:txBody>
      </p:sp>
      <p:sp>
        <p:nvSpPr>
          <p:cNvPr id="4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olo formarán parte de los ingresos, aquellos derivados de la explotación de bienes y actividades de la empresa sino también  lo que provenga de fuera de la empre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de ingresos de una Sociedad</a:t>
            </a:r>
            <a:endParaRPr b="0" lang="en-US" sz="4400" spc="-1" strike="noStrike">
              <a:solidFill>
                <a:srgbClr val="000000"/>
              </a:solidFill>
              <a:latin typeface="Times New Roman"/>
            </a:endParaRPr>
          </a:p>
        </p:txBody>
      </p:sp>
      <p:graphicFrame>
        <p:nvGraphicFramePr>
          <p:cNvPr id="49" name=""/>
          <p:cNvGraphicFramePr/>
          <p:nvPr/>
        </p:nvGraphicFramePr>
        <p:xfrm>
          <a:off x="685800" y="2021040"/>
          <a:ext cx="7772400" cy="4033800"/>
        </p:xfrm>
        <a:graphic>
          <a:graphicData uri="http://schemas.openxmlformats.org/presentationml/2006/ole">
            <p:oleObj progId="Word.Document.12" r:id="rId1" spid="">
              <p:embed/>
              <p:pic>
                <p:nvPicPr>
                  <p:cNvPr id="50" name="" descr=""/>
                  <p:cNvPicPr/>
                  <p:nvPr/>
                </p:nvPicPr>
                <p:blipFill>
                  <a:blip r:embed="rId2"/>
                  <a:stretch/>
                </p:blipFill>
                <p:spPr>
                  <a:xfrm>
                    <a:off x="685800" y="2021040"/>
                    <a:ext cx="7772400" cy="40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sion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do lo que se perciba o devengue a favor de la empresa forma parte de los ingresos bruto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n parte de los ingresos brutos tanto los que provienen de actividades dentro de la empresa como las de fuera de ell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aciones Relevant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mento en que se reconoce un ingreso</a:t>
            </a:r>
            <a:r>
              <a:rPr b="0" lang="en-US" sz="3200" spc="-1" strike="noStrike">
                <a:solidFill>
                  <a:srgbClr val="000000"/>
                </a:solidFill>
                <a:latin typeface="Times New Roman"/>
              </a:rPr>
              <a:t>: cuando se percibe o deve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to del ingreso</a:t>
            </a:r>
            <a:r>
              <a:rPr b="0" lang="en-US" sz="3200" spc="-1" strike="noStrike">
                <a:solidFill>
                  <a:srgbClr val="000000"/>
                </a:solidFill>
                <a:latin typeface="Times New Roman"/>
              </a:rPr>
              <a:t>: aquel estipulado en el contrato respectivo, sin perjuicio de la facultad del SII para tasar el monto declar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COSTOS DIRECTOS        (30 LIR)</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na vez determinados los ingresos brutos debemos restarles los costos en que se incurrió para producir dichos in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os costos directos son </a:t>
            </a:r>
            <a:r>
              <a:rPr b="1" lang="es-MX" sz="3200" spc="-1" strike="noStrike">
                <a:solidFill>
                  <a:srgbClr val="000000"/>
                </a:solidFill>
                <a:latin typeface="Times New Roman"/>
              </a:rPr>
              <a:t>el valor de los bienes y servicios que se requieren para la obtención de la ren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s de determinar los costo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artículo 30 de la LIR nos señala la manera de determinarlo mediante el señalamiento de distintos cas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rcaderías adquiridas en el paí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el valor o precio de adquisición, según la respectiva factura, contrato o convención, y optativamente el valor del flete y seguros hasta las bodegas del adquirent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Artículo 30 inciso 1º, 2ª par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2T14:01:27Z</dcterms:created>
  <dc:creator>Juan Francisco Reyes</dc:creator>
  <dc:description/>
  <dc:language>en-US</dc:language>
  <cp:lastModifiedBy>María Inés Marcelli</cp:lastModifiedBy>
  <dcterms:modified xsi:type="dcterms:W3CDTF">2004-05-11T21:21:34Z</dcterms:modified>
  <cp:revision>8</cp:revision>
  <dc:subject/>
  <dc:title>DETERMINACION DE LA BASE IMPONIBLE DE PRIMERA CATEGORÍA </dc:title>
</cp:coreProperties>
</file>