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6CF1-6A49-4093-87D6-4128E2EBBA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nuevo sistema se abandona la pretensión de controlar la actuación de los jueces a través de la revisión de lo obrado por los tribunales superiores, en lo que se suele calificar de control vertical y a posteriori</a:t>
            </a:r>
            <a:r>
              <a:rPr b="0" i="1" lang="en-US" sz="1200" spc="-1" strike="noStrike">
                <a:solidFill>
                  <a:srgbClr val="000000"/>
                </a:solidFill>
                <a:latin typeface="Arial"/>
              </a:rPr>
              <a:t> </a:t>
            </a:r>
            <a:r>
              <a:rPr b="0" lang="en-US" sz="1200" spc="-1" strike="noStrike">
                <a:solidFill>
                  <a:srgbClr val="000000"/>
                </a:solidFill>
                <a:latin typeface="Arial"/>
              </a:rPr>
              <a:t>de la resolución judicial, y se reemplaza por la consecución de una intervención de los interesados en la producción misma de la decisión judicial, es decir un control que podría denominarse horizontal, que es lo mas propio del proceso jurisdiccional 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o se establece un nuevo régimen de recursos muy limitado en contra de las sentencias que se dicten en el nuevo sistema, en que el rol central lo desempeña el recurso de nulidad con una menor incidencia del recurso de apelación, manteniéndose la procedencia de la reposición y del recurso de revisión conforme a las reglas general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casos en que el propio legislador determina que, por la gravedad de los hechos en que se sustentan, ha existido infracción sustancial de las garant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establecen supuestos objetivos enumerados por la ley, que cuando concurren siempre traen consigo la invalidación del juicio y de la sentencia, que son denominados "motivos absolutos de nu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 Falta de presencia continuada de los jueces, Ministerio Público o del Defensor del ac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audiencia del juicio oral hubiere tenido lugar en ausencia de alguna de las personas cuya presencia continuada exigen, bajo sanción de nulidad,  los artículos 284 y 2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 Haberse impedido ejercer adecuadamente el derecho de def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al defensor se le hubiere impedido ejercer las facultades que la ley le otor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 haberse respetado los principios de publicidad y continu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el juicio oral hubieren sido violadas las disposiciones establecidas por la ley sobre publicidad y continuidad del ju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la sentencia, se hubiere omitido alguno de los requisitos previstos en el artículo 342, letras c), d) o 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pueden distinguir dos causales de procedenci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alta de fundamento por haberse omitido las consideraciones de hecho y de derecho.</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misión de pronunciamiento acerca de las pretensiones penales y las civiles  que se hubieren hecho valer en el juicio oral, sin perjuicio que ellas se encuentren estrechamente vinculadas entre s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 Haberse incurrido en el vicio de ultrapetita o falta de congruencia entre la acusación y la sentenc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se hubiere dictado con infracción de lo prescrito en el artículo 341.”</a:t>
            </a:r>
            <a:r>
              <a:rPr b="0" lang="es-ES_tradnl" sz="1200" spc="-1" strike="noStrike">
                <a:solidFill>
                  <a:srgbClr val="000000"/>
                </a:solidFill>
                <a:latin typeface="Arial"/>
              </a:rPr>
              <a:t> (art.374 letra f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 Haberse pronunciado en contra de otra pasada en autoridad de cosa juzga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hubiere sido dictada en oposición a otra sentencia criminal pasada en autoridad de cosa juzgada.”</a:t>
            </a:r>
            <a:r>
              <a:rPr b="0" lang="es-ES_tradnl" sz="1200" spc="-1" strike="noStrike">
                <a:solidFill>
                  <a:srgbClr val="000000"/>
                </a:solidFill>
                <a:latin typeface="Arial"/>
              </a:rPr>
              <a:t>(art.374 letra g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odría decir que la regla general en cuanto al conocimiento y fallo del Recurso de Nulidad corresponde a las respectivas Cortes de Apelaciones, ya que el CPP dispone que son de su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a en que la sentencia recurrida ha sido obtenida infringiendo las garantías constitucionales enumeradas expresamente en el CPP, bajo la denominación de Motivos Absolutos de Nulidad", en el art. 374 CPP. Esta infracción se puede haber producido durante el juicio oral o en la redacción de la sen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en en que se ha hecho una errónea aplicación del derecho, que hubiere influi­do sustancialmente en lo dispositivo del fallo, sal­vo las excepciones en que le corresponde conocer a la Corte Supr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Corte Suprema corresponde conocer de los más importantes recursos para el funcionamiento del sistema de justicia penal, que 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fundare en que en la tramitación del juicio o en el pronunciamiento de la sentencia se hubieren infringido sustancialmente derechos y garantías asegurados por la Constitución o los tratados internacionales sobre derechos humanos. </a:t>
            </a:r>
            <a:r>
              <a:rPr b="0" lang="es-ES_tradnl" sz="1000" spc="-1" strike="noStrike">
                <a:solidFill>
                  <a:srgbClr val="000000"/>
                </a:solidFill>
                <a:latin typeface="Arial"/>
              </a:rPr>
              <a:t>(art.373 letra a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ncia de esta causal es que cautela una de las características centrales del sistema; que los procesos y las sentencias sean respetuosos de los derechos fundamen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el recurso se fundamentare en que se ha hecho una errónea aplicación del derecho que hubiera influido sustancialmente en lo dispositivo del fallo y respecto de la materia objeto del mismo existieren diferentes interpretaciones sostenidas en diversos fallos emanados de los tribunales superi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trata de recursos que, en principio correspondería conocer a las Cortes de Apelaciones respectivas, pero que, en razón de la dispersión de decisiones que se observa, el legislador considera que deben entregarse a la Corte Suprema para que unifique la jurisprudencia, evitando los problemas que trae consigo el pronunciamiento de sentencia contradictor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n mismo recurso entablado contra una sentencia se fundare en diferentes causales y al menos de una de ellas le correspondiera conocer a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deduzcan distintos Recursos de Nulidad contra la misma sentencia, por diferentes causales, entre las cuales hubiere una que fuere de conocimiento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stos dos últimos casos, se entrega al tribunal superior el conocimiento de los recursos en que simultáneamente se hace procedente la intervención de la Corte de Apelaciones y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FORMALIDADES DE LA INTERPOSICIÓN</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posición de un recurso de nulidad debe cumplir requisitos rigurosos, que no deben ser interpretados de manera formalista para desincentivar su inter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lazo para interponer el Recurso de Nulidad</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372 inc2 CPP señala que deberá interponerse dentro de los diez días siguientes a la notificación de la sentencia definitiva, ante el tribunal que hubiere conocido del juicio oral, o ante el juez de granaría que hubiere conocido del procedimiento simplificado o de la acción penal privada conforme a lo previsto en el 399 y 40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otificación de la sentencia se entiende que se verifica el día de la audiencia de lectura de la sentencia conforme al art.346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 plazo legal, de días, individual y continu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paración del recurso</a:t>
            </a:r>
            <a:r>
              <a:rPr b="1"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ecurso de Nulidad supone que quien lo entable debe prepararlo, reclamando oportunamente del vicio o defecto alegado consistente en la infracción a una ley que regulare el procedimiento (art. 377 CP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trata de una exigencia particularmente alta para los abogados, quienes deben reclamar, mediante la reposición y la constancia del rechazo, durante todo el transcurso del proceso. Particularmente en el juicio oral. Téngase en cuenta que estas infracciones a las normas de procedimiento se transformarán en vulneración a las garantías constitucionales y esa será la causal que seguramente fundamentará el recurs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in embargo, no será necesaria la reclamación en los siguientes cas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ando se trate de un  Motivo Absoluto de Nulid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uando la ley no admita recursos contra la resolución que contenga el vicio o defec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uando el vicio ha tenido lugar en el pronunciamiento mismo de la sentencia que se trata de invalid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ando dicho vicio o defecto hubiere llegado a conocimiento de la parte después de pronunciada la sentenci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or ultimo, la solicitud de nulidad que se haga duran­te la fase de investigación o posteriores, será suficiente preparación del recurso (art. 165 inc. 4 CPP).</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crito, debiendo con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 fundamentos, los cuales pueden conformar distintas causales, caso en el cual deberá señalar si se invocan conjunta o subsidiariamente. Cada motivo de nulidad deberá ser fundado separ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evento de que el recurso se fundamente en la errónea aplicación del derecho y se solicite que sea conocido por la Corte Suprema porque sobre la materia existieren distintas Interpretaciones emanadas de fallos de diferentes tribunales superiores, deberán indicarse en forma precisa las sentencia en que se hubieren sostenido tales interpretaciones y acompañarse copla de ellas o de las publicaciones que contengan sus textos íntegros (art.378 inc. 2 y 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eticiones concretas que se sometieren al fallo del tribunal, que deben ser la de que se acoja el recurso y se invalide la sentencia, realizándose un nuevo juicio oral o pronunciándose una nueva sentencia (art.378 inc.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mente puede contener el ofrecimiento de prueba de la causal que se invoca (art.359 inc. 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o a si la interposición del recurso de nulidad, suspende la aplicación de la sentencia recurrida, mientras el recurso permanezca pendiente, hay que distinguir si se trata de una sentencia condenatoria o absolutoria, esta ultima en los casos en que pueda ser recur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recurre una sentencia condenatoria</a:t>
            </a:r>
            <a:r>
              <a:rPr b="0" lang="en-US" sz="1200" spc="-1" strike="noStrike">
                <a:solidFill>
                  <a:srgbClr val="000000"/>
                </a:solidFill>
                <a:latin typeface="Arial"/>
              </a:rPr>
              <a:t>, la inter­posición del recurso de nulidad suspende sus efec­tos (art.379 inc.1 CPP). Es decir mientras este pendiente la resolución del recurso, la condena no se ejecuta por aplicación de la presunción de inoc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se recurre una sentencia absolutoria</a:t>
            </a:r>
            <a:r>
              <a:rPr b="0" lang="en-US" sz="1200" spc="-1" strike="noStrike">
                <a:solidFill>
                  <a:srgbClr val="000000"/>
                </a:solidFill>
                <a:latin typeface="Arial"/>
              </a:rPr>
              <a:t>,  en los casos que pueda ser recurrida, no suspende sus efectos. (art.379 inc.1, art. 355 CP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icio oral se define esencialmente porque la decisión se adopta en virtud de la prueba percibida directa e inmediatamente por los miembros del tribunal a través de sus propios sentidos, sin la intermediación de ninguna persona. Esto hace que el juicio oral sea, como se ha dicho, único e irrepe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si respeto a la oralidad impide que puedan pronunciar la sentencia definitiva jueces o magistrados que no han asistido al juicio. Teniendo en cuenta que el art. 1 CPP, reconoce que todas las personas tienen derecho a un juicio previo, oral y publico, es evidente que no podrá establecerse la segunda instancia, si se quiere respetar efectivamente la oralidad, salvo que se obligue a realizar un nuevo juicio oral ante el tribunal que conozca del eventual Recurso de Apelación, tal cual acontece en algunos países europeos contin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sa razón, en el nuevo procedimiento penal, se ha establecido como regla general el Recurso de Nulidad, que tiene por objeto invalidar el juicio oral y la sentencia definitiva o solamente la ultima, cuando en al¬gunos de ellos se hayan infringido las garantías constitucionales o cuando en el pronunciamiento mismo de la sentencia se haya hecho una errónea aplicación del dere¬cho que hubiere influido sustancialmente en lo dispositivo del fa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dmisibilidad ante el tribunal </a:t>
            </a:r>
            <a:r>
              <a:rPr b="1" i="1" lang="es-ES" sz="900" spc="-1" strike="noStrike">
                <a:solidFill>
                  <a:srgbClr val="000000"/>
                </a:solidFill>
                <a:latin typeface="Arial"/>
              </a:rPr>
              <a:t>ad quem </a:t>
            </a:r>
            <a:r>
              <a:rPr b="1" lang="es-ES" sz="900" spc="-1" strike="noStrike">
                <a:solidFill>
                  <a:srgbClr val="000000"/>
                </a:solidFill>
                <a:latin typeface="Arial"/>
              </a:rPr>
              <a:t>y en especial facultades de la Corte Suprem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la Corte Suprema o en la Corte de Apelaciones respectiva, una vez ingresados los antecedentes, se abrirá un plazo de 5 días para que las demás panes soliciten que el recurso se declare inadmisible o formulen por escrito las observaciones que estimen pertinen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mismo, si existe una parte que también haya resultado agraviada por la sentencia y que no la haya recurrido de nulidad, en el mismo plazo podrá adherirse por escrito, cumpliendo con todos los requisitos necesarios para interponerlo por separado. La admisibilidad de la adhesión será resuelta de plano por la misma Corte (art.38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uego, la Corte debe pronunciarse en cuenta sobre la admisibilidad del recurso, pero sus facultades son más amplias que las del tribunal a quo</a:t>
            </a:r>
            <a:r>
              <a:rPr b="0" i="1" lang="es-ES" sz="900" spc="-1" strike="noStrike">
                <a:solidFill>
                  <a:srgbClr val="000000"/>
                </a:solidFill>
                <a:latin typeface="Arial"/>
              </a:rPr>
              <a:t>. </a:t>
            </a:r>
            <a:r>
              <a:rPr b="0" lang="es-ES" sz="900" spc="-1" strike="noStrike">
                <a:solidFill>
                  <a:srgbClr val="000000"/>
                </a:solidFill>
                <a:latin typeface="Arial"/>
              </a:rPr>
              <a:t>Así, puede declararlo inadmisible si:</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solución no es impugn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ha deducido fuera de plaz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escrito de interposición careciere de antecedentes de hecho o de derecho o de peticiones con­creta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recurso no se hubiera preparado oportunamente. (art.383 inc. 1 y 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tribunal ad quem puede declararlo inadmisible s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resolución no es impug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ha deducido fuera de pla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crito de interposición careciere de antecedentes de hecho o de derecho o de peticiones con­cre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recurso no se hubiera preparado oportunamente. (art.383 inc. 1 y 2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una audiencia pública, destinada a permitir que las partes puedan proporcionar a la Corte sus alegaciones de hecho y de derecho, en base a las que deberá adoptar su decisión. A esta audiencia deberán asistir todos los recurrentes, de modo que la inasistencia de cualquiera de ellos producirá el abandono del recurso, según tendrá que declararlo inmediatamente la misma Corte. En cambio, la inasistencia de los recurridos permitir a conocer del recurso en su ausencia (art. 358 inc.1 y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anunciada la causa según las actuales reglas, sin previa relación ya que no hay expediente que relatar, se concede la palabra a los recurrentes para que expongan sus argumentos de hecho y de derecho, y sus peticiones concretas. Luego, se autoriza la intervención de los recu­rridos en los mismos términos. Como se trata de realizar una audiencia dinámica, se permite que en cualquier momento del debate los ministros de la Corte puedan formular preguntas a las partes para que precisen sus alega­ciones, aclaren sus dudas o, en general, se refieran a cualquier aspecto que consideren necesario para tomar su decisión, ya que el debate contradictorio entre las partes será la fuente de su conocimiento del c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mismo, en el caso de que se haya ofrecido prueba sobre la causal invocada, en la misma audiencia deberá proceder a recibirse, sin que en caso alguno pueda suspenderse la audiencia, por problemas para su recepción (art.359 inc.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ido el debate, la Corte deberá pronunciar su sentencia de inmediato o en la fecha, día y hora que señale, dentro del plazo máximo de 20 días (art.384 inc.1 CPP),  encomendándole la redacción del fallo a uno de sus ministros (art.358 inc.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cuanto al contenido del fallo, deberá pronunciarse sobre las peticiones formuladas por el recurrente, pero, evidentemente, no pueden extenderse a cuestiones  no planteadas por el o que exceden los limites de lo solicitado, salvo los supuestos en los cuales se autorice al tribunal a pronunciarse de of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esos supuestos se encuentran los 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lo que no se permite es la situación opuesta, que atenta contra una garantía recogida en los tratados internacionales, conocida como la reformatio in peius, conforme a la cual si contra la sentencia recurre un solo interviniente, la Corte no podrá reformarla en perjuicio del mismo recu­rrente. (art.360 inc.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e entabla el recurso fundamentado en determinadas causales, lógicamente que no podrán invocarse nuevas, aunque la Corte respectiva, de oficio podría acoger el recurso entablado por el imputado por un motive distinto, siempre que se trate de uno de aquellos Motivos Absolutos de Nulidad que contempla el art.374 CPP  (art.360 inc.2, art.376 inc. 2 CPP).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l legislador procesal penal estableció este recurso para alcanzar las siguientes finalidad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gurara el respeto de las garantías y derechos fundamentales, tanto dentro del proceso, como en la dictación del juicio oral. Causal del art.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ar por la correcta y uniforme aplicación de la ley en la sentencia al pronunciarse en la resolución del conflicto dentro del juicio oral. Causal del 373 letra b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352 = CONTEMPLA LA POSIBILIDAD DE RECURRIR SÓLO RESPECTO DEL MINISTERIO PÚBLICO Y DEMÁS INTERVINIENTES AGRAVIADOS POR UNA RESOLUCIÓN JUDIC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09 F) = LA VÍCTIMA SE ENCUENTRA FACULTADA PARA DEDUCIR EL RECUROS DE NULIDA EN CONTRA DE LA SENTENCIA ABSOLUTORIA +, AUN CUANDO NO HUBIERE DEDUCIDO QUERELA O INTERVENIDO EN EL JUICIO ORAL O EN EL PROCEDIMIENTO SIMPLIFIC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LO PODRÁ DEDUCIR REC. NULIDAD EN CONTRA DE LA SENTENCIA EL QUERELLANTE EN LOS CASOS EXCEPCIONALES EN QUE SIN SER VÍCTIMA HUBIERE DEDUCIDO QUERELL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PONDE A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59 = (A PROPÓSITO DE LAS NULIDADES PROCESALES) SÓLO PODRÁN ANULARSE LAS ACTUACIONES O DILIGENCIAS JUDICIALES DEFECCTUOSAS DEL PROCEDIMIENTO QUE OCASIONARES A LOS INTERVINIENTES UN PERJUICIO REPARABLE UNICAMENTE CON LA DECLARACIÓN DE NULIDAD. EXISTE PERJUICIO CUANDO LA INOBSERVACIA DE LAS NORMAS PROCESALES ATENTA CONTRA LAS POSIBILIDADES DE ACTUACIÓN DE CUALQUIERA DE LOS INTERVINIENTES EN EL PROCEDIMIENTO. SIN PERJUICIO DE ELLO, CONFORME A 160, SE PRESUMIRÁ DE DERECCHO LA EXISTENCIA DEL PERJUICIO SI LA INFRACCIÓN HUBIERE IMPEDIDO EL PLENO EJERECICIO DE LAS GRANTÍA Y DERECHOS RECONOCIDOS EN LA CONSTITUCIÓN O EN LAS DEMÁS LEYES DE LA REPÚBL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RATANDOSE DEL RECURSO DE NULIDAD, SE CONTEMPLA E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 ARTÍCULO 375, NO CAUSAN NULIDAD LOS ERRORES DE LA SENTENCIA RECURRIDA QUE NO INFLUYEREN EN SU PARTE DISPOSITIVA, SIN PERJUICIO DE LO CUAL LA CORTE SUPREMA PODRÁ CORREGIR LOS QUE ADVIERTERE DURANTE EL CONOCIMIENTO DEL RECURS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2° TRATÁNDOSE DE LAS 2 CAUSALES GENÉRICAS, SE HA CONTEMPLADO LA </a:t>
            </a:r>
            <a:r>
              <a:rPr b="0" lang="es-MX" sz="800" spc="-1" strike="noStrike" u="sng">
                <a:solidFill>
                  <a:srgbClr val="000000"/>
                </a:solidFill>
                <a:uFillTx/>
                <a:latin typeface="Arial"/>
              </a:rPr>
              <a:t>INCIDENCIA SUSTANCIAL </a:t>
            </a:r>
            <a:r>
              <a:rPr b="0" lang="es-MX" sz="800" spc="-1" strike="noStrike">
                <a:solidFill>
                  <a:srgbClr val="000000"/>
                </a:solidFill>
                <a:latin typeface="Arial"/>
              </a:rPr>
              <a:t>QUE DEBE HABER TENIDO LA INFRACCIÓN RESPECTO DE LOS DERECHOS Y GARANTÍAS ASEGURADOS POR LA CONSTITUCIÓN O POR LOS TRATADOS INTERNACIONALES (373 A) Y, POR OTRA PARTE, RESPECTO DE LA ERRONEA APLICACIÓN DEL DERECHO EXIGE QUE ÉSTE HUBIERE INFLUIDO SUSTANCIALMENTE EN LO DISPOSITIVO DEL FA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XCEPCIONALMENTE, ENTEMOS QUE NO SERÁ NECESARIO DEMOSTRAR LA EXISTENCIA DEL PERJUICIO CUNADO NOS ENCONTREMOS ANTE UN RECURSO DE NULIDAD QUE SE INTERPONE POR ALGUNA DE LAS CAUSALES ESPECÍFICAS CONTEMPLADAS EN EL ARTÍCULO 37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FIERE A LA “PREPARACIÓN DEL RECURSO”, PROCEDIENDO COMO REGLA GENERAL, A MENOS QUE LA LEY LO EXIMA, ATENDIDA LA NATURALEZA DEL VICIO O LA OPORTUNIDAD QUE LLEGÓ A CONOCIMIENTO DEL RECURRENTE.</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 de los grandes avances del nuevo procesal penal consiste en obtener sentencias que sean producto de procesos respetuosos de los derechos y garantías constitucionales, por ello, se establece expresamente como causal de procedencia del Recurso de Nulidad, que en el pronunciamiento de la sentencia o en la tramitación del juicio, se hubieren infringido sustancialmente derechos o garantías asegurados por la Constitución o los tratados internacionales ratificados por Chile y que se encuentren vigentes (art. 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contempla la infracción general de cualquier otra garantía que no esta expresamente contemplada en la ley, como los Motivos Absolutos de nulidad, debiendo demostrarse que se trata efectivamente de una garantía y que ha sido vulnerada durante la tramitación del juicio o en el pronunciamiento de la sentencia defin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que el Código Procesal Penal no es claro, teniendo en cuenta que las garantías se le conceden al imputado en contra del Estado, solo el puede recurrir por esa causal, sin que lo pueda hacer el Ministerio Publico, ya que importaría que el Estado obtiene provecho de sus propias infracciones constitu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entencia judicial debe pronunciarse aplicando el derecho a los hechos tal cual han sido establecidos a través de la prueba. Esto supone que sea el tribunal quien deba decidir cual de las normas jurídicas con que cuenta el ordenamiento jurídico deben aplicarse al caso y, luego, cual es el contenido o sentido que debe darle a aquella que ha resuelto aplic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ecisión del tribunal es impugnable por vía del Recurso de Nulidad, a través de la causal que consiste en alegar que "en el pronunciamiento de la sentencia, se hubiere hecho una errónea aplicación del derecho que hubiere influido sustancialmente en lo dispositivo del fallo. En el fondo, se permite que el agraviado por la decisión, solicite al tribunal superior que ratifique si en su concepto las normas que se han aplicado son las que el considera procedentes y, luego, si el sentido que se les ha atribuido es también el que estima adecua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as decisiones pueden ser alteradas por el tribunal superior, pero en caso alguno debe significar alterar los hechos tal cual han sido fajados por el tribunal del juicio o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ésta causal pueden recurrir cualquiera de las partes, incluyendo al Ministerio Publico (art. 352 CP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A89B-BE86-47CC-B3F5-AB90127B4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CBA6-6C2C-4A8F-A5AA-1DAC8F75B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855AB-A95F-4D28-9372-F8C756A84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69EA4-3D98-4CD3-8F63-15D29B58E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7BB6F-D308-4FFD-A0E6-F0D4ED7B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4C967-9C2C-4D18-9D97-0349CAE14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8D7CF-502A-4BAC-8D52-951F583BC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B110-A90F-4678-A9D6-8DC088FFB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379F-D1D9-42F5-9F0F-53D8FEA5A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D24C9-1054-4A84-B1FA-7352345C8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EB6BB-CD70-4D3C-B956-52F917E02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4392-DDBB-40DE-961E-6A4A3D48C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BB07-8532-4E12-AE31-42A8685BA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30378" b="17179"/>
          <a:stretch/>
        </p:blipFill>
        <p:spPr>
          <a:xfrm>
            <a:off x="0" y="0"/>
            <a:ext cx="9144000" cy="6858000"/>
          </a:xfrm>
          <a:prstGeom prst="rect">
            <a:avLst/>
          </a:prstGeom>
          <a:ln w="0">
            <a:noFill/>
          </a:ln>
        </p:spPr>
      </p:pic>
      <p:sp>
        <p:nvSpPr>
          <p:cNvPr id="49" name="PlaceHolder 1"/>
          <p:cNvSpPr>
            <a:spLocks noGrp="1"/>
          </p:cNvSpPr>
          <p:nvPr>
            <p:ph type="title"/>
          </p:nvPr>
        </p:nvSpPr>
        <p:spPr>
          <a:xfrm>
            <a:off x="53964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333399"/>
                </a:solidFill>
                <a:latin typeface="Arial"/>
              </a:rPr>
              <a:t>Recurso de Nulidad</a:t>
            </a:r>
            <a:endParaRPr b="0" lang="en-US" sz="6500" spc="-1" strike="noStrike">
              <a:solidFill>
                <a:srgbClr val="000000"/>
              </a:solidFill>
              <a:latin typeface="Arial"/>
            </a:endParaRPr>
          </a:p>
        </p:txBody>
      </p:sp>
      <p:sp>
        <p:nvSpPr>
          <p:cNvPr id="50" name=""/>
          <p:cNvSpPr/>
          <p:nvPr/>
        </p:nvSpPr>
        <p:spPr>
          <a:xfrm>
            <a:off x="1187280" y="4221000"/>
            <a:ext cx="6769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recho Procesal V</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Junio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30378" b="17179"/>
          <a:stretch/>
        </p:blipFill>
        <p:spPr>
          <a:xfrm>
            <a:off x="0" y="0"/>
            <a:ext cx="9144000" cy="6858000"/>
          </a:xfrm>
          <a:prstGeom prst="rect">
            <a:avLst/>
          </a:prstGeom>
          <a:ln w="0">
            <a:noFill/>
          </a:ln>
        </p:spPr>
      </p:pic>
      <p:sp>
        <p:nvSpPr>
          <p:cNvPr id="7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 Causales específicas o Motivos Absolutos de Nulidad</a:t>
            </a:r>
            <a:r>
              <a:rPr b="0" lang="en-US" sz="4000" spc="-1" strike="noStrike">
                <a:solidFill>
                  <a:srgbClr val="333399"/>
                </a:solidFill>
                <a:latin typeface="Arial"/>
              </a:rPr>
              <a:t>.</a:t>
            </a:r>
            <a:br>
              <a:rPr sz="4000"/>
            </a:br>
            <a:r>
              <a:rPr b="0" lang="en-US" sz="2800" spc="-1" strike="noStrike">
                <a:solidFill>
                  <a:srgbClr val="333399"/>
                </a:solidFill>
                <a:latin typeface="Arial"/>
              </a:rPr>
              <a:t>Artículo 374 Código Procesal Penal.</a:t>
            </a:r>
            <a:endParaRPr b="0" lang="en-US" sz="2800" spc="-1" strike="noStrike">
              <a:solidFill>
                <a:srgbClr val="000000"/>
              </a:solidFill>
              <a:latin typeface="Arial"/>
            </a:endParaRPr>
          </a:p>
        </p:txBody>
      </p:sp>
      <p:sp>
        <p:nvSpPr>
          <p:cNvPr id="74" name="PlaceHolder 2"/>
          <p:cNvSpPr>
            <a:spLocks noGrp="1"/>
          </p:cNvSpPr>
          <p:nvPr>
            <p:ph/>
          </p:nvPr>
        </p:nvSpPr>
        <p:spPr>
          <a:xfrm>
            <a:off x="457200" y="2276280"/>
            <a:ext cx="8229600" cy="4321080"/>
          </a:xfrm>
          <a:prstGeom prst="rect">
            <a:avLst/>
          </a:prstGeom>
          <a:noFill/>
          <a:ln w="0">
            <a:noFill/>
          </a:ln>
        </p:spPr>
        <p:txBody>
          <a:bodyPr lIns="90000" rIns="90000" tIns="46800" bIns="46800"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Arial"/>
              </a:rPr>
              <a:t>1. Vicios que pueden afectar al tribunal que pronuncia la sentencia definitiva</a:t>
            </a:r>
            <a:r>
              <a:rPr b="0" lang="es-ES_tradnl" sz="2200" spc="-1" strike="noStrike">
                <a:solidFill>
                  <a:srgbClr val="333399"/>
                </a:solidFill>
                <a:latin typeface="Arial"/>
              </a:rPr>
              <a:t>.</a:t>
            </a:r>
            <a:endParaRPr b="0" lang="en-US" sz="22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tribunal in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tribunal no integrado por los jueces designados por la ley.</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juez de garantía o con la concurrencia de un juez de tribunal de juicio oral en lo penal legalmente implicado o cuya recusación estuviere pendiente o hubiere sido declarada por tribunal 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Acordada por un menor número de votos o pronunciada por menor número de jueces que el requerido por la ley, o con concurrencia de jueces que no hubieren asistido al juici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0" r="30378" b="17179"/>
          <a:stretch/>
        </p:blipFill>
        <p:spPr>
          <a:xfrm>
            <a:off x="0" y="0"/>
            <a:ext cx="9144000" cy="6858000"/>
          </a:xfrm>
          <a:prstGeom prst="rect">
            <a:avLst/>
          </a:prstGeom>
          <a:ln w="0">
            <a:noFill/>
          </a:ln>
        </p:spPr>
      </p:pic>
      <p:sp>
        <p:nvSpPr>
          <p:cNvPr id="76" name="PlaceHolder 1"/>
          <p:cNvSpPr>
            <a:spLocks noGrp="1"/>
          </p:cNvSpPr>
          <p:nvPr>
            <p:ph/>
          </p:nvPr>
        </p:nvSpPr>
        <p:spPr>
          <a:xfrm>
            <a:off x="457200" y="764640"/>
            <a:ext cx="8229600" cy="51850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2. Falta de presencia continuada de los jueces, Ministerio Público o del Defensor del acusado.</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3. Haberse impedido ejercer adecuadamente el derecho de defensa.</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4. No haberse respetado los principios de publicidad y continuida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0" r="30378" b="17179"/>
          <a:stretch/>
        </p:blipFill>
        <p:spPr>
          <a:xfrm>
            <a:off x="0" y="0"/>
            <a:ext cx="9144000" cy="6858000"/>
          </a:xfrm>
          <a:prstGeom prst="rect">
            <a:avLst/>
          </a:prstGeom>
          <a:ln w="0">
            <a:noFill/>
          </a:ln>
        </p:spPr>
      </p:pic>
      <p:sp>
        <p:nvSpPr>
          <p:cNvPr id="7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6. Haberse incurrido en el vicio de ultrapetita o falta de congruencia entre la acusación y la sentenc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7. Haberse pronunciado en contra de otra pasada en autoridad de cosa juzga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0" r="30378" b="17179"/>
          <a:stretch/>
        </p:blipFill>
        <p:spPr>
          <a:xfrm>
            <a:off x="0" y="0"/>
            <a:ext cx="9144000" cy="6858000"/>
          </a:xfrm>
          <a:prstGeom prst="rect">
            <a:avLst/>
          </a:prstGeom>
          <a:ln w="0">
            <a:noFill/>
          </a:ln>
        </p:spPr>
      </p:pic>
      <p:sp>
        <p:nvSpPr>
          <p:cNvPr id="8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Tribunales que conocen del recurso</a:t>
            </a:r>
            <a:endParaRPr b="0" lang="en-US" sz="4000" spc="-1" strike="noStrike">
              <a:solidFill>
                <a:srgbClr val="000000"/>
              </a:solidFill>
              <a:latin typeface="Arial"/>
            </a:endParaRPr>
          </a:p>
        </p:txBody>
      </p:sp>
      <p:sp>
        <p:nvSpPr>
          <p:cNvPr id="81"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n dos, dependiendo de la causal por la que se interpong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Cortes de Apelaci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Corte Supr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0" t="0" r="30378" b="17179"/>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 Cortes de Apelacion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Constituye la regla gen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Caus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ntencia recurrida ha sido obtenida infringiendo las garantías constitucionales enumeradas expresamente en el CPP, bajo la denominación de “Motivos Absolutos de Nuli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ha hecho una errónea aplicación del derecho, que hubiere influido sustancialmente en lo dispositivo del fallo, salvo las excepciones en que le corresponde conocer a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30378" b="17179"/>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a:rPr>
              <a:t>b. Corte Suprema</a:t>
            </a:r>
            <a:endParaRPr b="0" lang="en-US" sz="4400" spc="-1" strike="noStrike">
              <a:solidFill>
                <a:srgbClr val="000000"/>
              </a:solidFill>
              <a:latin typeface="Arial"/>
            </a:endParaRPr>
          </a:p>
        </p:txBody>
      </p:sp>
      <p:sp>
        <p:nvSpPr>
          <p:cNvPr id="87"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re en que en la tramitación del juicio o en el pronunciamiento de la sentencia se </a:t>
            </a:r>
            <a:r>
              <a:rPr b="1" lang="es-ES" sz="2400" spc="-1" strike="noStrike" u="sng">
                <a:solidFill>
                  <a:srgbClr val="333399"/>
                </a:solidFill>
                <a:uFillTx/>
                <a:latin typeface="Arial"/>
              </a:rPr>
              <a:t>hubieren infringido sustancialmente derechos y garantías asegurados por la Constitución o los tratados internacionales</a:t>
            </a:r>
            <a:r>
              <a:rPr b="0" lang="es-ES" sz="2400" spc="-1" strike="noStrike">
                <a:solidFill>
                  <a:srgbClr val="333399"/>
                </a:solidFill>
                <a:latin typeface="Arial"/>
              </a:rPr>
              <a:t>. </a:t>
            </a:r>
            <a:r>
              <a:rPr b="0" lang="es-ES_tradnl" sz="2400" spc="-1" strike="noStrike">
                <a:solidFill>
                  <a:srgbClr val="333399"/>
                </a:solidFill>
                <a:latin typeface="Arial"/>
              </a:rPr>
              <a:t>(art.373 letra a CPP)</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mentare en que se ha hecho una </a:t>
            </a:r>
            <a:r>
              <a:rPr b="1" lang="es-ES" sz="2400" spc="-1" strike="noStrike" u="sng">
                <a:solidFill>
                  <a:srgbClr val="333399"/>
                </a:solidFill>
                <a:uFillTx/>
                <a:latin typeface="Arial"/>
              </a:rPr>
              <a:t>errónea aplicación del derecho que hubiera influido sustancialmente en lo dispositivo del fallo</a:t>
            </a:r>
            <a:r>
              <a:rPr b="0" lang="es-ES" sz="2400" spc="-1" strike="noStrike">
                <a:solidFill>
                  <a:srgbClr val="333399"/>
                </a:solidFill>
                <a:latin typeface="Arial"/>
              </a:rPr>
              <a:t> </a:t>
            </a:r>
            <a:r>
              <a:rPr b="1" lang="es-ES" sz="2400" spc="-1" strike="noStrike" u="sng">
                <a:solidFill>
                  <a:srgbClr val="333399"/>
                </a:solidFill>
                <a:uFillTx/>
                <a:latin typeface="Arial"/>
              </a:rPr>
              <a:t>y respecto de la materia objeto del mismo existieren diferentes interpretaciones sostenidas en diversos fallos emanados de los tribunales sup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0378" b="17179"/>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Formalidades de la interposición.</a:t>
            </a:r>
            <a:endParaRPr b="0" lang="en-US" sz="4000" spc="-1" strike="noStrike">
              <a:solidFill>
                <a:srgbClr val="000000"/>
              </a:solidFill>
              <a:latin typeface="Arial"/>
            </a:endParaRPr>
          </a:p>
        </p:txBody>
      </p:sp>
      <p:sp>
        <p:nvSpPr>
          <p:cNvPr id="90"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 Plazo para interponer el Recurso de Nulidad</a:t>
            </a:r>
            <a:r>
              <a:rPr b="0" lang="es-ES" sz="2400" spc="-1" strike="noStrike">
                <a:solidFill>
                  <a:srgbClr val="333399"/>
                </a:solidFill>
                <a:latin typeface="Arial"/>
              </a:rPr>
              <a:t>.</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rtículo 372 inc.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Dentro de los 10 días siguientes a la notificación de la sentencia definitiv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Ante el tribunal que hubiere </a:t>
            </a:r>
            <a:r>
              <a:rPr b="0" lang="es-ES" sz="2200" spc="-1" strike="noStrike">
                <a:solidFill>
                  <a:srgbClr val="333399"/>
                </a:solidFill>
                <a:latin typeface="Arial"/>
              </a:rPr>
              <a:t>conocido del juicio oral, o ante el juez de garantía que hubiere conocido del procedimiento simplificado o de la acción penal privad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 notificación de la sentencia se entiende que se verifica el día de la audiencia de lectura de la sentencia conforme al art.346 CP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 un plazo legal, de días, individual y continu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30378" b="17179"/>
          <a:stretch/>
        </p:blipFill>
        <p:spPr>
          <a:xfrm>
            <a:off x="0" y="0"/>
            <a:ext cx="9144000" cy="6858000"/>
          </a:xfrm>
          <a:prstGeom prst="rect">
            <a:avLst/>
          </a:prstGeom>
          <a:ln w="0">
            <a:noFill/>
          </a:ln>
        </p:spPr>
      </p:pic>
      <p:sp>
        <p:nvSpPr>
          <p:cNvPr id="92"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80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Preparación del recurso.</a:t>
            </a: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Quien lo entable debe prepararlo, reclamando oportunamente del vicio o defecto alegado consistente en la infracción a una ley que regulare el procedimiento (art. 377 CPP).</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No será necesaria la reclamación en los siguientes casos:</a:t>
            </a: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se trate de un  Motivo Absoluto de Nulidad.</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la ley no admita recursos contra la resolución que contenga el vicio o defecto.</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el vicio ha tenido lugar en el pronunciamiento mismo de la sentencia que se trata de invalidar.</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dicho vicio o defecto hubiere llegado a conocimiento de la parte después de pronunciada la sentencia.</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r ultimo, la solicitud de nulidad que se haga durante la fase de investigación o posteriores, será suficiente preparación del recurso (art. 165 inc. 4 C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0" r="30378" b="17179"/>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quisitos del escrito de interposición.</a:t>
            </a:r>
            <a:endParaRPr b="0" lang="en-US" sz="4000" spc="-1" strike="noStrike">
              <a:solidFill>
                <a:srgbClr val="000000"/>
              </a:solidFill>
              <a:latin typeface="Arial"/>
            </a:endParaRPr>
          </a:p>
        </p:txBody>
      </p:sp>
      <p:sp>
        <p:nvSpPr>
          <p:cNvPr id="95" name="PlaceHolder 2"/>
          <p:cNvSpPr>
            <a:spLocks noGrp="1"/>
          </p:cNvSpPr>
          <p:nvPr>
            <p:ph/>
          </p:nvPr>
        </p:nvSpPr>
        <p:spPr>
          <a:xfrm>
            <a:off x="457200" y="2276640"/>
            <a:ext cx="8229600" cy="424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r escrito, debiendo contener:</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s fundamento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Las peticiones concretas que se sometieren al fallo del tribu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Eventualmente el ofrecimiento de prueba de la causal que se invo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rcRect l="0" t="0" r="30378" b="17179"/>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fectos de la interposición de Recurso de Nulidad.</a:t>
            </a:r>
            <a:endParaRPr b="0" lang="en-US" sz="4000" spc="-1" strike="noStrike">
              <a:solidFill>
                <a:srgbClr val="000000"/>
              </a:solidFill>
              <a:latin typeface="Arial"/>
            </a:endParaRPr>
          </a:p>
        </p:txBody>
      </p:sp>
      <p:sp>
        <p:nvSpPr>
          <p:cNvPr id="9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y que distingu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una sentencia condenatoria</a:t>
            </a:r>
            <a:r>
              <a:rPr b="0" lang="en-US" sz="2800" spc="-1" strike="noStrike">
                <a:solidFill>
                  <a:srgbClr val="333399"/>
                </a:solidFill>
                <a:latin typeface="Arial"/>
              </a:rPr>
              <a:t>, la interposición del recurso de nulidad suspende sus efectos (art.379 inc.1 CPP).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de una sentencia absolutoria</a:t>
            </a:r>
            <a:r>
              <a:rPr b="0" lang="en-US" sz="2800" spc="-1" strike="noStrike">
                <a:solidFill>
                  <a:srgbClr val="333399"/>
                </a:solidFill>
                <a:latin typeface="Arial"/>
              </a:rPr>
              <a:t>,  en los casos que pueda ser recurrida, no suspende sus efectos. (art.379 inc.1, art. 355 C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30378" b="17179"/>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undamento del recurso de nulidad</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n el juicio oral la decisión se adopta en virtud de la </a:t>
            </a:r>
            <a:r>
              <a:rPr b="0" lang="es-ES" sz="2400" spc="-1" strike="noStrike" u="sng">
                <a:solidFill>
                  <a:srgbClr val="333399"/>
                </a:solidFill>
                <a:uFillTx/>
                <a:latin typeface="Arial"/>
              </a:rPr>
              <a:t>prueba percibida directa e inmediatamente</a:t>
            </a:r>
            <a:r>
              <a:rPr b="0" lang="es-ES" sz="2400" spc="-1" strike="noStrike">
                <a:solidFill>
                  <a:srgbClr val="333399"/>
                </a:solidFill>
                <a:latin typeface="Arial"/>
              </a:rPr>
              <a:t>, circunstancia que lo hace único e irrepetibl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speto a la oralidad impide que se puedan pronunciar sentencia definitiva por jueces que no han asistido a la audiencia de Juicio Or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Artículo 1° Código Procesal Pen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333399"/>
                </a:solidFill>
                <a:latin typeface="Times New Roman"/>
              </a:rPr>
              <a:t>“</a:t>
            </a:r>
            <a:r>
              <a:rPr b="0" i="1" lang="es-MX" sz="2400" spc="-1" strike="noStrike">
                <a:solidFill>
                  <a:srgbClr val="333399"/>
                </a:solidFill>
                <a:latin typeface="Times New Roman"/>
              </a:rPr>
              <a:t>Todas las personas tienen derecho a un juicio previo, ORAL y públi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 podrá establecerse la segunda instancia, si se quiere respetar efectivamente la oralida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0378" b="17179"/>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mitación del Recurso de Nulidad</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dmisibilidad ante el tribunal a quo</a:t>
            </a:r>
            <a:r>
              <a:rPr b="1" i="1" lang="es-ES" sz="2400" spc="-1" strike="noStrike">
                <a:solidFill>
                  <a:srgbClr val="333399"/>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el escrito de interposición cumple con los requisitos formales y ha sido interpuesto dentro de plazo, deberá declararlo </a:t>
            </a:r>
            <a:r>
              <a:rPr b="1" lang="es-ES" sz="2000" spc="-1" strike="noStrike">
                <a:solidFill>
                  <a:srgbClr val="333399"/>
                </a:solidFill>
                <a:latin typeface="Arial"/>
              </a:rPr>
              <a:t>admisible</a:t>
            </a:r>
            <a:r>
              <a:rPr b="0" lang="es-E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lo declara </a:t>
            </a:r>
            <a:r>
              <a:rPr b="1" lang="es-ES" sz="2000" spc="-1" strike="noStrike">
                <a:solidFill>
                  <a:srgbClr val="333399"/>
                </a:solidFill>
                <a:latin typeface="Arial"/>
              </a:rPr>
              <a:t>inadmisible</a:t>
            </a:r>
            <a:r>
              <a:rPr b="0" lang="es-ES" sz="2000" spc="-1" strike="noStrike">
                <a:solidFill>
                  <a:srgbClr val="333399"/>
                </a:solidFill>
                <a:latin typeface="Arial"/>
              </a:rPr>
              <a:t> la resolución es susceptible del Recurso de Reposición. (art.380 CP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larado admisible, deberán remitirse al tribunal ad quem: (art. 381 CPP)</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escrito de interposición del recurso.</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pia de la sentencia definitiva.</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gistro de la audiencia del juicio oral o de las actuaciones determinadas de dicha audiencia en las que se fundamentare el recu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30378" b="17179"/>
          <a:stretch/>
        </p:blipFill>
        <p:spPr>
          <a:xfrm>
            <a:off x="0" y="0"/>
            <a:ext cx="9144000" cy="6858000"/>
          </a:xfrm>
          <a:prstGeom prst="rect">
            <a:avLst/>
          </a:prstGeom>
          <a:ln w="0">
            <a:noFill/>
          </a:ln>
        </p:spPr>
      </p:pic>
      <p:sp>
        <p:nvSpPr>
          <p:cNvPr id="103"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dmisibilidad ante el tribunal </a:t>
            </a:r>
            <a:r>
              <a:rPr b="1" i="1" lang="es-ES" sz="3200" spc="-1" strike="noStrike">
                <a:solidFill>
                  <a:srgbClr val="333399"/>
                </a:solidFill>
                <a:latin typeface="Arial"/>
              </a:rPr>
              <a:t>ad quem.</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Ingresados los antecedentes, se abrirá un plazo de </a:t>
            </a:r>
            <a:r>
              <a:rPr b="1" lang="es-ES" sz="2800" spc="-1" strike="noStrike">
                <a:solidFill>
                  <a:srgbClr val="333399"/>
                </a:solidFill>
                <a:latin typeface="Arial"/>
              </a:rPr>
              <a:t>5 días</a:t>
            </a:r>
            <a:r>
              <a:rPr b="0" lang="es-ES" sz="2800" spc="-1" strike="noStrike">
                <a:solidFill>
                  <a:srgbClr val="333399"/>
                </a:solidFill>
                <a:latin typeface="Arial"/>
              </a:rPr>
              <a:t> para que las </a:t>
            </a:r>
            <a:r>
              <a:rPr b="1" lang="es-ES" sz="2800" spc="-1" strike="noStrike">
                <a:solidFill>
                  <a:srgbClr val="333399"/>
                </a:solidFill>
                <a:latin typeface="Arial"/>
              </a:rPr>
              <a:t>demás partes soliciten que el recurso se declare inadmisible o formulen por escrito las observaciones</a:t>
            </a:r>
            <a:r>
              <a:rPr b="0" lang="es-ES" sz="2800" spc="-1" strike="noStrike">
                <a:solidFill>
                  <a:srgbClr val="333399"/>
                </a:solidFill>
                <a:latin typeface="Arial"/>
              </a:rPr>
              <a:t> que estimen pertinente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n el mismo plazo </a:t>
            </a:r>
            <a:r>
              <a:rPr b="1" lang="es-ES" sz="2800" spc="-1" strike="noStrike">
                <a:solidFill>
                  <a:srgbClr val="333399"/>
                </a:solidFill>
                <a:latin typeface="Arial"/>
              </a:rPr>
              <a:t>se podrá adherir al recurso</a:t>
            </a:r>
            <a:r>
              <a:rPr b="0" lang="es-ES" sz="2800" spc="-1" strike="noStrike">
                <a:solidFill>
                  <a:srgbClr val="333399"/>
                </a:solidFill>
                <a:latin typeface="Arial"/>
              </a:rPr>
              <a:t>. La admisibilidad de la adhesión será resuelta de plano por la misma Corte (art.382 CPP).</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Transcurrido el plazo anterior, la Corte debe pronunciarse en cuenta sobre la admisibilidad del recurs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0" r="30378" b="17179"/>
          <a:stretch/>
        </p:blipFill>
        <p:spPr>
          <a:xfrm>
            <a:off x="0" y="0"/>
            <a:ext cx="9144000" cy="6858000"/>
          </a:xfrm>
          <a:prstGeom prst="rect">
            <a:avLst/>
          </a:prstGeom>
          <a:ln w="0">
            <a:noFill/>
          </a:ln>
        </p:spPr>
      </p:pic>
      <p:sp>
        <p:nvSpPr>
          <p:cNvPr id="105"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l tribunal ad quem puede declararlo inadmisible si:</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rtículo 383 inciso 2° Código Procesal Pe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La resolución no es impugnable*</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e ha deducido fuera de plazo*.</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escrito de interposición careciere de antecedentes de hecho o de derecho o de peticiones concretas.</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recurso no se hubiera preparado oportunamen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30378" b="17179"/>
          <a:stretch/>
        </p:blipFill>
        <p:spPr>
          <a:xfrm>
            <a:off x="0" y="0"/>
            <a:ext cx="9144000" cy="6858000"/>
          </a:xfrm>
          <a:prstGeom prst="rect">
            <a:avLst/>
          </a:prstGeom>
          <a:ln w="0">
            <a:noFill/>
          </a:ln>
        </p:spPr>
      </p:pic>
      <p:sp>
        <p:nvSpPr>
          <p:cNvPr id="107" name="PlaceHolder 1"/>
          <p:cNvSpPr>
            <a:spLocks noGrp="1"/>
          </p:cNvSpPr>
          <p:nvPr>
            <p:ph/>
          </p:nvPr>
        </p:nvSpPr>
        <p:spPr>
          <a:xfrm>
            <a:off x="468360" y="907920"/>
            <a:ext cx="8229600" cy="51832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rtículo 383 incisos 3° y 4° del Código Procesal Penal.</a:t>
            </a:r>
            <a:endParaRPr b="0" lang="en-US" sz="24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in embargo, si el recurso se hubiere deducido para ante la Corte Suprema, ella </a:t>
            </a:r>
            <a:r>
              <a:rPr b="1" lang="es-ES" sz="3200" spc="-1" strike="noStrike">
                <a:solidFill>
                  <a:srgbClr val="333399"/>
                </a:solidFill>
                <a:latin typeface="Arial"/>
              </a:rPr>
              <a:t>no se pronunciará sobre su admisibilidad, sino que ordenará que sea remitido a la Corte de Apelaciones respectiva</a:t>
            </a:r>
            <a:r>
              <a:rPr b="0" lang="es-ES" sz="3200" spc="-1" strike="noStrike">
                <a:solidFill>
                  <a:srgbClr val="333399"/>
                </a:solidFill>
                <a:latin typeface="Arial"/>
              </a:rPr>
              <a:t>, para que si lo estima admisible, entre a conocerlo y fallarlo, en los siguientes ca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30378" b="17179"/>
          <a:stretch/>
        </p:blipFill>
        <p:spPr>
          <a:xfrm>
            <a:off x="0" y="0"/>
            <a:ext cx="9144000" cy="6858000"/>
          </a:xfrm>
          <a:prstGeom prst="rect">
            <a:avLst/>
          </a:prstGeom>
          <a:ln w="0">
            <a:noFill/>
          </a:ln>
        </p:spPr>
      </p:pic>
      <p:sp>
        <p:nvSpPr>
          <p:cNvPr id="109"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re en la infracción de las garantías constitucionales durante la tramitación del juicio o en el pronunciamiento de la sentencia, pero la Corte Suprema estima que, de ser efectivos los hechos, constituirían uno de los Motivos Absolutos de Nulidad, y que son de conocimiento de las Cortes de Apelaciones.</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0" t="0" r="30378" b="17179"/>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Vista del Recurso de Nulidad en audiencia.</a:t>
            </a:r>
            <a:endParaRPr b="0" lang="en-US" sz="4000" spc="-1" strike="noStrike">
              <a:solidFill>
                <a:srgbClr val="000000"/>
              </a:solidFill>
              <a:latin typeface="Arial"/>
            </a:endParaRPr>
          </a:p>
        </p:txBody>
      </p:sp>
      <p:sp>
        <p:nvSpPr>
          <p:cNvPr id="112"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una audiencia pública, destinada a permitir que las partes puedan proporcionar a la Corte sus alegaciones de hecho y de derecho, en base a las que deberá adoptar su decisión.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esta audiencia deberán asistir todos los recurre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a vez anunciada la causa según las actuales reglas, sin previa relación ya que no hay expediente que relatar, se concede la palabra a los recurrentes para que expongan sus argumentos de hecho y de derecho, y sus peticiones concreta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uego, se autoriza la intervención de los recurridos en los mismos término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cualquier momento del debate los ministros de la Corte puedan formular preguntas a las partes para que precisen sus alegaciones, aclaren sus dudas o, en general, se refieran a cualquier aspecto que consideren necesario para tomar su decisión.</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el caso de que se haya ofrecido prueba sobre la causal invocada, en la misma audiencia deberá proceder a recibi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0" r="30378" b="17179"/>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tenido de la sentencia que resuelve el Recurso de Nulidad.</a:t>
            </a:r>
            <a:endParaRPr b="0" lang="en-US" sz="4000" spc="-1" strike="noStrike">
              <a:solidFill>
                <a:srgbClr val="000000"/>
              </a:solidFill>
              <a:latin typeface="Arial"/>
            </a:endParaRPr>
          </a:p>
        </p:txBody>
      </p:sp>
      <p:sp>
        <p:nvSpPr>
          <p:cNvPr id="115"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berá pronunciar su sentencia de inmediato o en la fecha, día y hora que señale, dentro del plazo máximo de 20 días (art.384 inc.1 CPP),  encomendándole la redacción del fallo a uno de sus ministros (art.358 inc.5 CPP).</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 cuanto al </a:t>
            </a:r>
            <a:r>
              <a:rPr b="1" lang="en-US" sz="2400" spc="-1" strike="noStrike">
                <a:solidFill>
                  <a:srgbClr val="333399"/>
                </a:solidFill>
                <a:latin typeface="Arial"/>
              </a:rPr>
              <a:t>contenido del fallo</a:t>
            </a:r>
            <a:r>
              <a:rPr b="0" lang="en-US" sz="2400" spc="-1" strike="noStrike">
                <a:solidFill>
                  <a:srgbClr val="333399"/>
                </a:solidFill>
                <a:latin typeface="Arial"/>
              </a:rPr>
              <a:t>, deberá pronunciarse sobre las peticiones formuladas por el recurr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podrá extenderse a cuestiones  no planteadas por él o que exceden los límites de lo solicitado, salvo los supuestos en los cuales se autorice al tribunal a pronunciarse de ofic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30378" b="17179"/>
          <a:stretch/>
        </p:blipFill>
        <p:spPr>
          <a:xfrm>
            <a:off x="0" y="0"/>
            <a:ext cx="9144000" cy="6858000"/>
          </a:xfrm>
          <a:prstGeom prst="rect">
            <a:avLst/>
          </a:prstGeom>
          <a:ln w="0">
            <a:noFill/>
          </a:ln>
        </p:spPr>
      </p:pic>
      <p:sp>
        <p:nvSpPr>
          <p:cNvPr id="11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asos en que la Corte puede pronunciarse de ofici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 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     </a:t>
            </a:r>
            <a:r>
              <a:rPr b="0" lang="es-ES" sz="2200" spc="-1" strike="noStrike">
                <a:solidFill>
                  <a:srgbClr val="333399"/>
                </a:solidFill>
                <a:latin typeface="Arial"/>
              </a:rPr>
              <a:t>NO se permite es la situación opuesta, que atenta contra una garantía recogida en los tratados internacionales, conocida como la “reformatio in peius”.</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B) Si se entabla el recurso fundamentado en determinadas causales, lógicamente que no podrán invocarse nuevas, aunque la Corte respectiva, de oficio podría acoger el recurso entablado por el imputado por un motivo distinto, siempre que se trate de uno de aquellos Motivos Absolutos de Nu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30378" b="17179"/>
          <a:stretch/>
        </p:blipFill>
        <p:spPr>
          <a:xfrm>
            <a:off x="0" y="0"/>
            <a:ext cx="9144000" cy="6858000"/>
          </a:xfrm>
          <a:prstGeom prst="rect">
            <a:avLst/>
          </a:prstGeom>
          <a:ln w="0">
            <a:noFill/>
          </a:ln>
        </p:spPr>
      </p:pic>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 la sentencia, el tribunal deberá:</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oner los fundamentos de su decisión.</a:t>
            </a: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nunciarse sobre todas las cuestiones controvertida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lvo que acoja el recurso, caso en el que será suficiente que se refiera a la causal acogida y declarar si nulo el juicio oral y la sentencia reclamada o solamente ésta última.</a:t>
            </a:r>
            <a:endParaRPr b="0" lang="en-US" sz="2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tículo 384 inciso 2° C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0" r="30378" b="17179"/>
          <a:stretch/>
        </p:blipFill>
        <p:spPr>
          <a:xfrm>
            <a:off x="0" y="0"/>
            <a:ext cx="9144000" cy="6858000"/>
          </a:xfrm>
          <a:prstGeom prst="rect">
            <a:avLst/>
          </a:prstGeom>
          <a:ln w="0">
            <a:noFill/>
          </a:ln>
        </p:spPr>
      </p:pic>
      <p:sp>
        <p:nvSpPr>
          <p:cNvPr id="121" name="PlaceHolder 1"/>
          <p:cNvSpPr>
            <a:spLocks noGrp="1"/>
          </p:cNvSpPr>
          <p:nvPr>
            <p:ph/>
          </p:nvPr>
        </p:nvSpPr>
        <p:spPr>
          <a:xfrm>
            <a:off x="468360" y="666720"/>
            <a:ext cx="8229600" cy="5857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n cuanto al contenido de la sentencia, debe resolv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 </a:t>
            </a:r>
            <a:r>
              <a:rPr b="1" lang="es-ES" sz="2400" spc="-1" strike="noStrike">
                <a:solidFill>
                  <a:srgbClr val="333399"/>
                </a:solidFill>
                <a:latin typeface="Arial"/>
              </a:rPr>
              <a:t>Si invalida solo la sentencia, caso en el cual la Corte procederá a dictar una sentencia de reemplazo, que se conforme a la ley</a:t>
            </a:r>
            <a:r>
              <a:rPr b="0" lang="es-ES" sz="2400" spc="-1" strike="noStrike">
                <a:solidFill>
                  <a:srgbClr val="333399"/>
                </a:solidFill>
                <a:latin typeface="Arial"/>
              </a:rPr>
              <a:t>, si la causal de nulidad no se refiere a formalidades del juicio ni a los hechos y circunstancias que se hubieren dado por probados, sino se debiere a que el fallo hubiere calificado de delito un hecho que la ley no considerare como tal, aplicando una pena cuando no procediere aplicar pena alguna, o impuesto una superior a la que legalmente correspondier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icha sentencia de reemplazo será dictada sin nueva audiencia, pero separadam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30378" b="17179"/>
          <a:stretch/>
        </p:blipFill>
        <p:spPr>
          <a:xfrm>
            <a:off x="0" y="0"/>
            <a:ext cx="9144000" cy="6858000"/>
          </a:xfrm>
          <a:prstGeom prst="rect">
            <a:avLst/>
          </a:prstGeom>
          <a:ln w="0">
            <a:noFill/>
          </a:ln>
        </p:spPr>
      </p:pic>
      <p:sp>
        <p:nvSpPr>
          <p:cNvPr id="55" name="PlaceHolder 1"/>
          <p:cNvSpPr>
            <a:spLocks noGrp="1"/>
          </p:cNvSpPr>
          <p:nvPr>
            <p:ph/>
          </p:nvPr>
        </p:nvSpPr>
        <p:spPr>
          <a:xfrm>
            <a:off x="395280" y="620280"/>
            <a:ext cx="8291520" cy="550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 el nuevo procedimiento penal, se ha establecido como regla general el Recurso de Nulidad, que tiene por objeto invalidar el juicio oral y la sentencia definitiva o solamente la ultima, cuando en algunos de ellos se hayan </a:t>
            </a:r>
            <a:r>
              <a:rPr b="0" lang="en-US" sz="3200" spc="-1" strike="noStrike" u="sng">
                <a:solidFill>
                  <a:srgbClr val="333399"/>
                </a:solidFill>
                <a:uFillTx/>
                <a:latin typeface="Arial"/>
              </a:rPr>
              <a:t>infringido las garantías constitucionales</a:t>
            </a:r>
            <a:r>
              <a:rPr b="0" lang="en-US" sz="3200" spc="-1" strike="noStrike">
                <a:solidFill>
                  <a:srgbClr val="333399"/>
                </a:solidFill>
                <a:latin typeface="Arial"/>
              </a:rPr>
              <a:t> o </a:t>
            </a:r>
            <a:r>
              <a:rPr b="0" lang="en-US" sz="3200" spc="-1" strike="noStrike" u="sng">
                <a:solidFill>
                  <a:srgbClr val="333399"/>
                </a:solidFill>
                <a:uFillTx/>
                <a:latin typeface="Arial"/>
              </a:rPr>
              <a:t>cuando en el pronunciamiento mismo de la sentencia se haya hecho una errónea aplicación del derecho que hubiere influido sustancialmente en lo dispositivo del fallo</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30378" b="17179"/>
          <a:stretch/>
        </p:blipFill>
        <p:spPr>
          <a:xfrm>
            <a:off x="0" y="0"/>
            <a:ext cx="9144000" cy="6858000"/>
          </a:xfrm>
          <a:prstGeom prst="rect">
            <a:avLst/>
          </a:prstGeom>
          <a:ln w="0">
            <a:noFill/>
          </a:ln>
        </p:spPr>
      </p:pic>
      <p:sp>
        <p:nvSpPr>
          <p:cNvPr id="123" name="PlaceHolder 1"/>
          <p:cNvSpPr>
            <a:spLocks noGrp="1"/>
          </p:cNvSpPr>
          <p:nvPr>
            <p:ph/>
          </p:nvPr>
        </p:nvSpPr>
        <p:spPr>
          <a:xfrm>
            <a:off x="468360" y="666720"/>
            <a:ext cx="8229600" cy="6191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Si anula también el juicio oral</a:t>
            </a:r>
            <a:r>
              <a:rPr b="0" lang="en-US" sz="2400" spc="-1" strike="noStrike">
                <a:solidFill>
                  <a:srgbClr val="333399"/>
                </a:solidFill>
                <a:latin typeface="Arial"/>
              </a:rPr>
              <a:t>, lo que se dará de acuerdo a las siguientes circunstancia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terminará el estado en que quede el proceso y ordenará la remisión de los antecedentes al tribunal no inhabilitado que corresponda, para que este disponga la realización de un nuevo juicio or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sentencia que se pronuncie sobre el recurso de nulidad, no será a su vez susceptible de recurso alguno, salvo la acción o Recurso de Revisión.</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30378" b="17179"/>
          <a:stretch/>
        </p:blipFill>
        <p:spPr>
          <a:xfrm>
            <a:off x="0" y="27000"/>
            <a:ext cx="9144000" cy="6858000"/>
          </a:xfrm>
          <a:prstGeom prst="rect">
            <a:avLst/>
          </a:prstGeom>
          <a:ln w="0">
            <a:noFill/>
          </a:ln>
        </p:spPr>
      </p:pic>
      <p:sp>
        <p:nvSpPr>
          <p:cNvPr id="125"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carlosedo@perez.tie.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30378" b="17179"/>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inalidades</a:t>
            </a:r>
            <a:r>
              <a:rPr b="0" lang="en-US" sz="4400" spc="-1" strike="noStrike">
                <a:solidFill>
                  <a:srgbClr val="333399"/>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segurar el respeto de las garantías y derechos fundamentales, tanto dentro del proceso, como en la dictación de la sentencia. Art.373 a)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elar por la correcta y uniforme aplicación de la ley en la sentencia que se pronunciare para la resolución del conflicto dentro del juicio oral (art. 373 b)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0" r="30378" b="17179"/>
          <a:stretch/>
        </p:blipFill>
        <p:spPr>
          <a:xfrm>
            <a:off x="0" y="0"/>
            <a:ext cx="9144000" cy="6858000"/>
          </a:xfrm>
          <a:prstGeom prst="rect">
            <a:avLst/>
          </a:prstGeom>
          <a:ln w="0">
            <a:noFill/>
          </a:ln>
        </p:spPr>
      </p:pic>
      <p:sp>
        <p:nvSpPr>
          <p:cNvPr id="6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Resoluciones en contra de las cuales procede el R.Nulidad</a:t>
            </a:r>
            <a:endParaRPr b="0" lang="en-US" sz="4000" spc="-1" strike="noStrike">
              <a:solidFill>
                <a:srgbClr val="000000"/>
              </a:solidFill>
              <a:latin typeface="Arial"/>
            </a:endParaRPr>
          </a:p>
        </p:txBody>
      </p:sp>
      <p:sp>
        <p:nvSpPr>
          <p:cNvPr id="61" name="PlaceHolder 2"/>
          <p:cNvSpPr>
            <a:spLocks noGrp="1"/>
          </p:cNvSpPr>
          <p:nvPr>
            <p:ph/>
          </p:nvPr>
        </p:nvSpPr>
        <p:spPr>
          <a:xfrm>
            <a:off x="457200" y="1916280"/>
            <a:ext cx="8229600" cy="446544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Sólo procede en contra de las resoluciones que reúnen los siguiente requisitos:</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tratarse de una sentencia definitiva.</a:t>
            </a: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haberse pronunciado dentro de un juicio oral, un procedimiento simplificado o un procedimiento de acción penal privad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0378" b="17179"/>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Titular del recurs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Requisitos</a:t>
            </a:r>
            <a:endParaRPr b="0" lang="en-US" sz="2400" spc="-1" strike="noStrike">
              <a:solidFill>
                <a:srgbClr val="000000"/>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ser </a:t>
            </a:r>
            <a:r>
              <a:rPr b="1" lang="es-MX" sz="2400" spc="-1" strike="noStrike">
                <a:solidFill>
                  <a:srgbClr val="333399"/>
                </a:solidFill>
                <a:latin typeface="Arial"/>
              </a:rPr>
              <a:t>interviniente</a:t>
            </a:r>
            <a:r>
              <a:rPr b="0" lang="es-MX" sz="2400" spc="-1" strike="noStrike">
                <a:solidFill>
                  <a:srgbClr val="333399"/>
                </a:solidFill>
                <a:latin typeface="Arial"/>
              </a:rPr>
              <a:t> en el proceso en que se dictó la resolución.</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haber sufrido </a:t>
            </a:r>
            <a:r>
              <a:rPr b="1" lang="es-MX" sz="2400" spc="-1" strike="noStrike">
                <a:solidFill>
                  <a:srgbClr val="333399"/>
                </a:solidFill>
                <a:latin typeface="Arial"/>
              </a:rPr>
              <a:t>agravio</a:t>
            </a:r>
            <a:r>
              <a:rPr b="0" lang="es-MX" sz="2400" spc="-1" strike="noStrike">
                <a:solidFill>
                  <a:srgbClr val="333399"/>
                </a:solidFill>
                <a:latin typeface="Arial"/>
              </a:rPr>
              <a:t> con la dictación de la resolución pronunciada en el proceso</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el recurrente haber experimentado un </a:t>
            </a:r>
            <a:r>
              <a:rPr b="1" lang="es-MX" sz="2400" spc="-1" strike="noStrike">
                <a:solidFill>
                  <a:srgbClr val="333399"/>
                </a:solidFill>
                <a:latin typeface="Arial"/>
              </a:rPr>
              <a:t>perjuicio con el vicio en que se funda el recurso, consistente en la privación de algún beneficio o facultad procesal dentro del proceso o con la infracción de la ley que se incurre en la sentencia.</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currente debe haber reclamado del vicio que lo afecta ejerciendo oportunamente en todos sus grados los recursos que la ley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30378" b="17179"/>
          <a:stretch/>
        </p:blipFill>
        <p:spPr>
          <a:xfrm>
            <a:off x="0" y="0"/>
            <a:ext cx="9144000" cy="6858000"/>
          </a:xfrm>
          <a:prstGeom prst="rect">
            <a:avLst/>
          </a:prstGeom>
          <a:ln w="0">
            <a:noFill/>
          </a:ln>
        </p:spPr>
      </p:pic>
      <p:sp>
        <p:nvSpPr>
          <p:cNvPr id="66" name="PlaceHolder 1"/>
          <p:cNvSpPr>
            <a:spLocks noGrp="1"/>
          </p:cNvSpPr>
          <p:nvPr>
            <p:ph type="title"/>
          </p:nvPr>
        </p:nvSpPr>
        <p:spPr>
          <a:xfrm>
            <a:off x="457200" y="2420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333399"/>
                </a:solidFill>
                <a:latin typeface="Arial"/>
              </a:rPr>
              <a:t>Causales de procedencia del Recurso de Nulida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30378" b="17179"/>
          <a:stretch/>
        </p:blipFill>
        <p:spPr>
          <a:xfrm>
            <a:off x="0" y="2700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A. Causales Genéricas.</a:t>
            </a:r>
            <a:br>
              <a:rPr sz="4000"/>
            </a:br>
            <a:r>
              <a:rPr b="1" lang="es-MX" sz="2400" spc="-1" strike="noStrike">
                <a:solidFill>
                  <a:srgbClr val="333399"/>
                </a:solidFill>
                <a:latin typeface="Arial"/>
              </a:rPr>
              <a:t>Artículo 373 Código Procesal Penal</a:t>
            </a:r>
            <a:endParaRPr b="0" lang="en-US" sz="2400" spc="-1" strike="noStrike">
              <a:solidFill>
                <a:srgbClr val="000000"/>
              </a:solidFill>
              <a:latin typeface="Arial"/>
            </a:endParaRPr>
          </a:p>
        </p:txBody>
      </p:sp>
      <p:sp>
        <p:nvSpPr>
          <p:cNvPr id="6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1. La infracción de las garantías constitucionales.</a:t>
            </a:r>
            <a:endParaRPr b="0" lang="en-US" sz="2800" spc="-1" strike="noStrike">
              <a:solidFill>
                <a:srgbClr val="000000"/>
              </a:solidFill>
              <a:latin typeface="Ari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Times New Roman"/>
              </a:rPr>
              <a:t>“</a:t>
            </a:r>
            <a:r>
              <a:rPr b="0" i="1" lang="es-ES_tradnl" sz="3200" spc="-1" strike="noStrike">
                <a:solidFill>
                  <a:srgbClr val="333399"/>
                </a:solidFill>
                <a:latin typeface="Times New Roman"/>
              </a:rPr>
              <a:t>Cuando, en la tramitación del juicio o en el pronunciamiento de la sentencia, se hubieren </a:t>
            </a:r>
            <a:r>
              <a:rPr b="1" i="1" lang="es-ES_tradnl" sz="3200" spc="-1" strike="noStrike">
                <a:solidFill>
                  <a:srgbClr val="333399"/>
                </a:solidFill>
                <a:latin typeface="Times New Roman"/>
              </a:rPr>
              <a:t>infringido sustancialmente derechos o garantías</a:t>
            </a:r>
            <a:r>
              <a:rPr b="0" i="1" lang="es-ES_tradnl" sz="3200" spc="-1" strike="noStrike">
                <a:solidFill>
                  <a:srgbClr val="333399"/>
                </a:solidFill>
                <a:latin typeface="Times New Roman"/>
              </a:rPr>
              <a:t> asegurados por la Constitución o por los tratados internacionales ratificados por Chile que se encuentren vigentes.” (art.373 letra a C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0" r="30378" b="17179"/>
          <a:stretch/>
        </p:blipFill>
        <p:spPr>
          <a:xfrm>
            <a:off x="0" y="0"/>
            <a:ext cx="9144000" cy="6858000"/>
          </a:xfrm>
          <a:prstGeom prst="rect">
            <a:avLst/>
          </a:prstGeom>
          <a:ln w="0">
            <a:noFill/>
          </a:ln>
        </p:spPr>
      </p:pic>
      <p:sp>
        <p:nvSpPr>
          <p:cNvPr id="71" name="PlaceHolder 1"/>
          <p:cNvSpPr>
            <a:spLocks noGrp="1"/>
          </p:cNvSpPr>
          <p:nvPr>
            <p:ph/>
          </p:nvPr>
        </p:nvSpPr>
        <p:spPr>
          <a:xfrm>
            <a:off x="324000" y="1052640"/>
            <a:ext cx="8424720" cy="54720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2. Errónea aplicación del derecho que hubiere influido sustancialmente en lo dispositivo de la sentenci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99"/>
                </a:solidFill>
                <a:latin typeface="Times New Roman"/>
              </a:rPr>
              <a:t>“</a:t>
            </a:r>
            <a:r>
              <a:rPr b="0" i="1" lang="es-ES_tradnl" sz="3200" spc="-1" strike="noStrike">
                <a:solidFill>
                  <a:srgbClr val="333399"/>
                </a:solidFill>
                <a:latin typeface="Times New Roman"/>
              </a:rPr>
              <a:t>Cuando, en el pronunciamiento de la sentencia, se hubiere hecho una </a:t>
            </a:r>
            <a:r>
              <a:rPr b="1" i="1" lang="es-ES_tradnl" sz="3200" spc="-1" strike="noStrike">
                <a:solidFill>
                  <a:srgbClr val="333399"/>
                </a:solidFill>
                <a:latin typeface="Times New Roman"/>
              </a:rPr>
              <a:t>errónea aplicación del derecho que hubiere influido sustancialmente en lo dispositivo del fallo</a:t>
            </a:r>
            <a:r>
              <a:rPr b="0" lang="es-ES_tradnl" sz="3200" spc="-1" strike="noStrike">
                <a:solidFill>
                  <a:srgbClr val="333399"/>
                </a:solidFill>
                <a:latin typeface="Times New Roman"/>
              </a:rPr>
              <a:t>.” (art.373 letra b CPP)</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6:51:32Z</dcterms:created>
  <dc:creator>Carlos Edo. Pérez</dc:creator>
  <dc:description/>
  <dc:language>en-US</dc:language>
  <cp:lastModifiedBy>Carlos Edo. Pérez</cp:lastModifiedBy>
  <dcterms:modified xsi:type="dcterms:W3CDTF">2004-06-09T02:50:03Z</dcterms:modified>
  <cp:revision>7</cp:revision>
  <dc:subject/>
  <dc:title>Recurso de Nulidad</dc:title>
</cp:coreProperties>
</file>