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5854F-2D55-4272-BE8E-1E774DDC5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92BE6-BD3F-4399-857F-221A7833F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3E257-1D31-499D-971C-3E3D4264E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3FAD2-ADE4-4632-9F94-50049864A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CB450-F7A9-4B95-8161-1498C98D9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BA1F1-FB71-4116-A229-364031F87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358AB-D768-4F41-9DF9-36E5B3A2A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39EF9-CAF9-4A40-9617-23F351875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27589-B362-42AE-96FA-FB1B08500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A4B92-1191-4FE3-B2C1-B42E47287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3C823-D8CC-4472-9A31-7D4310AEA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14B5C-7729-4F4D-8B7D-8DD61154C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14EB9-FDEF-453B-983A-B8595D74E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7000C-4E58-4234-A00D-17D2781F6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F017C-1CFD-45A1-BCB4-6A73E5582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0CACC-2E8D-481D-8D28-5C717EE84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D64CF-16D6-4628-8FBB-46D653DBD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FF39-74EE-4CFE-B796-F1863F8A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6DFF4-F683-4181-A7DA-C0E6D0954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6A5D4-5AC0-477F-A73E-7B72BE1C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F5FF-0094-4A79-9576-F18DD400D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18BC-EBC3-4811-A798-0F1C300E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A820-143D-40FA-9B68-2079A38B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A2D39-69E6-4EB5-8C36-A4A464219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CD86-F2ED-45F4-BCF6-6A76F940D4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9690-1209-4991-98E8-91D29300EF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FORMALIDADES DEL MATRIMONIO</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13</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En el acta se dejará constancia del nombre, apellido y domicilio del intérprete, o de quien conozca el lenguaje de seña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INFORMACION</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mprobación por medio de dos testigos que los esposos no tienen impedimentos ni prohibiciones para contraer matrimonio.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16</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just">
              <a:lnSpc>
                <a:spcPct val="100000"/>
              </a:lnSpc>
              <a:spcBef>
                <a:spcPts val="7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urier New"/>
              </a:rPr>
              <a:t> </a:t>
            </a:r>
            <a:endParaRPr b="0" lang="en-US" sz="3200" spc="-1" strike="noStrike">
              <a:solidFill>
                <a:srgbClr val="ffffff"/>
              </a:solidFill>
              <a:latin typeface="Times New Roman"/>
            </a:endParaRPr>
          </a:p>
          <a:p>
            <a:pPr marL="305280" indent="-3052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podrán ser testigos en las diligencias previas ni en la celebración del matrimonio:</a:t>
            </a:r>
            <a:endParaRPr b="0" lang="en-US" sz="2800" spc="-1" strike="noStrike">
              <a:solidFill>
                <a:srgbClr val="ffffff"/>
              </a:solidFill>
              <a:latin typeface="Times New Roman"/>
            </a:endParaRPr>
          </a:p>
          <a:p>
            <a:pPr marL="305280" indent="-3052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1º Los menores de 18 años;</a:t>
            </a:r>
            <a:endParaRPr b="0" lang="en-US" sz="2800" spc="-1" strike="noStrike">
              <a:solidFill>
                <a:srgbClr val="ffffff"/>
              </a:solidFill>
              <a:latin typeface="Times New Roman"/>
            </a:endParaRPr>
          </a:p>
          <a:p>
            <a:pPr marL="305280" indent="-3052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2º Los que se hallaren en interdicción por causa de   demencia;</a:t>
            </a:r>
            <a:endParaRPr b="0" lang="en-US" sz="2800" spc="-1" strike="noStrike">
              <a:solidFill>
                <a:srgbClr val="ffffff"/>
              </a:solidFill>
              <a:latin typeface="Times New Roman"/>
            </a:endParaRPr>
          </a:p>
          <a:p>
            <a:pPr marL="305280" indent="-3052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3º Los que se hallaren actualmente privados de razón;</a:t>
            </a:r>
            <a:r>
              <a:rPr b="0" lang="es-ES_tradnl" sz="3200" spc="-1" strike="noStrike">
                <a:solidFill>
                  <a:srgbClr val="ffffff"/>
                </a:solidFill>
                <a:latin typeface="Courier New"/>
              </a:rPr>
              <a:t> </a:t>
            </a:r>
            <a:endParaRPr b="0" lang="en-US" sz="3200" spc="-1" strike="noStrike">
              <a:solidFill>
                <a:srgbClr val="ffffff"/>
              </a:solidFill>
              <a:latin typeface="Times New Roman"/>
            </a:endParaRPr>
          </a:p>
          <a:p>
            <a:pPr marL="305280" indent="-305280" algn="just">
              <a:lnSpc>
                <a:spcPct val="100000"/>
              </a:lnSpc>
              <a:spcBef>
                <a:spcPts val="7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urier New"/>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16</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º Los que hubieren sido condenados por delito que merezca pena aflictiva y los que por sentencia ejecutoriada estuvieren inhabilitados para ser testigos, y </a:t>
            </a: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5º Los que no entendieren el idioma castellano o aquellos que estuvieren incapacitados para darse a entender claramente.</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15</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mediatamente después de rendida la información y dentro de los noventa días siguientes, deberá procederse a la celebración del matrimonio.  “Transcurrido dicho plazo sin que el matrimonio se haya efectuado, habrá que repetir las formalidades prescritas en los artículos precedent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ELEBRACION ART.17</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urier New"/>
              </a:rPr>
              <a:t>El matrimonio se celebrará ante el Oficial del Registro Civil que intervino en la realización de las diligencias de manifestación e información.</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MATRIMONIO CELEBRADO POR ENTIDADES RELIGIOSAS =ARTICULO 20</a:t>
            </a:r>
            <a:endParaRPr b="0" lang="en-US" sz="40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os matrimonios celebrados ante entidades religiosas que gocen de personalidad jurídica de derecho público producirán los mismos efectos que el matrimonio civil, siempre que cumplan con los requisitos contemplados en la ley, en especial lo prescrito en este Capítulo, desde su inscripción ante un Oficial del Registro Civil.</a:t>
            </a:r>
            <a:endParaRPr b="0" lang="en-US" sz="2800" spc="-1" strike="noStrike">
              <a:solidFill>
                <a:srgbClr val="ffffff"/>
              </a:solidFill>
              <a:latin typeface="Times New Roman"/>
            </a:endParaRPr>
          </a:p>
          <a:p>
            <a:pPr marL="3016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Times New Roman"/>
            </a:endParaRPr>
          </a:p>
          <a:p>
            <a:pPr marL="3016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20</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cta que otorgue la entidad religiosa en que se acredite la celebración del matrimonio y el cumplimiento de las exigencias que la ley establece para su validez, como el nombre y la edad de los contrayentes y los testigos, y la fecha de su celebración, deberá ser presentada por aquellos ante cualquier Oficial del Registro Civil, dentro de ocho días, para su inscripción. Si no se inscribiere en el plazo fijado, tal matrimonio no producirá efecto civil alguno.</a:t>
            </a:r>
            <a:endParaRPr b="0" lang="en-US" sz="2800" spc="-1" strike="noStrike">
              <a:solidFill>
                <a:srgbClr val="ffffff"/>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20</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61000"/>
          </a:bodyPr>
          <a:p>
            <a:pPr marL="209160" indent="-209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Oficial del Registro Civil verificará el cumplimiento de los requisitos legales y dará a conocer a los requirentes de la inscripción los derechos y deberes que corresponden a los cónyuges de acuerdo a esta ley. Los comparecientes deberán ratificar el consentimiento prestado ante el ministro de culto de su confesión. De todo lo anterior quedará constancia en la inscripción respectiva, que también será suscrita por ambos contrayentes.</a:t>
            </a:r>
            <a:endParaRPr b="0" lang="en-US" sz="2800" spc="-1" strike="noStrike">
              <a:solidFill>
                <a:srgbClr val="ffffff"/>
              </a:solidFill>
              <a:latin typeface="Times New Roman"/>
            </a:endParaRPr>
          </a:p>
          <a:p>
            <a:pPr marL="209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09160" indent="-209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ólo podrá denegarse la inscripción si resulta evidente que el matrimonio no cumple con alguno de los requisitos exigidos por la ley. De la negativa se podrá reclamar ante la respectiva Corte de Apelaciones.</a:t>
            </a:r>
            <a:endParaRPr b="0" lang="en-US" sz="2800" spc="-1" strike="noStrike">
              <a:solidFill>
                <a:srgbClr val="ffffff"/>
              </a:solidFill>
              <a:latin typeface="Times New Roman"/>
            </a:endParaRPr>
          </a:p>
          <a:p>
            <a:pPr marL="209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09160" indent="-209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Los efectos del matrimonio así inscrito se regirán, en todo, por lo prescrito en esta ley y en los demás cuerpos legales que se refieren a la materia.</a:t>
            </a:r>
            <a:endParaRPr b="0" lang="en-US" sz="2800" spc="-1" strike="noStrike">
              <a:solidFill>
                <a:srgbClr val="ffffff"/>
              </a:solidFill>
              <a:latin typeface="Times New Roman"/>
            </a:endParaRPr>
          </a:p>
          <a:p>
            <a:pPr marL="209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20</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ólo podrá denegarse la inscripción si resulta evidente que el matrimonio no cumple con alguno de los requisitos exigidos por la ley. De la negativa se podrá reclamar ante la respectiva Corte de Apelaciones.</a:t>
            </a:r>
            <a:endParaRPr b="0" lang="en-US" sz="2800" spc="-1" strike="noStrike">
              <a:solidFill>
                <a:srgbClr val="ffffff"/>
              </a:solidFill>
              <a:latin typeface="Times New Roman"/>
            </a:endParaRPr>
          </a:p>
          <a:p>
            <a:pPr marL="3085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30852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Los efectos del matrimonio así inscrito se regirán, en todo, por lo prescrito en esta ley y en los demás cuerpos legales que se refieren a la materia.</a:t>
            </a:r>
            <a:endParaRPr b="0" lang="en-US" sz="2800" spc="-1" strike="noStrike">
              <a:solidFill>
                <a:srgbClr val="ffffff"/>
              </a:solidFill>
              <a:latin typeface="Times New Roman"/>
            </a:endParaRPr>
          </a:p>
          <a:p>
            <a:pPr marL="3085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Times New Roman"/>
              </a:rPr>
              <a:t>FORMALIDADES DEL MATRIMONIO CELEBRADO EN CHILE</a:t>
            </a:r>
            <a:endParaRPr b="0" lang="en-US" sz="3600" spc="-1" strike="noStrike">
              <a:solidFill>
                <a:srgbClr val="ffcc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tendiendo al tiempo en que son exigidas, pueden ser:</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nteriores al matrimonio;</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Coetáneas a su celebración;</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Posteriores al matrimoni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EFECTOS DEL MATRIMONIO</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laciones personales de los cónyuges (derechos y deberes)</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égimen patrimonial</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iliación matrimonial</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rechos hereditarios</a:t>
            </a: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FORMALIDADES PREVIAS</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on : </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la manifestació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la inform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MANIFESTACION</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manifestación es el acto en que los futuros contrayentes dan a conocer al oficial del Registro Civil su intención de contraer matrimonio.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MUNICACION</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comunicación puede ser:</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por escrito,</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oralmente o,</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por medio de lenguaje de señas ante cualquier oficial del Registro Civil.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EN EL ACTO DE LA MANIFESTAC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Oficial del registro Civil deberá entregar a los futuros contrayentes información  suficiente acerca de:</a:t>
            </a:r>
            <a:endParaRPr b="0" lang="en-US" sz="2400" spc="-1" strike="noStrike">
              <a:solidFill>
                <a:srgbClr val="ffffff"/>
              </a:solidFill>
              <a:latin typeface="Times New Roman"/>
            </a:endParaRPr>
          </a:p>
          <a:p>
            <a:pPr lvl="2" marL="1040040" indent="-20772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finalidades del matrimonio</a:t>
            </a:r>
            <a:endParaRPr b="0" lang="en-US" sz="2400" spc="-1" strike="noStrike">
              <a:solidFill>
                <a:srgbClr val="ffffff"/>
              </a:solidFill>
              <a:latin typeface="Times New Roman"/>
            </a:endParaRPr>
          </a:p>
          <a:p>
            <a:pPr lvl="2" marL="1040040" indent="-20772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s derechos y deberes recíprocos</a:t>
            </a:r>
            <a:endParaRPr b="0" lang="en-US" sz="2400" spc="-1" strike="noStrike">
              <a:solidFill>
                <a:srgbClr val="ffffff"/>
              </a:solidFill>
              <a:latin typeface="Times New Roman"/>
            </a:endParaRPr>
          </a:p>
          <a:p>
            <a:pPr lvl="2" marL="1040040" indent="-20772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existencia de los distintos regímenes matrimoniales existentes.</a:t>
            </a:r>
            <a:endParaRPr b="0" lang="en-US" sz="2400" spc="-1" strike="noStrike">
              <a:solidFill>
                <a:srgbClr val="ffffff"/>
              </a:solidFill>
              <a:latin typeface="Times New Roman"/>
            </a:endParaRPr>
          </a:p>
          <a:p>
            <a:pPr lvl="2" marL="1040040" indent="-20772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evenirlos de la necesidad de que el consentimiento sea libre y espontáneo.</a:t>
            </a:r>
            <a:endParaRPr b="0" lang="en-US" sz="2400" spc="-1" strike="noStrike">
              <a:solidFill>
                <a:srgbClr val="ffffff"/>
              </a:solidFill>
              <a:latin typeface="Times New Roman"/>
            </a:endParaRPr>
          </a:p>
          <a:p>
            <a:pPr lvl="2" marL="1040040" indent="-20772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nformarles de la existencia de cursos de preparación para el matrimonio, si no acreditaren que los han realizado (art.10).</a:t>
            </a:r>
            <a:endParaRPr b="0" lang="en-US" sz="2400" spc="-1" strike="noStrike">
              <a:solidFill>
                <a:srgbClr val="ffffff"/>
              </a:solidFill>
              <a:latin typeface="Times New Roman"/>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FINALIDAD DE LOS CURSOS DE PREPARACION</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inalidad de los cursos de preparación para el matrimonio:</a:t>
            </a:r>
            <a:endParaRPr b="0" lang="en-US" sz="3200" spc="-1" strike="noStrike">
              <a:solidFill>
                <a:srgbClr val="ffffff"/>
              </a:solidFill>
              <a:latin typeface="Times New Roman"/>
            </a:endParaRPr>
          </a:p>
          <a:p>
            <a:pPr lvl="2" marL="114300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mover la libertad y seriedad del consentimiento matrimonial;</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ocimiento de los derechos y deberes que importa el matrimonio, para que conozcan las responsabilidades que asumirán.</a:t>
            </a: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13</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 </a:t>
            </a:r>
            <a:r>
              <a:rPr b="0" lang="es-ES" sz="3200" spc="-1" strike="noStrike">
                <a:solidFill>
                  <a:srgbClr val="ffffff"/>
                </a:solidFill>
                <a:latin typeface="Arial Narrow"/>
              </a:rPr>
              <a:t>Las personas pertenecientes a una etnia indígena, según el artículo 2º de la ley Nº 19.253, podrán solicitar que la manifestación, la información para el matrimonio y la celebración de éste se efectúen en su lengua materna.</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	</a:t>
            </a:r>
            <a:r>
              <a:rPr b="0" lang="es-ES" sz="3200" spc="-1" strike="noStrike">
                <a:solidFill>
                  <a:srgbClr val="ffffff"/>
                </a:solidFill>
                <a:latin typeface="Arial Narrow"/>
              </a:rPr>
              <a:t>	</a:t>
            </a:r>
            <a:r>
              <a:rPr b="0" lang="es-ES" sz="3200" spc="-1" strike="noStrike">
                <a:solidFill>
                  <a:srgbClr val="ffffff"/>
                </a:solidFill>
                <a:latin typeface="Arial Narrow"/>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ARTICULO 13</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En este caso, así como en el que uno o ambos contrayentes no conocieren el idioma castellano, o fueren sordomudos que no pudieren expresarse por escrito, la manifestación, información y celebración del matrimonio se harán por medio de una persona habilitada para interpretar la lengua de el o los contrayentes o que conozca el lenguaje de señ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00:22:33Z</dcterms:created>
  <dc:creator>MariCruz</dc:creator>
  <dc:description/>
  <dc:language>en-US</dc:language>
  <cp:lastModifiedBy>MariCruz</cp:lastModifiedBy>
  <dcterms:modified xsi:type="dcterms:W3CDTF">2004-03-18T00:59:30Z</dcterms:modified>
  <cp:revision>1</cp:revision>
  <dc:subject/>
  <dc:title>FORMALIDADES DEL MATRIMONIO</dc:title>
</cp:coreProperties>
</file>