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8F12B-2FA9-4737-8F5F-14AC6C61B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B693F-A2D1-46C0-8AEE-F29643513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A7836-D56E-4541-A423-F69B1096A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70E59-05C4-4413-8B13-C38686E83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980E4-7AD6-430A-9E5C-FC6ABD5E0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67D05-2D42-4EAF-BDE4-ADF51B803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97A4B-21DB-4690-9C5C-BEB0995EC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8D8A6-7C3F-4113-8DBB-D81D50D64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A8301-0B1C-4DE7-B427-01B449846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5337E-4819-4CFF-8B56-F82F9EB84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4A576-733D-42AF-BCDA-6DB31F63C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66F5E-0AF4-4576-BC9C-F44C1F65D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19EDD-3842-47A8-B2EF-C9BDCBB06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D06D2-BBE7-4850-87D0-79AB2A00A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3C021-766D-48CB-B354-42DC9D23A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67166-8246-497B-BC26-D90EF5716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70BA7-9FA1-409B-8194-7851AD7B0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31AF3-03C6-477E-B66C-14E747770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66116-2580-4D1F-9E35-FA6906E14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7C3F8-19A5-400A-89A1-F8EEF86A2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10EE2-B0B4-4AD8-A1A6-624D54252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6F2F3-86E2-4371-A7B5-13660E907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214E-BF9D-4F31-8923-3413DECCE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39F6-57DF-4BFB-BB18-8165DE46A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3E22-EA3D-4C78-AFAB-43B0E4BC839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0F55-6F38-4742-B4F3-5AD1DEE711D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CURSO DE CASACION EN EL FONDO</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IPOS DE INFRACCION</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travención formal de la le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rrónea interpretación de la le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Falsa aplicación de la ley, es decir, se aplica a caso no regulado por la norma o se prescinde de su aplicación a los casa que correspond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USALES PENALES</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ste recurso sólo procede por causales taxativamente enumeradas en art.546 CPP, estas son:</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impone al delincuente una pena mas o menos grave que la señalada en la ley</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hace errada calificación al delito</a:t>
            </a:r>
            <a:endParaRPr b="0" lang="en-US" sz="3200" spc="-1" strike="noStrike">
              <a:solidFill>
                <a:srgbClr val="ccec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68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6" name="PlaceHolder 2"/>
          <p:cNvSpPr>
            <a:spLocks noGrp="1"/>
          </p:cNvSpPr>
          <p:nvPr>
            <p:ph/>
          </p:nvPr>
        </p:nvSpPr>
        <p:spPr>
          <a:xfrm>
            <a:off x="685800" y="914040"/>
            <a:ext cx="7848720" cy="5257800"/>
          </a:xfrm>
          <a:prstGeom prst="rect">
            <a:avLst/>
          </a:prstGeom>
          <a:noFill/>
          <a:ln w="0">
            <a:noFill/>
          </a:ln>
        </p:spPr>
        <p:txBody>
          <a:bodyPr lIns="90000" rIns="90000" tIns="46800" bIns="46800" anchor="t">
            <a:normAutofit fontScale="91000"/>
          </a:bodyPr>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califica como delito un hecho que la ley penal no considera tal</a:t>
            </a:r>
            <a:endParaRPr b="0" lang="en-US" sz="3200" spc="-1" strike="noStrike">
              <a:solidFill>
                <a:srgbClr val="ccecff"/>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o Auto Interlocutorio que calificando como lícito un hecho que la ley pena como delito, absuelva al acusado o no admita la querella</a:t>
            </a:r>
            <a:endParaRPr b="0" lang="en-US" sz="3200" spc="-1" strike="noStrike">
              <a:solidFill>
                <a:srgbClr val="ccecff"/>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al admitir las excepciones indicadas en el art.433#2,4,5,6,7,8 o al aceptar o rechazar en la sentencia definitiva las alegadas conforme al art.434 inc.2 se haya incurrido en error de derecho</a:t>
            </a: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8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8" name="PlaceHolder 2"/>
          <p:cNvSpPr>
            <a:spLocks noGrp="1"/>
          </p:cNvSpPr>
          <p:nvPr>
            <p:ph/>
          </p:nvPr>
        </p:nvSpPr>
        <p:spPr>
          <a:xfrm>
            <a:off x="685800" y="17521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haya decretado sobreseimiento por la calificación de las circunstancias previstas en el art.408#2,4,5,6,7 incurriendo en error de derecho</a:t>
            </a:r>
            <a:endParaRPr b="0" lang="en-US" sz="3200" spc="-1" strike="noStrike">
              <a:solidFill>
                <a:srgbClr val="ccecff"/>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Haber violado las leyes regulares de la prueba influyendo sustancialmente en lo dispositivo de la sentenci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RIBUNAL COMPETENTE</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Tribunal a quo: Se interpone ante tribunal que conoció de la resolución (Corte de Apelaciones o Tribunal Arbitral de segunda instancia compuesto por árbitros de derecho)</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Tribunal ad quem: Conoce una Sala de la Corte Suprem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LIMITACIONES DE LA </a:t>
            </a:r>
            <a:br>
              <a:rPr sz="4400"/>
            </a:br>
            <a:r>
              <a:rPr b="0" lang="es-ES_tradnl" sz="4400" spc="-1" strike="noStrike">
                <a:solidFill>
                  <a:srgbClr val="ccffff"/>
                </a:solidFill>
                <a:latin typeface="Tahoma"/>
              </a:rPr>
              <a:t>CORTE SUPREMA</a:t>
            </a:r>
            <a:endParaRPr b="0" lang="en-US" sz="44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puede revisar cuestiones de hecho art.785 y 807 CPC. Excepción: Cuando la norma infringida es de las reguladoras de la prueb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oce sólo de la infracción de la ley que se hubiere reclamado en el escrito de formalización del recurs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ORMA DE INTERPOSICION</a:t>
            </a:r>
            <a:endParaRPr b="0" lang="en-US" sz="4400" spc="-1" strike="noStrike">
              <a:solidFill>
                <a:srgbClr val="ccffff"/>
              </a:solidFill>
              <a:latin typeface="Tahoma"/>
            </a:endParaRPr>
          </a:p>
        </p:txBody>
      </p:sp>
      <p:sp>
        <p:nvSpPr>
          <p:cNvPr id="114"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Por medio de interposición de un escrito, cuyos requisitos son:</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comunes a todo escrit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Firma del abogado que patrocine el recurs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be señalar en que consiste el o los errores de derech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be señalar de que modo ese error influye sustancialmente en lo dispositivo del fall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LAZO DE INTERPOSICION</a:t>
            </a:r>
            <a:endParaRPr b="0" lang="en-US" sz="4400" spc="-1" strike="noStrike">
              <a:solidFill>
                <a:srgbClr val="ccffff"/>
              </a:solidFill>
              <a:latin typeface="Tahoma"/>
            </a:endParaRPr>
          </a:p>
        </p:txBody>
      </p:sp>
      <p:sp>
        <p:nvSpPr>
          <p:cNvPr id="116" name="PlaceHolder 2"/>
          <p:cNvSpPr>
            <a:spLocks noGrp="1"/>
          </p:cNvSpPr>
          <p:nvPr>
            <p:ph/>
          </p:nvPr>
        </p:nvSpPr>
        <p:spPr>
          <a:xfrm>
            <a:off x="685800" y="3352680"/>
            <a:ext cx="7772400" cy="10670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15 días contados desde la notificación de la sentencia contra la que se recurr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SU INTERPOSICION</a:t>
            </a:r>
            <a:endParaRPr b="0" lang="en-US" sz="4000" spc="-1" strike="noStrike">
              <a:solidFill>
                <a:srgbClr val="ccffff"/>
              </a:solidFill>
              <a:latin typeface="Tahoma"/>
            </a:endParaRPr>
          </a:p>
        </p:txBody>
      </p:sp>
      <p:sp>
        <p:nvSpPr>
          <p:cNvPr id="118" name="PlaceHolder 2"/>
          <p:cNvSpPr>
            <a:spLocks noGrp="1"/>
          </p:cNvSpPr>
          <p:nvPr>
            <p:ph/>
          </p:nvPr>
        </p:nvSpPr>
        <p:spPr>
          <a:xfrm>
            <a:off x="609480" y="914400"/>
            <a:ext cx="7772400" cy="541008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suspende la ejecución de la sentencia impugnada</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xcepciones:</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uando su cumplimiento haga imposible llevar a efecto la sentencia que se dicte si se acoge el recurso</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uando la pare vencida solicite la suspención del cumplimiento de la sentencia, porque no se ha rendido fianza de resultas por la parte vencedora </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RAMITACION</a:t>
            </a:r>
            <a:endParaRPr b="0" lang="en-US" sz="4400" spc="-1" strike="noStrike">
              <a:solidFill>
                <a:srgbClr val="ccffff"/>
              </a:solidFill>
              <a:latin typeface="Tahoma"/>
            </a:endParaRPr>
          </a:p>
        </p:txBody>
      </p:sp>
      <p:sp>
        <p:nvSpPr>
          <p:cNvPr id="12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TE TRIBUNAL A QUO:</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xamen de admisibilidad que revisa que se haya interpuesto en tiempo y patrocinado por abogado habilitado</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tribunal ordena que se fotocopie o compulse el expediente</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i se declara admisible el recurso el tribunal debe ordenar que se remitan autos a tribunal superior</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NCEPTO</a:t>
            </a:r>
            <a:endParaRPr b="0" lang="en-US" sz="4400" spc="-1" strike="noStrike">
              <a:solidFill>
                <a:srgbClr val="ccffff"/>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cto jurídico procesal de parte agraviada con determinadas resoluciones judiciales, para obtener de la Corte Suprema que las invalide y que las reemplace por otra resolución en que la ley se aplique correctament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76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2" name="PlaceHolder 2"/>
          <p:cNvSpPr>
            <a:spLocks noGrp="1"/>
          </p:cNvSpPr>
          <p:nvPr>
            <p:ph/>
          </p:nvPr>
        </p:nvSpPr>
        <p:spPr>
          <a:xfrm>
            <a:off x="685800" y="533160"/>
            <a:ext cx="7772400" cy="57150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TE TRIBUNAL AD QUEM:</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ertificado de ingreso del expediente</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trol de admisibilidad que revisa, si la sentencia objeto del recurso es de aquellas contra las que procede, si se ha interpuesto dentro del plazo, si fue patrocinado por abogado habilitado, y si se mencionó expresamente en que consisten los errores de derecho de que adolece la sentencia, y como ellos influyen substancialmente en lo dispositivo del fall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376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4" name="PlaceHolder 2"/>
          <p:cNvSpPr>
            <a:spLocks noGrp="1"/>
          </p:cNvSpPr>
          <p:nvPr>
            <p:ph/>
          </p:nvPr>
        </p:nvSpPr>
        <p:spPr>
          <a:xfrm>
            <a:off x="838080" y="609480"/>
            <a:ext cx="7772400" cy="4114800"/>
          </a:xfrm>
          <a:prstGeom prst="rect">
            <a:avLst/>
          </a:prstGeom>
          <a:noFill/>
          <a:ln w="0">
            <a:noFill/>
          </a:ln>
        </p:spPr>
        <p:txBody>
          <a:bodyPr lIns="90000" rIns="90000" tIns="46800" bIns="46800" anchor="t">
            <a:normAutofit fontScale="79000"/>
          </a:bodyPr>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A pesar de que se cumplan todos los requisitos, la sala de la corte puede rechazarlo de inmediato, por decisión someramente fundada, si en opinión unánime de sus integrantes adolece de manifiesta falta de fundamento (rechazo in limine). </a:t>
            </a:r>
            <a:endParaRPr b="0" lang="en-US" sz="3200" spc="-1" strike="noStrike">
              <a:solidFill>
                <a:srgbClr val="ccecff"/>
              </a:solidFill>
              <a:latin typeface="Tahoma"/>
            </a:endParaRPr>
          </a:p>
          <a:p>
            <a:pPr marL="270720" indent="-2707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s partes no pueden rendir prueba en el Recurso de casación en el fondo, art.807 CPC.</a:t>
            </a:r>
            <a:endParaRPr b="0" lang="en-US" sz="3200" spc="-1" strike="noStrike">
              <a:solidFill>
                <a:srgbClr val="ccecff"/>
              </a:solidFill>
              <a:latin typeface="Tahoma"/>
            </a:endParaRPr>
          </a:p>
          <a:p>
            <a:pPr marL="270720" indent="-2707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s partes pueden presentar informes en derech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6"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conoce previa vista de la causa, según las reglas generales, art.783 CPC.</a:t>
            </a:r>
            <a:endParaRPr b="0" lang="en-US" sz="3200" spc="-1" strike="noStrike">
              <a:solidFill>
                <a:srgbClr val="ccecff"/>
              </a:solidFill>
              <a:latin typeface="Tahoma"/>
            </a:endParaRPr>
          </a:p>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alegatos duran dos horas por cada abogado, restringiéndose a los puntos de derecho que se hicieron valer en el recurso, art 805 CPC. El tribunal por unanimidad puede prorrogar por igual tiempo la duración de las alegacion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ORMAS DE TERMINO</a:t>
            </a:r>
            <a:endParaRPr b="0" lang="en-US" sz="4400" spc="-1" strike="noStrike">
              <a:solidFill>
                <a:srgbClr val="ccffff"/>
              </a:solidFill>
              <a:latin typeface="Taho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medio normal es a través del fallo del tribunal ad que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ermina también por otros medios, los que pueden ser directos o indirectos(los indirectos ponen término al proceso sobre el que versa la casació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EDIOS DIRECTOS</a:t>
            </a:r>
            <a:endParaRPr b="0" lang="en-US" sz="4400" spc="-1" strike="noStrike">
              <a:solidFill>
                <a:srgbClr val="ccffff"/>
              </a:solidFill>
              <a:latin typeface="Tahoma"/>
            </a:endParaRPr>
          </a:p>
        </p:txBody>
      </p:sp>
      <p:sp>
        <p:nvSpPr>
          <p:cNvPr id="130"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falta de comparecencia</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no acompañar papel para compulsas.</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no haber franqueado la remisión del expediente</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claración de inadmisibilidad del recurso.</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istimiento del recurrent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EDIOS INDIRECTOS</a:t>
            </a:r>
            <a:endParaRPr b="0" lang="en-US" sz="4400" spc="-1" strike="noStrike">
              <a:solidFill>
                <a:srgbClr val="ccffff"/>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istimiento de la demand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venimient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ransacción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ciliación</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bandono del procedimient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tc.</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ALLO DEL RECURSO</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i se deniega el recurs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autos se deben devolver al tribunal de origen, quien los remitirá al tribunal de primera instancia para el cumplimiento de la sentenci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 condena en costas es según reglas general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Tahoma"/>
              </a:rPr>
              <a:t>Se acoge el recurso,</a:t>
            </a:r>
            <a:endParaRPr b="0" lang="en-US" sz="3200" spc="-1" strike="noStrike">
              <a:solidFill>
                <a:srgbClr val="ccffff"/>
              </a:solidFill>
              <a:latin typeface="Tahom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dictan dos sentencias:</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de casación que invalida la resolución recurrida.</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de reemplazo, en donde se resuelve el asunto controvertido aplicando correctamente la ley manteniendo las consideraciones de hech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8"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i este recurso se interpone conjuntamente con el de Casación en la forma, su fallo será conjunto.</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i se rechaza la casación por defectos en su formalización, el tribunal puede invalidar de oficio la sentencia recurrida, si se hubiere dictado con infracción de ley que haya influido sustancialmente en lo dispositivo del fallo, art.785, inc 2.</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DIFERENCIAS EN MATERIA CIVIL Y PENAL</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pueden interponer el recurso los que son parte, y los terceros civilmente responsables(aunque no hayan litigado).</a:t>
            </a:r>
            <a:endParaRPr b="0" lang="en-US" sz="3200" spc="-1" strike="noStrike">
              <a:solidFill>
                <a:srgbClr val="ccecff"/>
              </a:solidFill>
              <a:latin typeface="Tahoma"/>
            </a:endParaRPr>
          </a:p>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actor civil, puede interponerlo sólo en lo que se refiere a sus pretensiones.</a:t>
            </a:r>
            <a:endParaRPr b="0" lang="en-US" sz="3200" spc="-1" strike="noStrike">
              <a:solidFill>
                <a:srgbClr val="ccecff"/>
              </a:solidFill>
              <a:latin typeface="Tahoma"/>
            </a:endParaRPr>
          </a:p>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los efectos sobre la sentencia recurrida, distinguen si esta es condenatoria o absolutori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RACTERISTICA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curso Extraordinar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curso de Nulidad, pero con el objeto de reemplazar el fall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 competencia exclusiva y excluyente de la Corte Suprem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 Derecho Estricto y eminentemente Formalist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2" name="PlaceHolder 2"/>
          <p:cNvSpPr>
            <a:spLocks noGrp="1"/>
          </p:cNvSpPr>
          <p:nvPr>
            <p:ph/>
          </p:nvPr>
        </p:nvSpPr>
        <p:spPr>
          <a:xfrm>
            <a:off x="685800" y="533520"/>
            <a:ext cx="7772400" cy="411480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denatoria: se suspende su ejecución.</a:t>
            </a:r>
            <a:endParaRPr b="0" lang="en-US" sz="3200" spc="-1" strike="noStrike">
              <a:solidFill>
                <a:srgbClr val="ccec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bsolutoria: el reo será puesto en libertad</a:t>
            </a:r>
            <a:endParaRPr b="0" lang="en-US" sz="3200" spc="-1" strike="noStrike">
              <a:solidFill>
                <a:srgbClr val="ccecff"/>
              </a:solidFill>
              <a:latin typeface="Tahoma"/>
            </a:endParaRPr>
          </a:p>
          <a:p>
            <a:pPr marL="281160" indent="-2811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no requiere la comparecencia de quien la interpone, por lo tanto no rige la deserción del recurso por esta causa.</a:t>
            </a:r>
            <a:endParaRPr b="0" lang="en-US" sz="3200" spc="-1" strike="noStrike">
              <a:solidFill>
                <a:srgbClr val="ccecff"/>
              </a:solidFill>
              <a:latin typeface="Tahoma"/>
            </a:endParaRPr>
          </a:p>
          <a:p>
            <a:pPr marL="281160" indent="-2811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civil la causal por la que procede es genérica, y en materia penal están taxativamente especificadas en el art.546 CPP.</a:t>
            </a:r>
            <a:endParaRPr b="0" lang="en-US" sz="3200" spc="-1" strike="noStrike">
              <a:solidFill>
                <a:srgbClr val="ccec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4"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no cabe el rechazo in limine del recurso si se ha interpuesto en contra de sentencias condenatorias que apliquen penas privativas de libertad.</a:t>
            </a:r>
            <a:endParaRPr b="0" lang="en-US" sz="3200" spc="-1" strike="noStrike">
              <a:solidFill>
                <a:srgbClr val="ccecff"/>
              </a:solidFill>
              <a:latin typeface="Tahoma"/>
            </a:endParaRPr>
          </a:p>
          <a:p>
            <a:pPr marL="274320" indent="-2743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la resolución que se pronuncia sobre el recurso es más simple, ya que sólo existe la sentencia de reemplazo, que debe contener los fundamentos que sirvieron de base y la declaración de si anula o no la sentencia reclamad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972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6" name="PlaceHolder 2"/>
          <p:cNvSpPr>
            <a:spLocks noGrp="1"/>
          </p:cNvSpPr>
          <p:nvPr>
            <p:ph/>
          </p:nvPr>
        </p:nvSpPr>
        <p:spPr>
          <a:xfrm>
            <a:off x="762120" y="533520"/>
            <a:ext cx="7772400" cy="4114800"/>
          </a:xfrm>
          <a:prstGeom prst="rect">
            <a:avLst/>
          </a:prstGeom>
          <a:noFill/>
          <a:ln w="0">
            <a:noFill/>
          </a:ln>
        </p:spPr>
        <p:txBody>
          <a:bodyPr lIns="90000" rIns="90000" tIns="46800" bIns="46800" anchor="t">
            <a:normAutofit fontScale="84000"/>
          </a:bodyPr>
          <a:p>
            <a:pPr marL="288000" indent="-2880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n materia penal existe la Reformatio in peius, es decir, la interposición de una pena más severa que la de la sentencia invalidada, aunque el recurso se haya deducido en interés del reo, art.548 inc.1. En materia civil esto no procede.</a:t>
            </a:r>
            <a:endParaRPr b="0" lang="en-US" sz="2800" spc="-1" strike="noStrike">
              <a:solidFill>
                <a:srgbClr val="ccecff"/>
              </a:solidFill>
              <a:latin typeface="Tahoma"/>
            </a:endParaRPr>
          </a:p>
          <a:p>
            <a:pPr marL="288000" indent="-2880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n materia penal con la modificación del fallo recurrido es posible favorecer a otros reo que se encuentren en similar situación. En materia civil, esto no puede suceder salvo en los casos de obligaciones conexas, en que la modificación necesariamente favorece a otra de las partes.</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RACTERISTICAS</a:t>
            </a:r>
            <a:endParaRPr b="0" lang="en-US" sz="4400" spc="-1" strike="noStrike">
              <a:solidFill>
                <a:srgbClr val="cc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presenta ante tribunal que dictó resolución casable para ante la Corte Suprem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constituye instancia, C.S sólo conoce de cuestiones de Derecho art.805 a 807 CPC</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s renunciable expresa o tácitamente</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NATURALEZA DE RESOLUCIONES CONTRA LAS QUE PROCEDE</a:t>
            </a:r>
            <a:endParaRPr b="0" lang="en-US" sz="4000" spc="-1" strike="noStrike">
              <a:solidFill>
                <a:srgbClr val="ccffff"/>
              </a:solidFill>
              <a:latin typeface="Tahoma"/>
            </a:endParaRPr>
          </a:p>
        </p:txBody>
      </p:sp>
      <p:sp>
        <p:nvSpPr>
          <p:cNvPr id="92" name="PlaceHolder 2"/>
          <p:cNvSpPr>
            <a:spLocks noGrp="1"/>
          </p:cNvSpPr>
          <p:nvPr>
            <p:ph/>
          </p:nvPr>
        </p:nvSpPr>
        <p:spPr>
          <a:xfrm>
            <a:off x="685800" y="2666880"/>
            <a:ext cx="7772400" cy="23623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s Definitivas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s Interlocutorias que pongan termino al juicio o hagan imposible su continuació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QUISITOS DE LAS RESOLUCIONES</a:t>
            </a:r>
            <a:endParaRPr b="0" lang="en-US" sz="4400" spc="-1" strike="noStrike">
              <a:solidFill>
                <a:srgbClr val="ccffff"/>
              </a:solidFill>
              <a:latin typeface="Tahoma"/>
            </a:endParaRPr>
          </a:p>
        </p:txBody>
      </p:sp>
      <p:sp>
        <p:nvSpPr>
          <p:cNvPr id="9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sean inapelables art. 767 CPC</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hayan sido pronunciadas por las cortes de apelaciones o un tribunal arbitral de segunda instancia constituido por árbitros de derecho, cuando haya conocido de negocios de competencia de dichas cort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QUISITOS DEL SUJETO ACTIVO</a:t>
            </a:r>
            <a:endParaRPr b="0" lang="en-US" sz="4400" spc="-1" strike="noStrike">
              <a:solidFill>
                <a:srgbClr val="ccffff"/>
              </a:solidFill>
              <a:latin typeface="Tahoma"/>
            </a:endParaRPr>
          </a:p>
        </p:txBody>
      </p:sp>
      <p:sp>
        <p:nvSpPr>
          <p:cNvPr id="96" name="PlaceHolder 2"/>
          <p:cNvSpPr>
            <a:spLocks noGrp="1"/>
          </p:cNvSpPr>
          <p:nvPr>
            <p:ph/>
          </p:nvPr>
        </p:nvSpPr>
        <p:spPr>
          <a:xfrm>
            <a:off x="685800" y="3124080"/>
            <a:ext cx="7772400" cy="23623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r parte en el juic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r parte agraviada, es decir, perjudicada por la sentencia y por la infracción de ley en que incurrió.</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USAL CIVIL</a:t>
            </a:r>
            <a:endParaRPr b="0" lang="en-US" sz="4400" spc="-1" strike="noStrike">
              <a:solidFill>
                <a:srgbClr val="ccffff"/>
              </a:solidFill>
              <a:latin typeface="Tahoma"/>
            </a:endParaRPr>
          </a:p>
        </p:txBody>
      </p:sp>
      <p:sp>
        <p:nvSpPr>
          <p:cNvPr id="98" name="PlaceHolder 2"/>
          <p:cNvSpPr>
            <a:spLocks noGrp="1"/>
          </p:cNvSpPr>
          <p:nvPr>
            <p:ph/>
          </p:nvPr>
        </p:nvSpPr>
        <p:spPr>
          <a:xfrm>
            <a:off x="685800" y="2437920"/>
            <a:ext cx="76960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entencia pronunciada con infracción de ley,que haya influido sustancialmente en la dispositivo del fallo art.767 inc.1 CPC</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NATURALEZA DE LEY INFRINGIDA</a:t>
            </a:r>
            <a:endParaRPr b="0" lang="en-US" sz="4400" spc="-1" strike="noStrike">
              <a:solidFill>
                <a:srgbClr val="ccffff"/>
              </a:solidFill>
              <a:latin typeface="Tahoma"/>
            </a:endParaRPr>
          </a:p>
        </p:txBody>
      </p:sp>
      <p:sp>
        <p:nvSpPr>
          <p:cNvPr id="100"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n el termino Ley se incluye:</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CPR, ley, DL, costumbre, ley        extranjera, ley del contrato</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La ley debe ser sustantiva, y si es procesal que sea decisoria de la litis v.gr. Reguladoras de la prueb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23:29:16Z</dcterms:created>
  <dc:creator>Familia Illanes Riquelme</dc:creator>
  <dc:description/>
  <dc:language>en-US</dc:language>
  <cp:lastModifiedBy>Familia Illanes Riquelme</cp:lastModifiedBy>
  <dcterms:modified xsi:type="dcterms:W3CDTF">2001-10-23T02:56:12Z</dcterms:modified>
  <cp:revision>3</cp:revision>
  <dc:subject/>
  <dc:title>RECURSO DE CASACION EN EL FONDO</dc:title>
</cp:coreProperties>
</file>