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1F1-2115-4BBB-BB3C-2E6D1BDD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D01-ED6D-4B93-A2D5-5C849B4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589-F090-4FA2-8EA5-AD47F5F9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D0D-24ED-4776-A1A0-23AE4B1F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5DD0-223A-4CA8-B8FC-AE5ECACF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9F22-2BC3-41F3-9313-4C984DD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3C45-6A88-4BF6-9591-6E78BE6E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F7A-EECE-4498-BF35-B24ADDE8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6C29-39DF-4387-B911-C3BED83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65A4-2091-4EB9-B691-3A9E7A7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DE9-8FE1-46F7-86BA-C36A9E4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99E-2344-41FE-843C-15A5127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783-6FE6-4AEB-BF93-A93FD97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41AD-6E03-4628-BA65-AAEFD5A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923-8B5A-48D8-8981-558F355B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83A3-2D94-4424-A73E-40D5F202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C8C3-808C-4977-B81F-E89C808B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12D-26B8-4F5C-80BD-B6CA097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A0C-5567-49AA-B788-F8E3BD30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BE4-9DE4-4030-9ACC-D47250B0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C28-D362-4B63-931A-EA4D2466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C4C-ADB9-47C6-9D87-335D632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AB4-F2E4-407B-BB08-B7430BE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037-56E1-4FA7-90D5-D7484C5F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599-A3C7-4218-80C7-93F20A73C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CCC-C43E-4FF2-AF58-61D029A63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CURSOS PROCES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 RECURSO DE PROTE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recurso de protección se concede sin perjuicio de los demás derechos que el afectado pueda hacer valer ante los tribunales o la auto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77880" y="3057480"/>
            <a:ext cx="179568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RECHO PROCESAL V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fesor Pierino Perazz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IELA GARAY ULL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A MONTECINO BAST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agración leg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 establecido en el art. 20 de la C.P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48240" y="2046240"/>
            <a:ext cx="1846080" cy="12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curso que tiene por objeto proteger a las personas que sufran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iv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turb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menaz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de ciertos y determinados derechos, establecidos en el art. 20 de la C.Pol; y que estos sean causados por actos u omision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rbitrarias o ileg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echos resguard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n consagrados en los siguientes artícu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9 Nº 1,2,3 inc. 4º, 4, 5, 6, 9 inc. Final, 11, 12, 13, 15, 16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lativo a la libertad de trabajo y al derecho a su libre elección y libre contratación, y a lo establecido en el inc. 4º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19, 21, 22, 23, 24 y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59280" y="310032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autorizados para interponer el recurso: el afectado por si o por cualquiera  su 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contra quienes procede el recurso: Tanto en contra de organismos públicos, personas privadas, naturales o juríd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da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necesarias formalidades espe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existir un afectado determ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expres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mento de de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finitivas que recurrente solic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citar apercibimientos en caso que no se cumplan las disposiciones que dicte el tribu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interpone ante la Corte de Apelaciones respectiva en plazo fatal de 15 días corridos desde ejecución del acto u o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bunal pedirá informe  a la persona que se considere causante del acto reclam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bido el informe o sin él se traerán los autos en relación, agregándolos a la 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tencia definitiva se notificará a las partes personalmente o por el estado di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llo será apelable ante la Corte Suprema, en el acto de la notificación o dentro de los 5 días hábiles siguientes, no necesita ser fund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ibido los autos en la secretaría de la C.Sup, el presidente del tribunal ordenará dar cuenta preferente del recur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ueba se aprecia en conc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fallo se dicta dentro del 5º o 2º día hábil desde que la causa se encuentre en estado dependiendo de la cau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procede recurso de cas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das que puede adoptar la Cor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ncias necesarias para reestablecer el imperio del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gurar la protección del afec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92560" y="1933560"/>
            <a:ext cx="3149640" cy="386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2:38:13Z</dcterms:created>
  <dc:creator>MONTI</dc:creator>
  <dc:description/>
  <dc:language>en-US</dc:language>
  <cp:lastModifiedBy>MONTI</cp:lastModifiedBy>
  <dcterms:modified xsi:type="dcterms:W3CDTF">2003-10-11T04:21:02Z</dcterms:modified>
  <cp:revision>5</cp:revision>
  <dc:subject/>
  <dc:title>RECURSOS PROCESALES</dc:title>
</cp:coreProperties>
</file>