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7EF-9E39-43FF-85BD-453EB3BD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2C6-BDDA-4192-9F01-14BAB8D5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E8E-8298-4D01-8B77-57C6F593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FD4-2B35-4D96-BC22-BF18B08F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7A2A-EEFE-4AF3-BAD2-877474A6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DCC4-122D-4DF2-8A01-A71012B5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3A45-EF88-45A8-A2DD-118B39D8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D086-DB3C-4152-A23F-C6C26191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AC5F-2728-4F72-B931-568FCDFF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E84E-5300-46B9-8C98-89B5B940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FBF1-F3BE-4766-83DE-4CE921D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054-FC84-428F-A87F-B104617B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C1CF-4071-4B26-885C-8114AACF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8712-04AD-4D78-9D1C-CF553FC5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3979-02E7-4E07-A482-0A35B05B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EBD9-16A7-46C8-92DF-CA5B2B5E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CF18-9594-4B61-85D1-BFDBB819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083-6AB9-4D6E-AAEB-053B3AF8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6E9-285F-48A1-B2C3-6B1F42CD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20D-4D61-498F-9C39-BDDC6027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208-1A00-4AE0-AD1D-FAD5D3B2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901-7A49-4AD7-A362-DC3AFFC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CBB-1963-4B5F-ABC8-78E287A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898-8743-4CCD-96D5-119EB515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09DB-50B1-4AFE-A718-117A8F5077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EAB0-4BCF-4655-8493-6FABE42BEE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CURSOS PROCESA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 RECURSO DE PROTEC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recurso de protección se concede sin perjuicio de los demás derechos que el afectado pueda hacer valer ante los tribunales o la autor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77880" y="3057480"/>
            <a:ext cx="179568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RECHO PROCESAL V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fesor Pierino Perazz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CIELA GARAY ULL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A MONTECINO BASTÍ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agración leg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encuentra establecido en el art. 20 de la C.P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648240" y="2046240"/>
            <a:ext cx="1846080" cy="129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68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68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curso que tiene por objeto proteger a las personas que sufran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iv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erturb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menaz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de ciertos y determinados derechos, establecidos en el art. 20 de la C.Pol; y que estos sean causados por actos u omisione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rbitrarias o ileg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rechos resguardad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encuentran consagrados en los siguientes artícul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9 Nº 1,2,3 inc. 4º, 4, 5, 6, 9 inc. Final, 11, 12, 13, 15, 16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lativo a la libertad de trabajo y al derecho a su libre elección y libre contratación, y a lo establecido en el inc. 4º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19, 21, 22, 23, 24 y 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759280" y="310032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jetos autorizados para interponer el recurso: el afectado por si o por cualquiera  su nomb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jetos contra quienes procede el recurso: Tanto en contra de organismos públicos, personas privadas, naturales o juríd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lida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necesarias formalidades espe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 existir un afectado determin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expres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amento de der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das definitivas que recurrente solic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citar apercibimientos en caso que no se cumplan las disposiciones que dicte el tribu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interpone ante la Corte de Apelaciones respectiva en plazo fatal de 15 días corridos desde ejecución del acto u omi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bunal pedirá informe  a la persona que se considere causante del acto reclam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ibido el informe o sin él se traerán los autos en relación, agregándolos a la 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ntencia definitiva se notificará a las partes personalmente o por el estado di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allo será apelable ante la Corte Suprema, en el acto de la notificación o dentro de los 5 días hábiles siguientes, no necesita ser fund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ibido los autos en la secretaría de la C.Sup, el presidente del tribunal ordenará dar cuenta preferente del recur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ueba se aprecia en conci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fallo se dicta dentro del 5º o 2º día hábil desde que la causa se encuentre en estado dependiendo de la cau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procede recurso de cas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das que puede adoptar la Cor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ncias necesarias para reestablecer el imperio del derech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egurar la protección del afect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092560" y="1933560"/>
            <a:ext cx="3149640" cy="386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68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68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6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02:38:13Z</dcterms:created>
  <dc:creator>MONTI</dc:creator>
  <dc:description/>
  <dc:language>en-US</dc:language>
  <cp:lastModifiedBy>MONTI</cp:lastModifiedBy>
  <dcterms:modified xsi:type="dcterms:W3CDTF">2003-10-11T04:21:02Z</dcterms:modified>
  <cp:revision>5</cp:revision>
  <dc:subject/>
  <dc:title>RECURSOS PROCESALES</dc:title>
</cp:coreProperties>
</file>