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C8AE-A390-427B-BC2B-76900688F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2425-9F59-4299-84EC-5795236A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9913-126F-4A37-92A8-9D2C15D82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9C74-6716-4233-8B7F-3532607EA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CE95-954F-4ADD-B0AB-27FC61465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6567-6F05-45ED-9902-632A7592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DBC1-B77D-4FAB-B9C6-2AB67FA7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8A8F-A33A-4E86-B963-4C88F8D9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F21E-E421-4F44-B695-1EC591B9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8CE3-63D0-4138-B4E5-5463D972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C7CA-9D23-4497-8BCB-D6E035BB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D6DC-9850-49AD-9A70-67B8CA19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00D1-EE15-49C1-8FFA-462EB299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DFC5-E882-4782-9E5A-D5617AD6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4CD1-7274-4564-8597-F428B590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69FD-7328-4E45-BB83-0501ED07D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B11E-30C8-4E72-A94C-E392A1A28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3758-7AD5-44FC-9405-A02D1A35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1E89-74FB-42ED-8EA2-58E36205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0FAD-1BF2-4958-B80D-D2782532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B944-883F-4B04-ACD8-E6D07FA1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5A6E-4EB1-48F5-B866-4E0E667F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A824-91D8-4C75-A252-CC39B86C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B284-AF83-4750-A0AD-25BD6969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D65F-E33D-409F-B4CB-24CD013214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5081-37EC-4C25-B3A8-B5C1046F47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ECURSOS PROCESA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 RECURSO DE PROTEC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recurso de protección se concede sin perjuicio de los demás derechos que el afectado pueda hacer valer ante los tribunales o la autor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577880" y="3057480"/>
            <a:ext cx="1795680" cy="16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DERECHO PROCESAL V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rofesor Pierino Perazz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CIELA GARAY ULLO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NIELA MONTECINO BASTÍ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5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5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5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5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50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50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sagración leg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 encuentra establecido en el art. 20 de la C.P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648240" y="2046240"/>
            <a:ext cx="1846080" cy="1297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768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768" fill="hold"/>
                                        <p:tgtEl>
                                          <p:spTgt spid="1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768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768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fini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curso que tiene por objeto proteger a las personas que sufran de l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rivació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erturbació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o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menaz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 de ciertos y determinados derechos, establecidos en el art. 20 de la C.Pol; y que estos sean causados por actos u omisiones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arbitrarias o ileg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768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768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rechos resguardado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 encuentran consagrados en los siguientes artícul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19 Nº 1,2,3 inc. 4º, 4, 5, 6, 9 inc. Final, 11, 12, 13, 15, 16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relativo a la libertad de trabajo y al derecho a su libre elección y libre contratación, y a lo establecido en el inc. 4º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, 19, 21, 22, 23, 24 y 2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759280" y="3100320"/>
            <a:ext cx="1814760" cy="1528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68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68" fill="hold"/>
                                        <p:tgtEl>
                                          <p:spTgt spid="1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68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68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jet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jetos autorizados para interponer el recurso: el afectado por si o por cualquiera  su nomb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jetos contra quienes procede el recurso: Tanto en contra de organismos públicos, personas privadas, naturales o jurídic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68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68" fill="hold"/>
                                        <p:tgtEl>
                                          <p:spTgt spid="1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68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68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malidad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on necesarias formalidades espe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e existir un afectado determin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be expresa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damento de derech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das definitivas que recurrente solici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citar apercibimientos en caso que no se cumplan las disposiciones que dicte el tribu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dimient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interpone ante la Corte de Apelaciones respectiva en plazo fatal de 15 días corridos desde ejecución del acto u omis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bunal pedirá informe  a la persona que se considere causante del acto reclam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ibido el informe o sin él se traerán los autos en relación, agregándolos a la tab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768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" dur="768" fill="hold"/>
                                        <p:tgtEl>
                                          <p:spTgt spid="1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6" dur="768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8" dur="768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ntencia definitiva se notificará a las partes personalmente o por el estado diar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allo será apelable ante la Corte Suprema, en el acto de la notificación o dentro de los 5 días hábiles siguientes, no necesita ser fund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cibido los autos en la secretaría de la C.Sup, el presidente del tribunal ordenará dar cuenta preferente del recurs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ueba se aprecia en concie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fallo se dicta dentro del 5º o 2º día hábil desde que la causa se encuentre en estado dependiendo de la caus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 procede recurso de cas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didas que puede adoptar la Cor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ncias necesarias para reestablecer el imperio del derech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egurar la protección del afect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5092560" y="1933560"/>
            <a:ext cx="3149640" cy="3863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768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768" fill="hold"/>
                                        <p:tgtEl>
                                          <p:spTgt spid="1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2" dur="768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4" dur="768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1T02:38:13Z</dcterms:created>
  <dc:creator>MONTI</dc:creator>
  <dc:description/>
  <dc:language>en-US</dc:language>
  <cp:lastModifiedBy>MONTI</cp:lastModifiedBy>
  <dcterms:modified xsi:type="dcterms:W3CDTF">2003-10-11T04:21:02Z</dcterms:modified>
  <cp:revision>5</cp:revision>
  <dc:subject/>
  <dc:title>RECURSOS PROCESALES</dc:title>
</cp:coreProperties>
</file>