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697-1B54-4F1A-8DD7-7B913216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F16-9754-4673-85AC-4202A3E2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489-9942-4959-96D9-B6D09E7D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C51-84F4-4805-A516-2A93A2E3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B11-F897-4503-8AF1-0BABD974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7BF-DFC6-48F3-BB68-D58149E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346-779C-4720-A50C-39F251DD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C9D-114A-4655-8125-DCBF8C5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BEC-2A17-4AF2-B5B0-B67DD64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833-AD42-472C-9C03-5AC2887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C67-D62F-48BA-A6A1-9602950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BAC-4D89-4C00-A287-89D82DC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C976-50CF-40A2-9290-972755806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PROCESALES EN GENERAL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624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oluciones Judiciales -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rtículo 158 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naturaleza jurídica de las resoluciones judiciales tienen importancia en razón de los recursos que proceden en su con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da resolución judicial tiene un objetivo procesal disti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stados procesales de las resoluciones judiciales y relación con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olución Judicial 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n recursos interpuestos y aún no resuel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plazo pendiente para interponer los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* (resolución judicial aún no se cu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olución Judicial  que causa ejecuto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rtículo 192 inciso 1° 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trata de una resolución judicial que se puede cumplir una vez notificada a las partes, aunque existan plazos o recursos pendientes (se cumplen porque dan acción de cosa juzgada en razón del efecto devolutivo con que procede el Recurso de Apelación en ciertos ca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6568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olución Judicial Firme o Ejecutor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rtículo 174 C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stas resoluciones judiciales se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sde notificación a las partes si no  procede recurso algu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proceden recursos desde que se notific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ecreto que la manda cumplir una vez fallados los recurso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(“Cúmpla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de el certificado de ejecutor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i han transcurrido todos los plazos sin que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hayan interpuest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recursos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Fuente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e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stitución Política de la República (directa e indirecta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ódigo Orgánico de Tribun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(indirec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ódigo de Procedimiento Civil (direc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de Procedimiento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(direc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yes Especi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ificación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egún su finalid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nulidad (casación y rev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enmienda (reposición y apel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protección de garantía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onstitucionales (amparo y prote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v. De declaración de determinadas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ircunstancias (inaplicabilid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v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sciplinarios (quej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038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el tribunal ante el que se interponen y fal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nte el que la dictó para que lo fall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mismo (aire y reposi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nte el que la dictó para que lo fall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superior (apelación y casació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orm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nte el que indica la ley para que l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alle el mismo (revisión, queja y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ech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su procedencia contra mayor o menor número de resolu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dinario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roceden contra la generalidad de las resoluciones y no tienen establecidas causales específicas de proce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traordinario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Sólo proceden en contra de ciertas resoluciones y por causales específicamente determi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su fu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eg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la naturaleza de la resolución que impugn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ncipale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impugnan la sentencia que resuelve el conflicto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dentale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mpugnan resoluciones que recaen en trámites accesorio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las facultades en virtud de las cuales se conoc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Jurisdic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servadoras (amparo, protecció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 inaplicabil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isciplinarias (que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v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conómicas (A.I.R.E.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mpug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acción y efecto de atacar o refutar una actuación judicial, con el fin de obtener su revocación o invalida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ujetos del Recurs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erencia de lo que ocurre con la interposición de una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cual generalmente va dirigida en contra de la contraparte,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recurs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dirigen en contra del tribunal que ha dictado una resolución, sea para que la enmiende conforme a derecho o para que eleve los antecedentes a otro tribunal que cumpla tal misión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rav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oncepto central que fundamenta la interposición de la generalidad de los recursos procesales, en términos tales que constituye la causal genérica que habilita para su procedenci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ículo 751 CP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vo al juicio de hacienda,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ctrina ha llegado a establecer que hay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v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empre que existe una diferencia entre lo que se ha solicitado al tribunal y lo que este ha otorgad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l concepto de agravio se construye la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al genérica de interposición de los recursos procesa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 perjuicio que en algunos de ellos el agravio no sea suficiente, sino que además deban verificarse causales específicas o perjuicios demostrable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cepto de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v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propio de litigios civiles, en tanto que en lo penal el término toma el nombre de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amen irreparable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octrina ha aunado estos dos conceptos bajo el término de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erjuicio legal”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undamentos propios de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fundamento de los recursos en particular se pueden sintetizar en: Agravio, Vicio o Falta (Abu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GRAV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Re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Ap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Amp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Casación en la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Casación en el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R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LTA O AB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Qu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Qu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Otros Medios de Impug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sación en la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sación en el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ulidad de o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* En estos casos no hay actividad de parte, ya que se impugna una resolución judicial por el sólo ministerio de la ley (de oficio por el tribunal respec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forme a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io del debido proces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e consagra la posibilidad de revisar el fallo, sea por el propio tribunal que lo dictó o por uno distinto y normalmente superior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o los errores o injusticias no siempre son posibles de traducirse a términos objetivos, resulta preferible atender a la idea d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gravio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presupuesto de las vías de impug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Derecho a la Impugnación no es sino una manifestación particular de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recho a la A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y en definitiva del Derecho de Petición, establecido con grado constitucional en e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ículo 19 Nº 14 CP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Re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cto jurídico procesal de parte o de quien tenga legitimación para actuar, mediante el cual se impugna una resolución judicial, dentro del mismo proceso en que se pronunció, solicitando su revisión a fin de eliminar el agravio que se le ha causado con su dictació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Fundamento de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rven par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lamar la ilegalidad, agravio, perjuicio, falta o abuso del tribunal cometida en una resolución judicial de un proceso pendient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(se pretende enmendar un err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ayudan a la búsqueda de la verdad y la justi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ra favorecer la certeza jurídica se señalan plazos para interponer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medio de los recursos se concretan los principios formativos del procedimiento (especialmente el “Debido Proceso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recursos implican un control de las resoluciones judiciales (son las partes las que deben hacerlo efec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Elementos de los Recursos</a:t>
            </a: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Texto de ley que establezca el Re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Tribunal competente para conocerlo (regla del g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cto jurídico procesal de parte o de quien tenga legitimación para actu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ia de agravio para el recur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ugnación de una resolución judicial en el mismo proceso en que se dictó, o sea que este pend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ón de la sentencia impugna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mplimiento de formalidades o requisitos procesale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20:06:22Z</dcterms:created>
  <dc:creator>Claro y Cía.</dc:creator>
  <dc:description/>
  <dc:language>en-US</dc:language>
  <cp:lastModifiedBy>Claro y Cía.</cp:lastModifiedBy>
  <dcterms:modified xsi:type="dcterms:W3CDTF">2003-10-13T16:41:50Z</dcterms:modified>
  <cp:revision>27</cp:revision>
  <dc:subject/>
  <dc:title> Impugnación</dc:title>
</cp:coreProperties>
</file>