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8.jpeg" ContentType="image/jpeg"/>
  <Override PartName="/ppt/media/image28.png" ContentType="image/png"/>
  <Override PartName="/ppt/media/image4.png" ContentType="image/png"/>
  <Override PartName="/ppt/media/image3.wmf" ContentType="image/x-wmf"/>
  <Override PartName="/ppt/media/image15.jpeg" ContentType="image/jpeg"/>
  <Override PartName="/ppt/media/image2.jpeg" ContentType="image/jpeg"/>
  <Override PartName="/ppt/media/image29.png" ContentType="image/png"/>
  <Override PartName="/ppt/media/image16.wmf" ContentType="image/x-wmf"/>
  <Override PartName="/ppt/media/image25.png" ContentType="image/png"/>
  <Override PartName="/ppt/media/image24.wmf" ContentType="image/x-wmf"/>
  <Override PartName="/ppt/media/image23.png" ContentType="image/png"/>
  <Override PartName="/ppt/media/image22.jpeg" ContentType="image/jpeg"/>
  <Override PartName="/ppt/media/image26.png" ContentType="image/png"/>
  <Override PartName="/ppt/media/image17.jpeg" ContentType="image/jpeg"/>
  <Override PartName="/ppt/media/image14.png" ContentType="image/png"/>
  <Override PartName="/ppt/media/image20.wmf" ContentType="image/x-wmf"/>
  <Override PartName="/ppt/media/image21.wmf" ContentType="image/x-wmf"/>
  <Override PartName="/ppt/media/image19.wmf" ContentType="image/x-wmf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7819-3B2B-4964-8C2C-66603A71B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C795-16CA-4773-B6C7-7B2D2055D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F472-D931-4EBF-8FC7-95E94EB8C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7702-6552-41C2-AB47-EC9A97C9A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DAD2-792B-495A-92EC-F6EF7567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35BA-1F82-499D-A396-FF63B4BEF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21BF-05D3-474C-9FF4-489E24DE3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061D-9C01-49CE-A2F0-BD13BDFCA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712D-1310-4FDE-9284-313C986AD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9E75-037E-4D1A-B7B5-4A9AD74E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7169-515A-439E-A4EA-A36F7C5B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F114-703E-497C-AD6B-FC4A673F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454A4-8859-4FD3-9811-D9AB894AC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2.jpe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93480" y="264960"/>
            <a:ext cx="45057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UNIVERSITA’ DEGLI STUDI DI CAT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SISSIS VI CICLO CLASSE 51/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a.a. 2004-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Intervento didat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788080" y="5809320"/>
            <a:ext cx="3026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Tahoma"/>
              </a:rPr>
              <a:t>Corsista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: Cristina Monta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Tahoma"/>
              </a:rPr>
              <a:t>Tuto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: Prof.ssa G. Chis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508720" y="2565360"/>
            <a:ext cx="1712880" cy="2568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47640" y="2565360"/>
            <a:ext cx="3961080" cy="272736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TRA REPUBB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E IMPER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"/>
              </a:rPr>
              <a:t>IL PRINCIP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"/>
              </a:rPr>
              <a:t>DI AUGU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012680" y="1700280"/>
            <a:ext cx="7421400" cy="301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entury"/>
              </a:rPr>
              <a:t>AUCTORITAS che circondava August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entury"/>
              </a:rPr>
              <a:t>cioè quell’influenza che gli 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entury"/>
              </a:rPr>
              <a:t>universalmente riconosciut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entury"/>
              </a:rPr>
              <a:t>Si aveva la sensazione formale 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entury"/>
              </a:rPr>
              <a:t>Ottaviano si muovesse nel sol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entury"/>
              </a:rPr>
              <a:t>della tradizi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259280" y="1413000"/>
            <a:ext cx="66744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Diminuisce il</a:t>
            </a:r>
            <a:r>
              <a:rPr b="1" lang="en-US" sz="2800" spc="-1" strike="noStrike">
                <a:solidFill>
                  <a:srgbClr val="000000"/>
                </a:solidFill>
                <a:latin typeface="Century"/>
              </a:rPr>
              <a:t> NUMERO DEI SENATOR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i passa da 1000 a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6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51120" y="79200"/>
            <a:ext cx="5551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L’ORDINAMENTO DELLO STA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LA COSTITUZIONE AUGUST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00720" y="24210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35160" y="3753000"/>
            <a:ext cx="7237440" cy="1373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er diventare senatori occorreva possed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almeno </a:t>
            </a:r>
            <a:r>
              <a:rPr b="1" lang="en-US" sz="2800" spc="-1" strike="noStrike">
                <a:solidFill>
                  <a:srgbClr val="000000"/>
                </a:solidFill>
                <a:latin typeface="Century"/>
              </a:rPr>
              <a:t>1 milione di sesterzi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067280" y="5300640"/>
            <a:ext cx="1220760" cy="12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8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2" dur="2000" fill="hold"/>
                                        <p:tgtEl>
                                          <p:spTgt spid="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69160" y="333360"/>
            <a:ext cx="847116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Ottaviano Augusto vuole soddisfare le aspett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di pace e ordine dei Romani…Egl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3995640" y="1915560"/>
            <a:ext cx="1214640" cy="1944360"/>
          </a:xfrm>
          <a:custGeom>
            <a:avLst/>
            <a:gdLst>
              <a:gd name="textAreaLeft" fmla="*/ 0 w 1214640"/>
              <a:gd name="textAreaRight" fmla="*/ 1215000 w 1214640"/>
              <a:gd name="textAreaTop" fmla="*/ -360 h 1944360"/>
              <a:gd name="textAreaBottom" fmla="*/ 1944360 h 19443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9280" y="1700280"/>
            <a:ext cx="3816360" cy="4848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…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istituisce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entury"/>
              </a:rPr>
              <a:t>NUO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Century"/>
              </a:rPr>
              <a:t>ORGANI DI GOVERNO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e li affida a funzionari 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sua fiducia proveni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dalle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entury"/>
              </a:rPr>
              <a:t>CLASSi DEI SENATORI E DEI CAVALIERI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. I cavalieri percepivano uno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entury"/>
              </a:rPr>
              <a:t>stipendio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grazie al quale potevano comprare latifondi e diventare senatori (scalata della gerarchia socia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184720" y="1824120"/>
            <a:ext cx="387036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…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entury"/>
              </a:rPr>
              <a:t>lotta contro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Century"/>
              </a:rPr>
              <a:t>corruzione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degli appara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38800" y="4056120"/>
            <a:ext cx="416592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…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entury"/>
              </a:rPr>
              <a:t>decentra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le fun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amministrative e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entury"/>
              </a:rPr>
              <a:t>accen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nelle sue mani il potere 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deliberazione e di control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361600" y="419040"/>
            <a:ext cx="47300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I NUOVI ORGANI DELLO STA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48960" y="1268280"/>
            <a:ext cx="732204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"/>
              </a:rPr>
              <a:t>PREFECTUS URBIS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 (prefetto urbano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- Amministrava la città di Roma e i suoi immedia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dintorni (raggio di 100 migli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- Garantiva l’ordine pubbli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- Era di rango senato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24000" y="386064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972720" y="3933720"/>
            <a:ext cx="792576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"/>
              </a:rPr>
              <a:t>PREFECTUS ANNONAE 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(prefetto dell’annona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- Provvedeva all’approvvigionamento della città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alle distribuzioni gratuite di grano alla pleb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- Aveva competenze giurisdizionali sia civili che pena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- Era di rango equest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987480" y="981000"/>
            <a:ext cx="773064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"/>
              </a:rPr>
              <a:t>PREFECTUS VIGILUM 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(prefetto dei vigili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- Era il capo della vigilanza notturna e dei “pompieri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- Aveva funzioni di poliz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- Comandava 7 coorti, formate soprattutto da liber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86400" y="3213000"/>
            <a:ext cx="784440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entury"/>
              </a:rPr>
              <a:t>PREFECTUS PRAETORIO  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(prefetto del pretorio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Era il comandante del </a:t>
            </a:r>
            <a:r>
              <a:rPr b="0" i="1" lang="it-IT" sz="2400" spc="-1" strike="noStrike">
                <a:solidFill>
                  <a:srgbClr val="000000"/>
                </a:solidFill>
                <a:latin typeface="Century"/>
              </a:rPr>
              <a:t>praetorium 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(quartier genera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del princip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Esercitava le sue funzioni in un raggio di 100 mig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da Ro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- Era di rango equest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95280" y="31417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827000" y="404640"/>
            <a:ext cx="4746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LA DIVISIONE DELLE PROVI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981000"/>
            <a:ext cx="485640" cy="719280"/>
          </a:xfrm>
          <a:prstGeom prst="downArrow">
            <a:avLst>
              <a:gd name="adj1" fmla="val 50000"/>
              <a:gd name="adj2" fmla="val 3702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84720" y="907920"/>
            <a:ext cx="486000" cy="720720"/>
          </a:xfrm>
          <a:prstGeom prst="downArrow">
            <a:avLst>
              <a:gd name="adj1" fmla="val 50000"/>
              <a:gd name="adj2" fmla="val 37074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1773360"/>
            <a:ext cx="35290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entury"/>
              </a:rPr>
              <a:t>PROVINCIAE POPU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(Provincie del popo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o Senator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43280" y="1700280"/>
            <a:ext cx="41054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entury"/>
              </a:rPr>
              <a:t>PROVINCIAE CAES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(Provincie imperial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2708280"/>
            <a:ext cx="0" cy="865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95640" y="2708280"/>
            <a:ext cx="0" cy="576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3188880"/>
            <a:ext cx="3240360" cy="1512360"/>
          </a:xfrm>
          <a:prstGeom prst="upArrowCallout">
            <a:avLst>
              <a:gd name="adj1" fmla="val 53569"/>
              <a:gd name="adj2" fmla="val 53565"/>
              <a:gd name="adj3" fmla="val 16667"/>
              <a:gd name="adj4" fmla="val 6666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Erano affidate a senatori che venivano chiamati “proconsoli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84720" y="2683800"/>
            <a:ext cx="4681440" cy="3799080"/>
          </a:xfrm>
          <a:prstGeom prst="upArrowCallout">
            <a:avLst>
              <a:gd name="adj1" fmla="val 30809"/>
              <a:gd name="adj2" fmla="val 30806"/>
              <a:gd name="adj3" fmla="val 16667"/>
              <a:gd name="adj4" fmla="val 6666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Erano poste sotto il diretto controllo del principe. Erano province difficili da governare perché di conf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o turbolente, e venivano affidate a funzionari di rango inferiore ai proconsoli. Tali funzionari dipendevano direttamente dal princi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4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8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682720" y="260280"/>
            <a:ext cx="364032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IMPORTANZA POLI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DELLA DIVIS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DELLE PROVI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5400" y="1989000"/>
            <a:ext cx="822456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I </a:t>
            </a:r>
            <a:r>
              <a:rPr b="1" lang="it-IT" sz="2400" spc="-1" strike="noStrike">
                <a:solidFill>
                  <a:srgbClr val="000000"/>
                </a:solidFill>
                <a:latin typeface="Century"/>
              </a:rPr>
              <a:t>TRIBUTI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riscossi nelle Provincie Imperialinon veniv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versati nella casse dello stato (</a:t>
            </a:r>
            <a:r>
              <a:rPr b="0" i="1" lang="it-IT" sz="2400" spc="-1" strike="noStrike">
                <a:solidFill>
                  <a:srgbClr val="000000"/>
                </a:solidFill>
                <a:latin typeface="Century"/>
              </a:rPr>
              <a:t>aerarium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), come i tribu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riscossi nelle province senatorie, ma andavano a fin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nella cassa personale del principe (</a:t>
            </a:r>
            <a:r>
              <a:rPr b="0" i="1" lang="it-IT" sz="2400" spc="-1" strike="noStrike">
                <a:solidFill>
                  <a:srgbClr val="000000"/>
                </a:solidFill>
                <a:latin typeface="Century"/>
              </a:rPr>
              <a:t>fiscus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), rivelando cos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che in queste province il principe si proponeva ai suddi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come un monarca di tipo orienta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9200" y="4869000"/>
            <a:ext cx="849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Inoltre l’</a:t>
            </a: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Egitto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veniva considerato come u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"/>
              </a:rPr>
              <a:t>possed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"/>
              </a:rPr>
              <a:t>personale del principe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780000" y="530064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8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1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42520" y="907920"/>
            <a:ext cx="64000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Giudizi sulla natura giuridica del princip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411280" y="2275560"/>
            <a:ext cx="3888000" cy="2376360"/>
          </a:xfrm>
          <a:custGeom>
            <a:avLst/>
            <a:gdLst>
              <a:gd name="textAreaLeft" fmla="*/ 0 w 3888000"/>
              <a:gd name="textAreaRight" fmla="*/ 3888360 w 3888000"/>
              <a:gd name="textAreaTop" fmla="*/ -360 h 2376360"/>
              <a:gd name="textAreaBottom" fmla="*/ 2376360 h 23763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2160" y="270828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entury"/>
              </a:rPr>
              <a:t>CITT</a:t>
            </a: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À-ST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84200" y="851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633360" y="2637000"/>
            <a:ext cx="21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MONARCH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67800" y="4653000"/>
            <a:ext cx="199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entury"/>
              </a:rPr>
              <a:t>DIARCH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entury"/>
              </a:rPr>
              <a:t>(Momms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943600" y="1341360"/>
            <a:ext cx="3200400" cy="28069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11280" y="620640"/>
            <a:ext cx="3960720" cy="1008000"/>
          </a:xfrm>
          <a:prstGeom prst="wedgeRectCallout">
            <a:avLst>
              <a:gd name="adj1" fmla="val 81865"/>
              <a:gd name="adj2" fmla="val 2716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LA RIFOR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MILIT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1628640"/>
            <a:ext cx="842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           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RISTRUTTUR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           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DELL’ESERCI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2400" spc="-1" strike="noStrike">
                <a:solidFill>
                  <a:srgbClr val="000000"/>
                </a:solidFill>
                <a:latin typeface="Century"/>
              </a:rPr>
              <a:t>Riduzione delle legioni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da 50 a 2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Ciascuna legione, stanziata a dife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delle frontiere era composta di 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uomin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2400" spc="-1" strike="noStrike">
                <a:solidFill>
                  <a:srgbClr val="000000"/>
                </a:solidFill>
                <a:latin typeface="Century"/>
              </a:rPr>
              <a:t>Grande attenzione per l’esercito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  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i singoli soldati (importanza dell’appoggio dei militar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2400" spc="-1" strike="noStrike">
                <a:solidFill>
                  <a:srgbClr val="000000"/>
                </a:solidFill>
                <a:latin typeface="Century"/>
              </a:rPr>
              <a:t>Reclutamento volontario regolare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: i soldati potevan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carriera nell’esercito nell’esercito ( fino a 20 anni 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ferma per la fanteria e 10 per la cvalleri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2400" spc="-1" strike="noStrike">
                <a:solidFill>
                  <a:srgbClr val="000000"/>
                </a:solidFill>
                <a:latin typeface="Century"/>
              </a:rPr>
              <a:t>Ripristino delle antiche pene militari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2400" spc="-1" strike="noStrike">
                <a:solidFill>
                  <a:srgbClr val="000000"/>
                </a:solidFill>
                <a:latin typeface="Century"/>
              </a:rPr>
              <a:t>Trasferimento frequente degli ufficiali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per evit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legami di potere troppo for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84360" y="1773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6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1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500"/>
                            </p:stCondLst>
                            <p:childTnLst>
                              <p:par>
                                <p:cTn id="9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0440" y="981000"/>
            <a:ext cx="6465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LA RIFORMA EBBE SUCCESSO PERCH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gli strati meno agiati della popol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ne traevano un buon vantagg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economic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i provinciali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arruolandosi acquistava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la cittadinanza roman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i veterani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, quando lasciavano l’esercit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ricevevano un appezzamento di terra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una colon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084720" y="1557360"/>
            <a:ext cx="2667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11280" y="620640"/>
            <a:ext cx="3960720" cy="1295640"/>
          </a:xfrm>
          <a:prstGeom prst="wedgeRectCallout">
            <a:avLst>
              <a:gd name="adj1" fmla="val 81865"/>
              <a:gd name="adj2" fmla="val 1005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LA TRANSI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VERSO I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RINCIP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796000" y="1341360"/>
            <a:ext cx="3200400" cy="2806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58800" y="2454120"/>
            <a:ext cx="249552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Nel 29. a.C. si celebrò il TRIONFO di Ottavia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17400" y="5084640"/>
            <a:ext cx="637272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INIZIA UNA NUOVA ERA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95280" y="765000"/>
            <a:ext cx="5834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Fu creato l</a:t>
            </a: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’ERARIO MILITARE,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cioè una cassa destinata a pagare i solda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congedati e a permettere loro di dare inizio a una nuova attività nella vita civile. Esso veniva rimpinguato 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Tassa indiretta dell’1% sulle vendit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imposta al popo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Tassa indiretta del 5% sui be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trasmessi in eredità, imposta al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classi abbien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940360" y="3357720"/>
            <a:ext cx="224964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562800" y="1916280"/>
            <a:ext cx="2581200" cy="3809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600200" y="706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345960"/>
            <a:ext cx="676908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Dell’esercito permanente faceva parte anche 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entury"/>
              </a:rPr>
              <a:t>CORPO SPECIALE DEI PRETORIA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I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Century"/>
              </a:rPr>
              <a:t>pretoriani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entury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erano 9000 uomini selezionati 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I migliori giovani provenienti dal territorio itali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Century"/>
              </a:rPr>
              <a:t>9 coorti di soldati volontari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comandati d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entury"/>
              </a:rPr>
              <a:t>Prefectus praetorio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erano incaricate 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Proteggere la persona del princi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entury"/>
              </a:rPr>
              <a:t>Il corpo speciale dei pretoriani (“coor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entury"/>
              </a:rPr>
              <a:t>pretoria”)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nacque come </a:t>
            </a:r>
            <a:r>
              <a:rPr b="1" lang="it-IT" sz="2400" spc="-1" strike="noStrike">
                <a:solidFill>
                  <a:srgbClr val="000000"/>
                </a:solidFill>
                <a:latin typeface="Century"/>
              </a:rPr>
              <a:t>strumento di potere personale del princi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8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71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8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3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6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9" dur="5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2" dur="5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9" dur="500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4" dur="500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571400" cy="1028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88440" y="476280"/>
            <a:ext cx="853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"/>
              </a:rPr>
              <a:t>Trasformazioni sociali consegu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"/>
              </a:rPr>
              <a:t>alla riforma  amministrativa e milit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L’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"/>
              </a:rPr>
              <a:t>ordine equestre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costituisce l’ossatura dell’esercit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della finanza e dell’amministrazione del nuovo st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Migliorano le condizioni dei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"/>
              </a:rPr>
              <a:t>liberti,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che si arricchisco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con i commerci e con le terre confiscate ai proscrit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-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"/>
              </a:rPr>
              <a:t>Il servizio militare rende più flessibile e facile il passagg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"/>
              </a:rPr>
              <a:t>fra le classi sociali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(anche un soldato di umili origini pu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aspirare a far parte dell’ordine equestr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5" dur="indefinite" restart="never" nodeType="tmRoot">
          <p:childTnLst>
            <p:seq>
              <p:cTn id="1226" dur="indefinite" nodeType="mainSeq">
                <p:childTnLst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755640" y="404640"/>
            <a:ext cx="3960720" cy="936720"/>
          </a:xfrm>
          <a:prstGeom prst="wedgeRectCallout">
            <a:avLst>
              <a:gd name="adj1" fmla="val 80703"/>
              <a:gd name="adj2" fmla="val -2203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LA POLITICA ECONOM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651640" y="549360"/>
            <a:ext cx="3200400" cy="28065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79280" y="1679400"/>
            <a:ext cx="4357800" cy="25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L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entury"/>
              </a:rPr>
              <a:t>politica economica</a:t>
            </a: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 di Augusto f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entury"/>
              </a:rPr>
              <a:t>liberista</a:t>
            </a: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. Egli non interve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direttamente nel commercio e neg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affari. Ci fu quindi una relativ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"/>
              </a:rPr>
              <a:t>libertà in campo economico</a:t>
            </a: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Century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favorita d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659640" y="5229360"/>
            <a:ext cx="1812960" cy="1338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3851280" y="4916520"/>
            <a:ext cx="1917720" cy="19414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266480" y="4076640"/>
            <a:ext cx="3970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Tranquillità politica e </a:t>
            </a: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395280" y="3933720"/>
            <a:ext cx="706320" cy="8254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05880" y="5229360"/>
            <a:ext cx="27000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Costruzione di 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impon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rete strad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16360" y="59500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220080" y="3860640"/>
            <a:ext cx="27424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Organizzazione 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un effic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sistema post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9" dur="indefinite" restart="never" nodeType="tmRoot">
          <p:childTnLst>
            <p:seq>
              <p:cTn id="1240" dur="indefinite" nodeType="mainSeq">
                <p:childTnLst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7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8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9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332000" y="58770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350800" y="260280"/>
            <a:ext cx="37360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La riforma monet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11280" y="333360"/>
            <a:ext cx="1422360" cy="1422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104120" y="5300640"/>
            <a:ext cx="52862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1 </a:t>
            </a:r>
            <a:r>
              <a:rPr b="0" i="1" lang="it-IT" sz="2400" spc="-1" strike="noStrike">
                <a:solidFill>
                  <a:srgbClr val="000000"/>
                </a:solidFill>
                <a:latin typeface="Century"/>
              </a:rPr>
              <a:t>aureus  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= </a:t>
            </a:r>
            <a:r>
              <a:rPr b="0" i="1" lang="it-IT" sz="24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25</a:t>
            </a:r>
            <a:r>
              <a:rPr b="0" i="1" lang="it-IT" sz="2400" spc="-1" strike="noStrike">
                <a:solidFill>
                  <a:srgbClr val="000000"/>
                </a:solidFill>
                <a:latin typeface="Century"/>
              </a:rPr>
              <a:t> denarii 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=</a:t>
            </a:r>
            <a:r>
              <a:rPr b="0" i="1" lang="it-IT" sz="2400" spc="-1" strike="noStrike">
                <a:solidFill>
                  <a:srgbClr val="000000"/>
                </a:solidFill>
                <a:latin typeface="Century"/>
              </a:rPr>
              <a:t> 100 sestert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3348000" y="5877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5148360" y="58770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25080" y="1916280"/>
            <a:ext cx="85399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Augusto introdusse un </a:t>
            </a: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doppio sistema di monetazione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egli si riservò il diritto di battere moneta d’oro e d’argent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Lasciando al senato quello di battere la moneta di r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11280" y="3213000"/>
            <a:ext cx="4502520" cy="1922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entury"/>
              </a:rPr>
              <a:t>Aureus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= moneta d’o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entury"/>
              </a:rPr>
              <a:t>Denarium 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= moneta d’arg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entury"/>
              </a:rPr>
              <a:t>Sestertium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= moneta di r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5"/>
          <a:stretch/>
        </p:blipFill>
        <p:spPr>
          <a:xfrm>
            <a:off x="6443640" y="3716280"/>
            <a:ext cx="1714680" cy="10288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268360" y="836640"/>
            <a:ext cx="66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Augusto intervenne soltanto nella politica monetaria. L’intervento fu reso necessario dalla costosissima nuova organizzazione dello sta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0" dur="indefinite" restart="never" nodeType="tmRoot">
          <p:childTnLst>
            <p:seq>
              <p:cTn id="1301" dur="indefinite" nodeType="mainSeq">
                <p:childTnLst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9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539640" y="333360"/>
            <a:ext cx="3961080" cy="936720"/>
          </a:xfrm>
          <a:prstGeom prst="wedgeRectCallout">
            <a:avLst>
              <a:gd name="adj1" fmla="val 89560"/>
              <a:gd name="adj2" fmla="val 610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LA POLI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FAMILI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943600" y="620640"/>
            <a:ext cx="3200400" cy="2806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706680" y="1498680"/>
            <a:ext cx="5008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Per restaurare le antiche virt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del </a:t>
            </a:r>
            <a:r>
              <a:rPr b="0" i="1" lang="it-IT" sz="2400" spc="-1" strike="noStrike">
                <a:solidFill>
                  <a:srgbClr val="000000"/>
                </a:solidFill>
                <a:latin typeface="Century"/>
              </a:rPr>
              <a:t>mos maiorum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e combattere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decadenza dell’istituto famili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Augusto fece votare in senato 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88480" y="3213000"/>
            <a:ext cx="2469600" cy="886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entury"/>
              </a:rPr>
              <a:t>LEGES IULIAE</a:t>
            </a:r>
            <a:r>
              <a:rPr b="0" i="1" lang="it-IT" sz="2400" spc="-1" strike="noStrike">
                <a:solidFill>
                  <a:srgbClr val="000000"/>
                </a:solidFill>
                <a:latin typeface="Centu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(18-9 a. 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1280" y="4437000"/>
            <a:ext cx="86554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Esse prevedevan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l’obbligo, sia per gli uomini che per le donne tra i 25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    </a:t>
            </a: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i 60 anni, di sposarsi con persone nei rispettivi limi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    </a:t>
            </a: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di età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premi in denaro per le famiglie più numeros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forti limitazioni, nei testamenti e nelle eredità, per chi non aveva figl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3" dur="indefinite" restart="never" nodeType="tmRoot">
          <p:childTnLst>
            <p:seq>
              <p:cTn id="1414" dur="indefinite" nodeType="mainSeq">
                <p:childTnLst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2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4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9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5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8" dur="2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36040" y="260280"/>
            <a:ext cx="855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Augusto promoss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"/>
              </a:rPr>
              <a:t>l’introduzione di nuove pene pubbl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"/>
              </a:rPr>
              <a:t>contro l’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"/>
              </a:rPr>
              <a:t>adulte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Gli adulteri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venivano mandati in esilio su un’is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E veniva confiscata la metà del loro patrimon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885080" y="692280"/>
            <a:ext cx="942840" cy="13572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717920" y="5373720"/>
            <a:ext cx="5851440" cy="13107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entury"/>
              </a:rPr>
              <a:t>Anche </a:t>
            </a:r>
            <a:r>
              <a:rPr b="1" lang="it-IT" sz="1600" spc="-1" strike="noStrike">
                <a:solidFill>
                  <a:srgbClr val="000000"/>
                </a:solidFill>
                <a:latin typeface="Century"/>
              </a:rPr>
              <a:t>Giulia</a:t>
            </a:r>
            <a:r>
              <a:rPr b="0" lang="it-IT" sz="1600" spc="-1" strike="noStrike">
                <a:solidFill>
                  <a:srgbClr val="000000"/>
                </a:solidFill>
                <a:latin typeface="Century"/>
              </a:rPr>
              <a:t>, figlia di Augusto e di Scribonia, nota per i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entury"/>
              </a:rPr>
              <a:t>suo comportamento licenzioso, all’età di 37 anni fu releg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entury"/>
              </a:rPr>
              <a:t>dal padre su un’isola! Augusto fu costretto a prend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entury"/>
              </a:rPr>
              <a:t>questa decisione per dimostrare ai romani la sua coerenz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entury"/>
              </a:rPr>
              <a:t>e la sua serietà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250920" y="1844640"/>
            <a:ext cx="1428480" cy="28576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763640" y="1989000"/>
            <a:ext cx="352908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Se a tradire era la moglie, il marito poteva uccid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solo l’amante e soltanto se apparteneva alle classi sociali più bas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96640" y="4076640"/>
            <a:ext cx="357480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Se a tradire era il marit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il padre della donna potev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in alcuni casi ucciderlo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7524720" y="2421000"/>
            <a:ext cx="14288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4" dur="indefinite" restart="never" nodeType="tmRoot">
          <p:childTnLst>
            <p:seq>
              <p:cTn id="1455" dur="indefinite" nodeType="mainSeq">
                <p:childTnLst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3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6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9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4360" y="404640"/>
            <a:ext cx="3960720" cy="1800360"/>
          </a:xfrm>
          <a:prstGeom prst="wedgeRectCallout">
            <a:avLst>
              <a:gd name="adj1" fmla="val 81462"/>
              <a:gd name="adj2" fmla="val 925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LA POLITICA ESTER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LA GUERRA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LA </a:t>
            </a:r>
            <a:r>
              <a:rPr b="0" i="1" lang="en-US" sz="2800" spc="-1" strike="noStrike">
                <a:solidFill>
                  <a:srgbClr val="000000"/>
                </a:solidFill>
                <a:latin typeface="Century"/>
              </a:rPr>
              <a:t>PAX ROM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24360" y="1341360"/>
            <a:ext cx="3200400" cy="28069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92200" y="2435400"/>
            <a:ext cx="44226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Augusto non aveva progetti 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espansione. Egli mise fine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340000" y="3357720"/>
            <a:ext cx="503280" cy="358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908000" y="3284640"/>
            <a:ext cx="648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56000" y="3284640"/>
            <a:ext cx="1152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28520" y="3932640"/>
            <a:ext cx="1582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Confis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336480" y="4291200"/>
            <a:ext cx="17809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Terror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poli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9920" y="5516640"/>
            <a:ext cx="88203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Ma il </a:t>
            </a:r>
            <a:r>
              <a:rPr b="0" i="1" lang="it-IT" sz="2400" spc="-1" strike="noStrike">
                <a:solidFill>
                  <a:srgbClr val="000000"/>
                </a:solidFill>
                <a:latin typeface="Century"/>
              </a:rPr>
              <a:t>princeps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non potè fare a meno di impegnarsi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missioni di </a:t>
            </a:r>
            <a:r>
              <a:rPr b="1" lang="it-IT" sz="2400" spc="-1" strike="noStrike">
                <a:solidFill>
                  <a:srgbClr val="000000"/>
                </a:solidFill>
                <a:latin typeface="Century"/>
              </a:rPr>
              <a:t>guerra 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per controllare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entury"/>
              </a:rPr>
              <a:t>zone di confine a rischio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2" dur="indefinite" restart="never" nodeType="tmRoot">
          <p:childTnLst>
            <p:seq>
              <p:cTn id="1513" dur="indefinite" nodeType="mainSeq">
                <p:childTnLst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79280" y="173520"/>
            <a:ext cx="8642520" cy="61236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LA NUOVA ERA DELLA POLITICA ESTERA ROM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19280" y="907920"/>
            <a:ext cx="485640" cy="649440"/>
          </a:xfrm>
          <a:prstGeom prst="downArrow">
            <a:avLst>
              <a:gd name="adj1" fmla="val 50000"/>
              <a:gd name="adj2" fmla="val 33432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732720" y="907920"/>
            <a:ext cx="485640" cy="648000"/>
          </a:xfrm>
          <a:prstGeom prst="downArrow">
            <a:avLst>
              <a:gd name="adj1" fmla="val 50000"/>
              <a:gd name="adj2" fmla="val 33358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868360" y="1628640"/>
            <a:ext cx="2282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GUER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IN OCCID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95400" y="1700280"/>
            <a:ext cx="19713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TRAT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IN OR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35640" y="2550960"/>
            <a:ext cx="3168720" cy="4155480"/>
          </a:xfrm>
          <a:prstGeom prst="upArrowCallout">
            <a:avLst>
              <a:gd name="adj1" fmla="val 25002"/>
              <a:gd name="adj2" fmla="val 25000"/>
              <a:gd name="adj3" fmla="val 21857"/>
              <a:gd name="adj4" fmla="val 6666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entury"/>
              </a:rPr>
              <a:t>Tra il 20 e il 9 d.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entury"/>
              </a:rPr>
              <a:t>il generale </a:t>
            </a:r>
            <a:r>
              <a:rPr b="1" lang="it-IT" sz="1600" spc="-1" strike="noStrike" u="sng">
                <a:solidFill>
                  <a:srgbClr val="000000"/>
                </a:solidFill>
                <a:uFillTx/>
                <a:latin typeface="Century"/>
              </a:rPr>
              <a:t>Agrippa</a:t>
            </a:r>
            <a:r>
              <a:rPr b="0" lang="it-IT" sz="1600" spc="-1" strike="noStrike">
                <a:solidFill>
                  <a:srgbClr val="000000"/>
                </a:solidFill>
                <a:latin typeface="Century"/>
              </a:rPr>
              <a:t>, braccio destro di August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entury"/>
              </a:rPr>
              <a:t>e i </a:t>
            </a:r>
            <a:r>
              <a:rPr b="1" lang="it-IT" sz="1600" spc="-1" strike="noStrike" u="sng">
                <a:solidFill>
                  <a:srgbClr val="000000"/>
                </a:solidFill>
                <a:uFillTx/>
                <a:latin typeface="Century"/>
              </a:rPr>
              <a:t>figli di Augusto</a:t>
            </a:r>
            <a:r>
              <a:rPr b="0" lang="it-IT" sz="1600" spc="-1" strike="noStrike">
                <a:solidFill>
                  <a:srgbClr val="000000"/>
                </a:solidFill>
                <a:latin typeface="Century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000000"/>
                </a:solidFill>
                <a:uFillTx/>
                <a:latin typeface="Century"/>
              </a:rPr>
              <a:t>Tiberio e Druso</a:t>
            </a:r>
            <a:r>
              <a:rPr b="0" lang="it-IT" sz="1600" spc="-1" strike="noStrike">
                <a:solidFill>
                  <a:srgbClr val="000000"/>
                </a:solidFill>
                <a:latin typeface="Century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entury"/>
              </a:rPr>
              <a:t>consolidarono il dominio romano nella </a:t>
            </a:r>
            <a:r>
              <a:rPr b="1" lang="it-IT" sz="1600" spc="-1" strike="noStrike">
                <a:solidFill>
                  <a:srgbClr val="000000"/>
                </a:solidFill>
                <a:latin typeface="Century"/>
              </a:rPr>
              <a:t>Spagna</a:t>
            </a:r>
            <a:r>
              <a:rPr b="0" lang="it-IT" sz="1600" spc="-1" strike="noStrike">
                <a:solidFill>
                  <a:srgbClr val="000000"/>
                </a:solidFill>
                <a:latin typeface="Century"/>
              </a:rPr>
              <a:t>, nella </a:t>
            </a:r>
            <a:r>
              <a:rPr b="1" lang="it-IT" sz="1600" spc="-1" strike="noStrike">
                <a:solidFill>
                  <a:srgbClr val="000000"/>
                </a:solidFill>
                <a:latin typeface="Century"/>
              </a:rPr>
              <a:t>Gallia</a:t>
            </a:r>
            <a:r>
              <a:rPr b="0" lang="it-IT" sz="1600" spc="-1" strike="noStrike">
                <a:solidFill>
                  <a:srgbClr val="000000"/>
                </a:solidFill>
                <a:latin typeface="Century"/>
              </a:rPr>
              <a:t> e nella </a:t>
            </a:r>
            <a:r>
              <a:rPr b="1" lang="it-IT" sz="1600" spc="-1" strike="noStrike">
                <a:solidFill>
                  <a:srgbClr val="000000"/>
                </a:solidFill>
                <a:latin typeface="Century"/>
              </a:rPr>
              <a:t>zona delle Alpi</a:t>
            </a:r>
            <a:r>
              <a:rPr b="0" lang="it-IT" sz="1600" spc="-1" strike="noStrike">
                <a:solidFill>
                  <a:srgbClr val="000000"/>
                </a:solidFill>
                <a:latin typeface="Century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entury"/>
              </a:rPr>
              <a:t>Le lotte si trasformarono in vere e propr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entury"/>
              </a:rPr>
              <a:t>GUERRE DI CONQUISTA</a:t>
            </a:r>
            <a:r>
              <a:rPr b="0" lang="it-IT" sz="1600" spc="-1" strike="noStrike">
                <a:solidFill>
                  <a:srgbClr val="000000"/>
                </a:solidFill>
                <a:latin typeface="Century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0920" y="2550960"/>
            <a:ext cx="3168720" cy="4155480"/>
          </a:xfrm>
          <a:prstGeom prst="upArrowCallout">
            <a:avLst>
              <a:gd name="adj1" fmla="val 25002"/>
              <a:gd name="adj2" fmla="val 25000"/>
              <a:gd name="adj3" fmla="val 21857"/>
              <a:gd name="adj4" fmla="val 6666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entury"/>
              </a:rPr>
              <a:t>Per trovare una soluzione ai </a:t>
            </a:r>
            <a:r>
              <a:rPr b="1" lang="it-IT" sz="1600" spc="-1" strike="noStrike">
                <a:solidFill>
                  <a:srgbClr val="000000"/>
                </a:solidFill>
                <a:latin typeface="Century"/>
              </a:rPr>
              <a:t>difficili rapporti con i Parti</a:t>
            </a:r>
            <a:r>
              <a:rPr b="0" lang="it-IT" sz="1600" spc="-1" strike="noStrike">
                <a:solidFill>
                  <a:srgbClr val="000000"/>
                </a:solidFill>
                <a:latin typeface="Century"/>
              </a:rPr>
              <a:t>, Augusto si impegnò in una complic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entury"/>
              </a:rPr>
              <a:t>AZIONE DIPLOMATICA</a:t>
            </a:r>
            <a:r>
              <a:rPr b="0" lang="it-IT" sz="1600" spc="-1" strike="noStrike">
                <a:solidFill>
                  <a:srgbClr val="000000"/>
                </a:solidFill>
                <a:latin typeface="Century"/>
              </a:rPr>
              <a:t>. Si evitò, così, lo scontro arma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entury"/>
              </a:rPr>
              <a:t>L’</a:t>
            </a:r>
            <a:r>
              <a:rPr b="1" lang="it-IT" sz="1600" spc="-1" strike="noStrike">
                <a:solidFill>
                  <a:srgbClr val="000000"/>
                </a:solidFill>
                <a:latin typeface="Century"/>
              </a:rPr>
              <a:t>Armenia</a:t>
            </a:r>
            <a:r>
              <a:rPr b="0" lang="it-IT" sz="1600" spc="-1" strike="noStrike">
                <a:solidFill>
                  <a:srgbClr val="000000"/>
                </a:solidFill>
                <a:latin typeface="Century"/>
              </a:rPr>
              <a:t> entrò nella sfera di controllo dei romani, che acquisirono anche </a:t>
            </a:r>
            <a:r>
              <a:rPr b="1" lang="it-IT" sz="1600" spc="-1" strike="noStrike">
                <a:solidFill>
                  <a:srgbClr val="000000"/>
                </a:solidFill>
                <a:latin typeface="Century"/>
              </a:rPr>
              <a:t>il contro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entury"/>
              </a:rPr>
              <a:t>sui regni di Tracia, Asia Minore, Bosforo e Ponto</a:t>
            </a:r>
            <a:r>
              <a:rPr b="0" lang="it-IT" sz="1600" spc="-1" strike="noStrike">
                <a:solidFill>
                  <a:srgbClr val="000000"/>
                </a:solidFill>
                <a:latin typeface="Century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0" dur="indefinite" restart="never" nodeType="tmRoot">
          <p:childTnLst>
            <p:seq>
              <p:cTn id="1561" dur="indefinite" nodeType="mainSeq">
                <p:childTnLst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8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2" fill="hold">
                      <p:stCondLst>
                        <p:cond delay="indefinite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6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0" fill="hold">
                      <p:stCondLst>
                        <p:cond delay="indefinite"/>
                      </p:stCondLst>
                      <p:childTnLst>
                        <p:par>
                          <p:cTn id="1591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003640" y="4762440"/>
            <a:ext cx="1714680" cy="20955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6804000" y="4869000"/>
            <a:ext cx="2089080" cy="1584360"/>
          </a:xfrm>
          <a:prstGeom prst="wedgeEllipseCallout">
            <a:avLst>
              <a:gd name="adj1" fmla="val -80625"/>
              <a:gd name="adj2" fmla="val -33166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"/>
              </a:rPr>
              <a:t>Var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"/>
              </a:rPr>
              <a:t>Restituis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"/>
              </a:rPr>
              <a:t>le mie tre legioni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6720" y="121680"/>
            <a:ext cx="2589480" cy="220140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Le nuove province annesse all’imper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843280" y="1052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95640" y="295560"/>
            <a:ext cx="4753080" cy="1923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entury"/>
              </a:rPr>
              <a:t>Spagna Citeri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entury"/>
              </a:rPr>
              <a:t>Rezia</a:t>
            </a: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 (attuale Svizzer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entury"/>
              </a:rPr>
              <a:t>Pannonia </a:t>
            </a: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(attuali Austria orientale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Ungheria occidental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- Fu fondata la colonia di </a:t>
            </a:r>
            <a:r>
              <a:rPr b="1" lang="it-IT" sz="2000" spc="-1" strike="noStrike">
                <a:solidFill>
                  <a:srgbClr val="000000"/>
                </a:solidFill>
                <a:latin typeface="Century"/>
              </a:rPr>
              <a:t>Augu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entury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entury"/>
              </a:rPr>
              <a:t>Pretoria</a:t>
            </a: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 (l’attuale Aost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200" y="2708280"/>
            <a:ext cx="876816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Ma…</a:t>
            </a:r>
            <a:r>
              <a:rPr b="1" lang="it-IT" sz="2400" spc="-1" strike="noStrike">
                <a:solidFill>
                  <a:srgbClr val="000000"/>
                </a:solidFill>
                <a:latin typeface="Century"/>
              </a:rPr>
              <a:t>le popolazioni germaniche sottomesse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si ribellaron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2800" y="3429000"/>
            <a:ext cx="9143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I germani, comandati dal valoroso guerrriero Arminio, tesero un’imbosc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ai romani nella </a:t>
            </a:r>
            <a:r>
              <a:rPr b="1" lang="it-IT" sz="2000" spc="-1" strike="noStrike">
                <a:solidFill>
                  <a:srgbClr val="000000"/>
                </a:solidFill>
                <a:latin typeface="Century"/>
              </a:rPr>
              <a:t>foresta di Teutoburgo</a:t>
            </a: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 e li annientarono. Il luogoten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romano Quintilio Varo si uccise. L’esercito era stato sterminato, tre leg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distrutte. </a:t>
            </a:r>
            <a:r>
              <a:rPr b="1" lang="it-IT" sz="2000" spc="-1" strike="noStrike">
                <a:solidFill>
                  <a:srgbClr val="000000"/>
                </a:solidFill>
                <a:latin typeface="Century"/>
              </a:rPr>
              <a:t>Svetonio</a:t>
            </a: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 racconta c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Augusto, per giorni, si aggirò disperat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invocando Varo di restituirgli i suo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soldati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2" dur="indefinite" restart="never" nodeType="tmRoot">
          <p:childTnLst>
            <p:seq>
              <p:cTn id="1603" dur="indefinite" nodeType="mainSeq">
                <p:childTnLst>
                  <p:par>
                    <p:cTn id="1604" fill="hold">
                      <p:stCondLst>
                        <p:cond delay="indefinite"/>
                      </p:stCondLst>
                      <p:childTnLst>
                        <p:par>
                          <p:cTn id="1605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fill="hold">
                      <p:stCondLst>
                        <p:cond delay="indefinite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010160" y="549360"/>
            <a:ext cx="725364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Century"/>
              </a:rPr>
              <a:t>LA DOMANDA A CUI DOBBIAM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Century"/>
              </a:rPr>
              <a:t>CERCARE UNA RISPOSTA </a:t>
            </a:r>
            <a:r>
              <a:rPr b="0" lang="en-US" sz="3600" spc="-1" strike="noStrike">
                <a:solidFill>
                  <a:srgbClr val="000000"/>
                </a:solidFill>
                <a:latin typeface="Century"/>
              </a:rPr>
              <a:t>È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Century"/>
              </a:rPr>
              <a:t>COME AVVIENE IL PASSAGGI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"/>
              </a:rPr>
              <a:t>DALLA REPUBBLICA ALL’IMP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"/>
              </a:rPr>
              <a:t>E PERCHE?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780000" y="4292640"/>
            <a:ext cx="1244520" cy="18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56040" y="1696680"/>
            <a:ext cx="8192520" cy="3020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Con la sconfitta di Teutoburgo i territori conquista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al di là del Reno vennero perduti, e Augusto fu costre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a rinunciare al progetto di rendere la Germania u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Provincia roman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entury"/>
              </a:rPr>
              <a:t>IL CONFINE DELL’IMPERO ROMANO A OCCID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entury"/>
              </a:rPr>
              <a:t>FU FISSATO LUNGO I FIUMI RENO E IL DANUBI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1" dur="indefinite" restart="never" nodeType="tmRoot">
          <p:childTnLst>
            <p:seq>
              <p:cTn id="1642" dur="indefinite" nodeType="mainSeq">
                <p:childTnLst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7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9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2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3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4" dur="1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7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9" dur="1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2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4" dur="10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9" dur="5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2" dur="5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573440" cy="27748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5061600" y="1052640"/>
            <a:ext cx="30657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L’impero rom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durante la dittatu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di Giulio Ces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500720" y="3141720"/>
            <a:ext cx="4381200" cy="35622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754920" y="4437000"/>
            <a:ext cx="32133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L’impero roma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durante il principa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di Ottaviano Augu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3" dur="indefinite" restart="never" nodeType="tmRoot">
          <p:childTnLst>
            <p:seq>
              <p:cTn id="1674" dur="indefinite" nodeType="mainSeq">
                <p:childTnLst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5" fill="hold">
                      <p:stCondLst>
                        <p:cond delay="indefinite"/>
                      </p:stCondLst>
                      <p:childTnLst>
                        <p:par>
                          <p:cTn id="1686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852640" y="476280"/>
            <a:ext cx="3154320" cy="5814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LA </a:t>
            </a:r>
            <a:r>
              <a:rPr b="0" i="1" lang="en-US" sz="3200" spc="-1" strike="noStrike">
                <a:solidFill>
                  <a:srgbClr val="000000"/>
                </a:solidFill>
                <a:latin typeface="Century"/>
              </a:rPr>
              <a:t>PAX ROM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34440" y="2133720"/>
            <a:ext cx="8327880" cy="28371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"/>
              </a:rPr>
              <a:t>Nella mentalità dei romani la p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"/>
              </a:rPr>
              <a:t>veniva garantita solo dal domini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"/>
              </a:rPr>
              <a:t>mondiale di Roma. Le </a:t>
            </a:r>
            <a:r>
              <a:rPr b="1" lang="en-US" sz="3600" spc="-1" strike="noStrike">
                <a:solidFill>
                  <a:srgbClr val="000000"/>
                </a:solidFill>
                <a:latin typeface="Century"/>
              </a:rPr>
              <a:t>guerre</a:t>
            </a:r>
            <a:r>
              <a:rPr b="0" lang="en-US" sz="3600" spc="-1" strike="noStrike">
                <a:solidFill>
                  <a:srgbClr val="000000"/>
                </a:solidFill>
                <a:latin typeface="Century"/>
              </a:rPr>
              <a:t>, quindi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"/>
              </a:rPr>
              <a:t>Erano intese come </a:t>
            </a:r>
            <a:r>
              <a:rPr b="1" lang="en-US" sz="3600" spc="-1" strike="noStrike">
                <a:solidFill>
                  <a:srgbClr val="000000"/>
                </a:solidFill>
                <a:latin typeface="Century"/>
              </a:rPr>
              <a:t>l’unico strume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"/>
              </a:rPr>
              <a:t>in grado di assicurare la pace</a:t>
            </a:r>
            <a:r>
              <a:rPr b="0" lang="en-US" sz="3600" spc="-1" strike="noStrike">
                <a:solidFill>
                  <a:srgbClr val="000000"/>
                </a:solidFill>
                <a:latin typeface="Century"/>
              </a:rPr>
              <a:t>!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5" dur="indefinite" restart="never" nodeType="tmRoot">
          <p:childTnLst>
            <p:seq>
              <p:cTn id="1696" dur="indefinite" nodeType="mainSeq">
                <p:childTnLst>
                  <p:par>
                    <p:cTn id="1697" fill="hold">
                      <p:stCondLst>
                        <p:cond delay="indefinite"/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2" fill="hold">
                      <p:stCondLst>
                        <p:cond delay="indefinite"/>
                      </p:stCondLst>
                      <p:childTnLst>
                        <p:par>
                          <p:cTn id="1713" fill="hold">
                            <p:stCondLst>
                              <p:cond delay="0"/>
                            </p:stCondLst>
                            <p:childTnLst>
                              <p:par>
                                <p:cTn id="1714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7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1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71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389320" y="492120"/>
            <a:ext cx="29620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CONCLUSION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971640" y="3500280"/>
            <a:ext cx="1714320" cy="20671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3132000" y="1628640"/>
            <a:ext cx="5543640" cy="3095640"/>
          </a:xfrm>
          <a:prstGeom prst="wedgeRoundRectCallout">
            <a:avLst>
              <a:gd name="adj1" fmla="val -63976"/>
              <a:gd name="adj2" fmla="val 3723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“</a:t>
            </a: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AI POSTERI (cioè a voi…) L’ARDUA SENTENZA”: SONO O NON SONO UN VERIO </a:t>
            </a:r>
            <a:r>
              <a:rPr b="1" lang="it-IT" sz="2000" spc="-1" strike="noStrike">
                <a:solidFill>
                  <a:srgbClr val="000000"/>
                </a:solidFill>
                <a:latin typeface="Century"/>
              </a:rPr>
              <a:t>GENIO DELLA POLITICA</a:t>
            </a: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Augustus dat vobis gratia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entury"/>
              </a:rPr>
              <a:t>BONUM STUDIU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9" dur="indefinite" restart="never" nodeType="tmRoot">
          <p:childTnLst>
            <p:seq>
              <p:cTn id="1720" dur="indefinite" nodeType="mainSeq">
                <p:childTnLst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4" fill="hold">
                      <p:stCondLst>
                        <p:cond delay="indefinite"/>
                      </p:stCondLst>
                      <p:childTnLst>
                        <p:par>
                          <p:cTn id="1745" fill="hold">
                            <p:stCondLst>
                              <p:cond delay="0"/>
                            </p:stCondLst>
                            <p:childTnLst>
                              <p:par>
                                <p:cTn id="17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9640" y="1484280"/>
            <a:ext cx="8136000" cy="22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Ottaviano non vuole essere il monarca di tipo orientale, che viene adorato come divinità e che accentra attorno a sé tutta la vita politica, ma vuole apparire com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"/>
              </a:rPr>
              <a:t>il restauratore della pace e dell’ordine nel mondo romano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75920" y="476280"/>
            <a:ext cx="62218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GENIALIT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À POLITICA DI OTTAVI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40360" y="4005360"/>
            <a:ext cx="485640" cy="503280"/>
          </a:xfrm>
          <a:prstGeom prst="downArrow">
            <a:avLst>
              <a:gd name="adj1" fmla="val 50000"/>
              <a:gd name="adj2" fmla="val 2590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4581360"/>
            <a:ext cx="813600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Ottaviano sa che i romani vogliono essere dei cittadini e non dei sudditi! I romani sono molto attaccati ai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"/>
              </a:rPr>
              <a:t>valori repubblicani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 e dimostrano un atavico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"/>
              </a:rPr>
              <a:t>odio per il governo monarchico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" dur="250" autoRev="1" fill="hold"/>
                                        <p:tgtEl>
                                          <p:spTgt spid="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763640" y="2852640"/>
            <a:ext cx="4680000" cy="39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"/>
              </a:rPr>
              <a:t>IMPERATOR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   “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Comandante vittorio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dell’esercito”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Ottaviano è i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Comand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upremo 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tutto l’eserci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4400" y="260280"/>
            <a:ext cx="8610120" cy="2288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Ottaviano Augusto, però, riuscì a farsi conferire POTE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STRAORDINARI  e gli furono attribuiti, spontaneam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e secondo la consuetudine repubblicana, tutte le maggior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cariche dello sta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Negli anni del suo principato gli furono attribui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i seguenti TITOL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164360" y="56437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124000" y="3716280"/>
            <a:ext cx="16480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0920" y="260280"/>
            <a:ext cx="8353440" cy="612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Century"/>
              </a:rPr>
              <a:t>AUGUSTUS</a:t>
            </a: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: “degno di venerazione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   </a:t>
            </a: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divenne il </a:t>
            </a:r>
            <a:r>
              <a:rPr b="0" i="1" lang="it-IT" sz="2800" spc="-1" strike="noStrike">
                <a:solidFill>
                  <a:srgbClr val="000000"/>
                </a:solidFill>
                <a:latin typeface="Century"/>
              </a:rPr>
              <a:t>cognomen</a:t>
            </a: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 di Ottavian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   </a:t>
            </a: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il termine </a:t>
            </a:r>
            <a:r>
              <a:rPr b="0" i="1" lang="it-IT" sz="2800" spc="-1" strike="noStrike">
                <a:solidFill>
                  <a:srgbClr val="000000"/>
                </a:solidFill>
                <a:latin typeface="Century"/>
              </a:rPr>
              <a:t>augustus </a:t>
            </a: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in latino si riallaccia 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   </a:t>
            </a: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verbo </a:t>
            </a:r>
            <a:r>
              <a:rPr b="0" i="1" lang="it-IT" sz="2800" spc="-1" strike="noStrike">
                <a:solidFill>
                  <a:srgbClr val="000000"/>
                </a:solidFill>
                <a:latin typeface="Century"/>
              </a:rPr>
              <a:t>augere </a:t>
            </a: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(accressere) e ha valore s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   </a:t>
            </a: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politico che sacra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SUPERIORIT</a:t>
            </a: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À DI OTTAVIANO AUGUS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RISPETTO AGLI ALTRI UOMINI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Century"/>
              </a:rPr>
              <a:t>PRINCEPS SENATUS</a:t>
            </a: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  “</a:t>
            </a: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principe del Sena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   </a:t>
            </a: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il primo tra i senatori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  </a:t>
            </a: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Ottaviano aveva il diritto di vot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  </a:t>
            </a: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le proposte di legge per primo (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influe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  </a:t>
            </a: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sui senator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885080" y="260280"/>
            <a:ext cx="733320" cy="1028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516720" y="3284640"/>
            <a:ext cx="1714320" cy="2066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492360" y="5950080"/>
            <a:ext cx="486000" cy="715680"/>
          </a:xfrm>
          <a:prstGeom prst="downArrow">
            <a:avLst>
              <a:gd name="adj1" fmla="val 50000"/>
              <a:gd name="adj2" fmla="val 3681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68360" y="404640"/>
            <a:ext cx="7993080" cy="606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"/>
              </a:rPr>
              <a:t>CONSUL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: “console”; fu rieletto per diver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anni consecutivi. Nella Roma repubblic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ciò non sarebbe stato possibil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"/>
              </a:rPr>
              <a:t>DIVI FILIUS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: “figlio di un Dio”; Ottavian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era figlio adottivo di Giulio Cesare, il qua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era stato divinizzato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427640" y="4724280"/>
            <a:ext cx="1714320" cy="1838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443640" y="1268280"/>
            <a:ext cx="1523880" cy="23367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492360" y="5950080"/>
            <a:ext cx="486000" cy="715680"/>
          </a:xfrm>
          <a:prstGeom prst="downArrow">
            <a:avLst>
              <a:gd name="adj1" fmla="val 50000"/>
              <a:gd name="adj2" fmla="val 3681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900000" y="549360"/>
            <a:ext cx="7993080" cy="606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"/>
              </a:rPr>
              <a:t>CENSOR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: “censore”; Ottaviano Augusto ha il diritto di controllare il censo ed i costum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"/>
              </a:rPr>
              <a:t>PONTIFEX MAXIMUS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: “pontefice massimo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Ottaviano Augusto regola l’attività religio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948360" y="1413000"/>
            <a:ext cx="1714680" cy="2104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635280" y="4437000"/>
            <a:ext cx="149544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34040" y="549360"/>
            <a:ext cx="739224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Ne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"/>
              </a:rPr>
              <a:t>23 a.C.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 Augusto si fece conferire que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importantissimi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"/>
              </a:rPr>
              <a:t>poteri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entury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700000" y="1484280"/>
            <a:ext cx="1655640" cy="17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356000" y="1484280"/>
            <a:ext cx="158436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26920" y="3213000"/>
            <a:ext cx="257184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TRIBUNIC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OTES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84720" y="3213000"/>
            <a:ext cx="360036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IMPERIU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ROCONSUL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50920" y="422100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84720" y="422100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5157720"/>
            <a:ext cx="30243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Pieno control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dell’ordinamento cittadi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788000" y="5157720"/>
            <a:ext cx="30240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Pieno control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delle provi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4T10:38:47Z</dcterms:created>
  <dc:creator>Cristina</dc:creator>
  <dc:description/>
  <dc:language>en-US</dc:language>
  <cp:lastModifiedBy>Cristina</cp:lastModifiedBy>
  <dcterms:modified xsi:type="dcterms:W3CDTF">2005-05-24T21:03:00Z</dcterms:modified>
  <cp:revision>269</cp:revision>
  <dc:subject/>
  <dc:title>Diapositiva 1</dc:title>
</cp:coreProperties>
</file>