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9.png" ContentType="image/png"/>
  <Override PartName="/ppt/media/image16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22E-B5B9-4941-AE7E-26F92ABF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7CA-AF06-4C92-86C6-4DC3C77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E8C-F4E0-46F7-8AC3-4F3D7A74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8C8-5745-4669-BB23-2329C553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9BA-E052-4AB8-AC54-FFD53880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502-B034-4AA6-90A6-F5C2A9B6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CF8-D469-4D40-8FE4-3B731D1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15C-152C-40B5-A9F5-21775F4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BD7-3D66-4343-A472-0428594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3AB-A1FA-463E-99EC-1CA6B01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50C-A14F-4017-B7EB-63ADD06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6E5-B796-481D-A2DE-7007D66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82F-055E-4CA0-9CEF-C0170481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3480" y="264960"/>
            <a:ext cx="45057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IVERSITA’ DEGLI STUDI DI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SSIS VI CICLO CLASSE 51/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.a.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vento dida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080" y="5809320"/>
            <a:ext cx="3026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Corsist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ristina Mont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Tuto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rof.ssa G. Chis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1712880" cy="25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565360"/>
            <a:ext cx="3961080" cy="2727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A RE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 IMP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 AU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12680" y="1700280"/>
            <a:ext cx="7421400" cy="301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AUCTORITAS che circondava Augus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cioè quell’influenza che gli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universalmente riconosciu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Si aveva la sensazione formal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Ottaviano si muovesse nel sol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della tradi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9280" y="1413000"/>
            <a:ext cx="6674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iminuisce il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 NUMERO DEI SENA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 passa da 1000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1120" y="79200"/>
            <a:ext cx="55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’ORDINAMENTO DELLO S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COSTITUZIONE AUGUS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5160" y="3753000"/>
            <a:ext cx="7237440" cy="137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 diventare senatori occorreva posse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lmeno 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1 milione di sesterz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12207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9160" y="333360"/>
            <a:ext cx="847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ugusto vuole soddisfare 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 pace e ordine dei Romani…Eg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995640" y="1915560"/>
            <a:ext cx="1214640" cy="1944360"/>
          </a:xfrm>
          <a:custGeom>
            <a:avLst/>
            <a:gdLst>
              <a:gd name="textAreaLeft" fmla="*/ 0 w 1214640"/>
              <a:gd name="textAreaRight" fmla="*/ 1215000 w 121464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700280"/>
            <a:ext cx="381636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stituisc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NU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ORGANI DI GOVERN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li affida a funzionar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sua fiducia proven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l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LASSi DEI SENATORI E DEI CAVALIE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 I cavalieri percepivano u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stipend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grazie al quale potevano comprare latifondi e diventare senatori (scalata della gerarchia soc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720" y="1824120"/>
            <a:ext cx="387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lotta contr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orruzion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egli appa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8800" y="4056120"/>
            <a:ext cx="4165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decentra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le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mministrative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ac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e sue mani il poter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iberazione e di cont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1600" y="419040"/>
            <a:ext cx="4730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NUOVI ORGANI DELLO 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960" y="1268280"/>
            <a:ext cx="73220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URBIS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(prefetto urban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mministrava la città di Roma e i suoi immedi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ntorni (raggio di 100 mig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Garantiva l’ordine pub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sen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2720" y="3933720"/>
            <a:ext cx="79257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ANNONAE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ll’annon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Provvedeva all’approvvigionamento della città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lle distribuzioni gratuite di grano alla pl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competenze giurisdizionali sia civili che pe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7480" y="981000"/>
            <a:ext cx="7730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VIGILUM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i vigil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il capo della vigilanza notturna e dei “pompier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funzioni di poliz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Comandava 7 coorti, formate soprattutto da libe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86400" y="3213000"/>
            <a:ext cx="7844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efetto del pretori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 il comandante 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aeto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quartier gene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princi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sercitava le sue funzioni in un raggio di 100 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7000" y="404640"/>
            <a:ext cx="474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DIVISIONE 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98100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90792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773360"/>
            <a:ext cx="35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POP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del pop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o Senator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700280"/>
            <a:ext cx="410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CAES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imper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708280"/>
            <a:ext cx="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70828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188880"/>
            <a:ext cx="3240360" cy="1512360"/>
          </a:xfrm>
          <a:prstGeom prst="upArrowCallout">
            <a:avLst>
              <a:gd name="adj1" fmla="val 53569"/>
              <a:gd name="adj2" fmla="val 53565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affidate a senatori che venivano chiamati “proconsol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683800"/>
            <a:ext cx="4681440" cy="3799080"/>
          </a:xfrm>
          <a:prstGeom prst="upArrowCallout">
            <a:avLst>
              <a:gd name="adj1" fmla="val 30809"/>
              <a:gd name="adj2" fmla="val 30806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poste sotto il diretto controllo del principe. Erano province difficili da governare perché di con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o turbolente, e venivano affidate a funzionari di rango inferiore ai proconsoli. Tali funzionari dipendevano direttamente dal princ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82720" y="260280"/>
            <a:ext cx="3640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RTANZA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DI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400" y="1989000"/>
            <a:ext cx="8224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IBUT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riscossi nelle Provincie Imperialinon veni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versati nella casse dello stato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erar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come i trib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cossi nelle province senatorie, ma andavano a fi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a cassa personale del principe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fisc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rivelando co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he in queste province il principe si proponeva ai sud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me un monarca di tipo ori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200" y="486900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oltre l’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Egitto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veniva considerato come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oss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ersonale del princip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5300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2520" y="907920"/>
            <a:ext cx="6400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iudizi sulla natura giuridica del princip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1280" y="2275560"/>
            <a:ext cx="3888000" cy="2376360"/>
          </a:xfrm>
          <a:custGeom>
            <a:avLst/>
            <a:gdLst>
              <a:gd name="textAreaLeft" fmla="*/ 0 w 3888000"/>
              <a:gd name="textAreaRight" fmla="*/ 3888360 w 3888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160" y="2708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ITT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À-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8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3360" y="26370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MONARC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67800" y="465300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DIARCH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(Momm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0640"/>
            <a:ext cx="3960720" cy="1008000"/>
          </a:xfrm>
          <a:prstGeom prst="wedgeRectCallout">
            <a:avLst>
              <a:gd name="adj1" fmla="val 81865"/>
              <a:gd name="adj2" fmla="val 27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MIL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TRUT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duzione delle legion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a 50 a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iascuna legione, stanziata a dif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e frontiere era composta di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uom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rande attenzione per l’esercit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singoli soldati (importanza dell’appoggio dei milita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eclutamento volontario regolar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: i soldati potevan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arriera nell’esercito nell’esercito ( fino a 20 anni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ferma per la fanteria e 10 per la cvalle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pristino delle antiche pene mili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asferimento frequente degli ufficial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per ev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egami di potere troppo fo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40" y="981000"/>
            <a:ext cx="646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A RIFORMA EBBE SUCCESSO PERCH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strati meno agiati della po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 traevano un buon va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conom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provincial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ruolandosi acquistav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cittadinanza roma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veteran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, quando lasciavano l’eserc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ricevevano un appezzamento di terr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a col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66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3960720" cy="1295640"/>
          </a:xfrm>
          <a:prstGeom prst="wedgeRectCallout">
            <a:avLst>
              <a:gd name="adj1" fmla="val 81865"/>
              <a:gd name="adj2" fmla="val 1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TRAN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ERSO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8800" y="2454120"/>
            <a:ext cx="24955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29. a.C. si celebrò il TRIONFO di Ottav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7400" y="5084640"/>
            <a:ext cx="6372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NIZIA UNA NUOVA ER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765000"/>
            <a:ext cx="58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 creato l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’ERARIO MILITARE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ioè una cassa destinata a pagare i sold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gedati e a permettere loro di dare inizio a una nuova attività nella vita civile. Esso veniva rimpingu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l’1% sulle vend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sta a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 5% sui b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smessi in eredità, imposta a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lassi abbi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249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62800" y="1916280"/>
            <a:ext cx="258120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45960"/>
            <a:ext cx="676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 permanente faceva parte anche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ORPO SPECIALE DEI PRETORI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pretorian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no 9000 uomini selezionati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migliori giovani provenienti dal territorio ita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9 coorti di soldati volon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comandati 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rano incarica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teggere la persona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rpo speciale dei pretoriani (“co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pretoria”)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acque come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strumento di potere personale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0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8440" y="476280"/>
            <a:ext cx="85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Trasformazioni sociali consegu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lla riforma  amministrativa e mili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ordine equestr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ostituisce l’ossatura dell’eserc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finanza e dell’amministrazione del nuovo 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igliorano le condizioni de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iberti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he si arricchisc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 i commerci e con le terre confiscate ai proscri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l servizio militare rende più flessibile e facile il pass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fra le classi social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(anche un soldato di umili origini p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spirare a far parte dell’ordine equest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04640"/>
            <a:ext cx="3960720" cy="936720"/>
          </a:xfrm>
          <a:prstGeom prst="wedgeRectCallout">
            <a:avLst>
              <a:gd name="adj1" fmla="val 80703"/>
              <a:gd name="adj2" fmla="val -22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CONO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549360"/>
            <a:ext cx="3200400" cy="280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1679400"/>
            <a:ext cx="43578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politica economic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di Augusto 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liberist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. Egli non interv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direttamente nel commercio e ne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ffari. Ci fu quindi una rel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bertà in campo economico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favori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59640" y="522936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916520"/>
            <a:ext cx="1917720" cy="1941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66480" y="4076640"/>
            <a:ext cx="397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nquillità politica e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706320" cy="82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5880" y="5229360"/>
            <a:ext cx="2700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struzion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rete str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5950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0080" y="3860640"/>
            <a:ext cx="274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rganizzazion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 ef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sistema po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50800" y="260280"/>
            <a:ext cx="373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4120" y="5300640"/>
            <a:ext cx="5286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1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ureus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25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denarii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100 sester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148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080" y="1916280"/>
            <a:ext cx="853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introdusse un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oppio sistema di monetazion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gli si riservò il diritto di battere moneta d’oro e d’arg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sciando al senato quello di battere la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3213000"/>
            <a:ext cx="45025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Aure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’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Dena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moneta d’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Sestert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836640"/>
            <a:ext cx="66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ugusto intervenne soltanto nella politica monetaria. L’intervento fu reso necessario dalla costosissima nuova organizzazione dello s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3961080" cy="936720"/>
          </a:xfrm>
          <a:prstGeom prst="wedgeRectCallout">
            <a:avLst>
              <a:gd name="adj1" fmla="val 89560"/>
              <a:gd name="adj2" fmla="val 6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AMIL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3600" y="62064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06680" y="1498680"/>
            <a:ext cx="50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restaurare le antiche virt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combatte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cadenza dell’istituto famil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ugusto fece votare in senato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8480" y="3213000"/>
            <a:ext cx="2469600" cy="88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entury"/>
              </a:rPr>
              <a:t>LEGES IULIAE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18-9 a. 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280" y="4437000"/>
            <a:ext cx="865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Esse prevedev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l’obbligo, sia per gli uomini che per le donne tra i 25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60 anni, di sposarsi con persone nei rispettivi lim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 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premi in denaro per le famiglie più numer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forti limitazioni, nei testamenti e nelle eredità, per chi non aveva fig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6040" y="26028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promos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’introduzione di nuove pene pubb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contro l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dul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adulter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venivano mandati in esilio su un’is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veniva confiscata la metà del loro patrim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85080" y="692280"/>
            <a:ext cx="942840" cy="135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17920" y="5373720"/>
            <a:ext cx="585144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iu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figlia di Augusto e di Scribonia, nota per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suo comportamento licenzioso, all’età di 37 anni fu rele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dal padre su un’isola! Augusto fu costretto a 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questa decisione per dimostrare ai romani la sua coer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la sua serie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14284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989000"/>
            <a:ext cx="352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la moglie, il marito poteva ucc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olo l’amante e soltanto se apparteneva alle classi sociali più b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96640" y="4076640"/>
            <a:ext cx="357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il mar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l padre della donna pote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n alcuni casi uccider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24720" y="242100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04640"/>
            <a:ext cx="3960720" cy="1800360"/>
          </a:xfrm>
          <a:prstGeom prst="wedgeRectCallout">
            <a:avLst>
              <a:gd name="adj1" fmla="val 81462"/>
              <a:gd name="adj2" fmla="val 9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STE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GUERR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2200" y="2435400"/>
            <a:ext cx="4422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non aveva progett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spansione. Egli mise fin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3357720"/>
            <a:ext cx="50328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8000" y="328464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284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8520" y="3932640"/>
            <a:ext cx="158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fi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6480" y="4291200"/>
            <a:ext cx="1780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oli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5516640"/>
            <a:ext cx="882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 i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on potè fare a meno di impegnarsi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issioni d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uerra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controlla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zone di confine a risch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73520"/>
            <a:ext cx="8642520" cy="612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NUOVA ERA DELLA POLITICA ESTERA RO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90792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90792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360" y="1628640"/>
            <a:ext cx="2282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UE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700280"/>
            <a:ext cx="1971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T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Tra il 20 e il 9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il genera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Agripp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braccio destro di Augu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figli di Augus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Tiberio e Drus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consolidarono il dominio romano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pagn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al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zona delle Alp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e lotte si trasformarono in vere e prop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UERRE DI CONQUIST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Per trovare una soluzione ai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difficili rapporti con i Part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Augusto si impegnò in una complic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ZIONE DIPLOMATIC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 Si evitò, così, lo scontro arm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rmen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ntrò nella sfera di controllo dei romani, che acquisirono 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il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ui regni di Tracia, Asia Minore, Bosforo e Pon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03640" y="4762440"/>
            <a:ext cx="171468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04000" y="4869000"/>
            <a:ext cx="2089080" cy="1584360"/>
          </a:xfrm>
          <a:prstGeom prst="wedgeEllipseCallout">
            <a:avLst>
              <a:gd name="adj1" fmla="val -80625"/>
              <a:gd name="adj2" fmla="val -33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Va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Restituis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le mie tre legioni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720" y="121680"/>
            <a:ext cx="2589480" cy="2201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e nuove province annesse all’im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105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295560"/>
            <a:ext cx="47530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pagna Citer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Rez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attuale Svizz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annonia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(attuali Austria oriental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Ungheria occidenta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- Fu fondata la colonia di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retor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l’attuale Ao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00" y="2708280"/>
            <a:ext cx="8768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…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le popolazioni germaniche sottomess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si ribellaro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00" y="3429000"/>
            <a:ext cx="91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germani, comandati dal valoroso guerrriero Arminio, tesero un’imbos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romani nella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foresta di Teutoburg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e li annientarono. Il luogote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romano Quintilio Varo si uccise. L’esercito era stato sterminato, tre leg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strutte.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vetoni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racconta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ugusto, per giorni, si aggirò dispera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nvocando Varo di restituirgli i s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oldat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10160" y="549360"/>
            <a:ext cx="7253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LA DOMANDA A CUI DOBBIA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CERCARE UNA RISPOSTA 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È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E AVVIENE IL PASSAGG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DALLA REPUBBLICA ALL’IMP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 PERCH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44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6040" y="1696680"/>
            <a:ext cx="819252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n la sconfitta di Teutoburgo i territori conqui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l di là del Reno vennero perduti, e Augusto fu cost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 rinunciare al progetto di rendere la Germani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vincia ro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NFINE DELL’IMPERO ROMANO A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FU FISSATO LUNGO I FIUMI RENO E IL DANUB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73440" cy="277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61600" y="1052640"/>
            <a:ext cx="3065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la ditt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Giulio Ces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81200" cy="356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920" y="4437000"/>
            <a:ext cx="3213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il princip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Ottaviano Aug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52640" y="476280"/>
            <a:ext cx="31543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32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440" y="2133720"/>
            <a:ext cx="8327880" cy="283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Nella mentalità dei romani la 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veniva garantita solo dal domin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mondiale di Roma. L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guerr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quind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rano intese com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l’unico str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in grado di assicurare la pac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89320" y="492120"/>
            <a:ext cx="2962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CONCLU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1714320" cy="2067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32000" y="1628640"/>
            <a:ext cx="5543640" cy="3095640"/>
          </a:xfrm>
          <a:prstGeom prst="wedgeRoundRectCallout">
            <a:avLst>
              <a:gd name="adj1" fmla="val -63976"/>
              <a:gd name="adj2" fmla="val 37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POSTERI (cioè a voi…) L’ARDUA SENTENZA”: SONO O NON SONO UN VERIO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GENIO DELLA POLITIC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Augustus dat vobis grat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BONUM STUDI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484280"/>
            <a:ext cx="8136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non vuole essere il monarca di tipo orientale, che viene adorato come divinità e che accentra attorno a sé tutta la vita politica, ma vuole apparire com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restauratore della pace e dell’ordine nel mondo roma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5920" y="476280"/>
            <a:ext cx="622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GENIALI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À POLITICA DI OTTAV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0536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sa che i romani vogliono essere dei cittadini e non dei sudditi! I romani sono molto attaccati a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valori repubblican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e dimostrano un atavic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odio per il governo monarchico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3640" y="2852640"/>
            <a:ext cx="468000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MPERAT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 vittor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ll’esercito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è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uprem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utto l’eserc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00" y="260280"/>
            <a:ext cx="8610120" cy="228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ttaviano Augusto, però, riuscì a farsi conferire PO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STRAORDINARI  e gli furono attribuiti, spontane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secondo la consuetudine repubblicana, tutte le maggi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riche dello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gli anni del suo principato gli furono attribu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seguenti TIT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16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0280"/>
            <a:ext cx="8353440" cy="612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 “degno di venerazion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venne il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cognomen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di Ottavia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termine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ustus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 latino si riallaccia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verbo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ere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(accressere) e ha valore 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olitico che sac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UPERIORIT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À DI OTTAVIANO AUG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RISPETTO AGLI ALTRI UOMI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PRINCEPS SENA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“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rincipe del Sen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primo tra i senato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veva il diritto di vo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le proposte di legge per primo (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sui senat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3332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714320" cy="20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0464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ONSUL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onsole”; fu rieletto per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nni consecutivi. Nella Roma repubbl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iò non sarebbe stato possib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VI FILI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figlio di un Dio”; Ottavi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figlio adottivo di Giulio Cesare, il q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stato divinizzat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1714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523880" cy="233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54936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ENS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ensore”; Ottaviano Augusto ha il diritto di controllare il censo ed i costu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NTIFEX MAXIM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pontefice massimo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Augusto regola l’attività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714680" cy="21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4040" y="549360"/>
            <a:ext cx="7392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23 a.C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Augusto si fece conferire que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ortantissim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ter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1484280"/>
            <a:ext cx="1655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484280"/>
            <a:ext cx="1584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213000"/>
            <a:ext cx="2571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IBUNI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OT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3213000"/>
            <a:ext cx="360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E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CONSU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15772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’ordinamento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5157720"/>
            <a:ext cx="302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0:38:47Z</dcterms:created>
  <dc:creator>Cristina</dc:creator>
  <dc:description/>
  <dc:language>en-US</dc:language>
  <cp:lastModifiedBy>Cristina</cp:lastModifiedBy>
  <dcterms:modified xsi:type="dcterms:W3CDTF">2005-05-24T21:03:00Z</dcterms:modified>
  <cp:revision>269</cp:revision>
  <dc:subject/>
  <dc:title>Diapositiva 1</dc:title>
</cp:coreProperties>
</file>