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29.png" ContentType="image/png"/>
  <Override PartName="/ppt/media/image16.wmf" ContentType="image/x-wmf"/>
  <Override PartName="/ppt/media/image25.png" ContentType="image/png"/>
  <Override PartName="/ppt/media/image24.wmf" ContentType="image/x-wmf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32F-3E0F-4749-BD98-0CBAEB7F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023-0802-42AF-87CF-32C928C3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5DA-019A-4C14-B7A4-A713C192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3C3-C0A3-4993-83D8-2F5D9F24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4C9-49AC-4A9B-9FE4-42201061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153-BA71-4BE0-91EA-113F1F55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158-E373-4E1A-BFD5-971CD260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54C4-D369-43D3-BBA4-6DCD66AC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240-76E8-4E92-9D59-024BC01F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0BF-9E2D-4A69-8DDD-FF84228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23E-6491-4229-A2AC-33DC8CA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E2A-D4F2-4A9A-B243-541F699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53FC-6057-4E48-BA7D-09DC9615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93480" y="264960"/>
            <a:ext cx="45057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UNIVERSITA’ DEGLI STUDI DI CAT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SSIS VI CICLO CLASSE 51/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.a.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vento didat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88080" y="5809320"/>
            <a:ext cx="3026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Corsist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Cristina Mont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Tuto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: Prof.ssa G. Chis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1712880" cy="256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565360"/>
            <a:ext cx="3961080" cy="2727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A REPUB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 IMP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 AUGU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12680" y="1700280"/>
            <a:ext cx="7421400" cy="301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AUCTORITAS che circondava Augusto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cioè quell’influenza che gli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universalmente riconosciu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Si aveva la sensazione formale 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Ottaviano si muovesse nel sol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della tradi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59280" y="1413000"/>
            <a:ext cx="6674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iminuisce il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 NUMERO DEI SENAT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 passa da 1000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6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51120" y="79200"/>
            <a:ext cx="555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’ORDINAMENTO DELLO ST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COSTITUZIONE AUGUS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35160" y="3753000"/>
            <a:ext cx="7237440" cy="1373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er diventare senatori occorreva possed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lmeno </a:t>
            </a: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1 milione di sesterz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122076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2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9160" y="333360"/>
            <a:ext cx="84711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ugusto vuole soddisfare le aspet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 pace e ordine dei Romani…Eg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995640" y="1915560"/>
            <a:ext cx="1214640" cy="1944360"/>
          </a:xfrm>
          <a:custGeom>
            <a:avLst/>
            <a:gdLst>
              <a:gd name="textAreaLeft" fmla="*/ 0 w 1214640"/>
              <a:gd name="textAreaRight" fmla="*/ 1215000 w 121464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700280"/>
            <a:ext cx="3816360" cy="484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stituisc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NU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ORGANI DI GOVERN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li affida a funzionar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sua fiducia proveni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l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LASSi DEI SENATORI E DEI CAVALIE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 I cavalieri percepivano un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stipend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grazie al quale potevano comprare latifondi e diventare senatori (scalata della gerarchia socia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720" y="1824120"/>
            <a:ext cx="387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lotta contro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corruzion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egli appa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8800" y="4056120"/>
            <a:ext cx="4165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decentra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le fun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mministrative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ac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e sue mani il poter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iberazione e di cont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61600" y="419040"/>
            <a:ext cx="4730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NUOVI ORGANI DELLO 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48960" y="1268280"/>
            <a:ext cx="73220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URBIS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(prefetto urban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mministrava la città di Roma e i suoi immedi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ntorni (raggio di 100 migl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Garantiva l’ordine pubb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sen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72720" y="3933720"/>
            <a:ext cx="79257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ANNONAE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ll’annon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Provvedeva all’approvvigionamento della città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lle distribuzioni gratuite di grano alla pl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competenze giurisdizionali sia civili che pe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87480" y="981000"/>
            <a:ext cx="77306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"/>
              </a:rPr>
              <a:t>PREFECTUS VIGILUM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(prefetto dei vigil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Era il capo della vigilanza notturna e dei “pompier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Aveva funzioni di poliz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 Comandava 7 coorti, formate soprattutto da libe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86400" y="3213000"/>
            <a:ext cx="7844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efetto del pretorio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 il comandante 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aeto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quartier gene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princip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sercitava le sue funzioni in un raggio di 100 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a R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- Era di rango equ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7000" y="404640"/>
            <a:ext cx="474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DIVISIONE 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98100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84720" y="90792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773360"/>
            <a:ext cx="35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POP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del pop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o Senator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1700280"/>
            <a:ext cx="4105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OVINCIAE CAES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Provincie imperi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708280"/>
            <a:ext cx="0" cy="865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270828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188880"/>
            <a:ext cx="3240360" cy="1512360"/>
          </a:xfrm>
          <a:prstGeom prst="upArrowCallout">
            <a:avLst>
              <a:gd name="adj1" fmla="val 53569"/>
              <a:gd name="adj2" fmla="val 53565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affidate a senatori che venivano chiamati “proconsol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2683800"/>
            <a:ext cx="4681440" cy="3799080"/>
          </a:xfrm>
          <a:prstGeom prst="upArrowCallout">
            <a:avLst>
              <a:gd name="adj1" fmla="val 30809"/>
              <a:gd name="adj2" fmla="val 30806"/>
              <a:gd name="adj3" fmla="val 1666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Erano poste sotto il diretto controllo del principe. Erano province difficili da governare perché di con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o turbolente, e venivano affidate a funzionari di rango inferiore ai proconsoli. Tali funzionari dipendevano direttamente dal princ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82720" y="260280"/>
            <a:ext cx="36403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RTANZA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DI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400" y="1989000"/>
            <a:ext cx="82245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IBUT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riscossi nelle Provincie Imperialinon veni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versati nella casse dello stato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erar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come i trib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cossi nelle province senatorie, ma andavano a fi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nella cassa personale del principe (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fisc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), rivelando cos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he in queste province il principe si proponeva ai sud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me un monarca di tipo ori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200" y="486900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oltre l’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Egitto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veniva considerato come u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osse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personale del princip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80000" y="530064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2520" y="907920"/>
            <a:ext cx="6400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iudizi sulla natura giuridica del princip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11280" y="2275560"/>
            <a:ext cx="3888000" cy="2376360"/>
          </a:xfrm>
          <a:custGeom>
            <a:avLst/>
            <a:gdLst>
              <a:gd name="textAreaLeft" fmla="*/ 0 w 3888000"/>
              <a:gd name="textAreaRight" fmla="*/ 3888360 w 3888000"/>
              <a:gd name="textAreaTop" fmla="*/ -360 h 2376360"/>
              <a:gd name="textAreaBottom" fmla="*/ 2376360 h 237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160" y="27082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ITT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À-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85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33360" y="26370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MONARCH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67800" y="4653000"/>
            <a:ext cx="19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DIARCH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(Momm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620640"/>
            <a:ext cx="3960720" cy="1008000"/>
          </a:xfrm>
          <a:prstGeom prst="wedgeRectCallout">
            <a:avLst>
              <a:gd name="adj1" fmla="val 81865"/>
              <a:gd name="adj2" fmla="val 271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MILI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RISTRUTTU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duzione delle legion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da 50 a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iascuna legione, stanziata a dife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e frontiere era composta di 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uom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rande attenzione per l’esercit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singoli soldati (importanza dell’appoggio dei milita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eclutamento volontario regolar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: i soldati potevan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arriera nell’esercito nell’esercito ( fino a 20 anni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ferma per la fanteria e 10 per la cvaller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Ripristino delle antiche pene mili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Trasferimento frequente degli ufficial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per ev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egami di potere troppo for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40" y="981000"/>
            <a:ext cx="6465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LA RIFORMA EBBE SUCCESSO PERCH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strati meno agiati della popo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 traevano un buon vant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conom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provincial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ruolandosi acquistav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cittadinanza roma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i veteran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, quando lasciavano l’eserci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ricevevano un appezzamento di terr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a colo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667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20640"/>
            <a:ext cx="3960720" cy="1295640"/>
          </a:xfrm>
          <a:prstGeom prst="wedgeRectCallout">
            <a:avLst>
              <a:gd name="adj1" fmla="val 81865"/>
              <a:gd name="adj2" fmla="val 10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TRAN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VERSO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INCIP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8800" y="2454120"/>
            <a:ext cx="24955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29. a.C. si celebrò il TRIONFO di Ottav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7400" y="5084640"/>
            <a:ext cx="637272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NIZIA UNA NUOVA ER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765000"/>
            <a:ext cx="58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 creato l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’ERARIO MILITARE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ioè una cassa destinata a pagare i sold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gedati e a permettere loro di dare inizio a una nuova attività nella vita civile. Esso veniva rimpinguato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l’1% sulle vendi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sta al po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assa indiretta del 5% sui b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smessi in eredità, imposta al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lassi abbi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2496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62800" y="1916280"/>
            <a:ext cx="2581200" cy="3809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0200" y="70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345960"/>
            <a:ext cx="676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l’esercito permanente faceva parte anche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CORPO SPECIALE DEI PRETORI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pretoriani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erano 9000 uomini selezionati 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I migliori giovani provenienti dal territorio ital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9 coorti di soldati volontari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comandati 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efectus praetor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rano incaricat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teggere la persona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rpo speciale dei pretoriani (“co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pretoria”)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acque come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strumento di potere personale del princ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1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93080" y="404640"/>
            <a:ext cx="1571400" cy="10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8440" y="476280"/>
            <a:ext cx="85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Trasformazioni sociali consegu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lla riforma  amministrativa e milit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ordine equestr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ostituisce l’ossatura dell’eserc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a finanza e dell’amministrazione del nuovo 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igliorano le condizioni de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iberti,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che si arricchisc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 i commerci e con le terre confiscate ai proscri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l servizio militare rende più flessibile e facile il passagg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fra le classi sociali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(anche un soldato di umili origini p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spirare a far parte dell’ordine equest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55640" y="404640"/>
            <a:ext cx="3960720" cy="936720"/>
          </a:xfrm>
          <a:prstGeom prst="wedgeRectCallout">
            <a:avLst>
              <a:gd name="adj1" fmla="val 80703"/>
              <a:gd name="adj2" fmla="val -220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CONO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51640" y="549360"/>
            <a:ext cx="3200400" cy="2806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9280" y="1679400"/>
            <a:ext cx="43578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politica economic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di Augusto 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"/>
              </a:rPr>
              <a:t>liberista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. Egli non interv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direttamente nel commercio e neg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ffari. Ci fu quindi una rel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libertà in campo economico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favori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59640" y="5229360"/>
            <a:ext cx="1812960" cy="1338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51280" y="4916520"/>
            <a:ext cx="1917720" cy="1941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66480" y="4076640"/>
            <a:ext cx="3970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nquillità politica e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280" y="3933720"/>
            <a:ext cx="706320" cy="825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5880" y="5229360"/>
            <a:ext cx="2700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struzion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mpo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rete stra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16360" y="5950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0080" y="3860640"/>
            <a:ext cx="27424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rganizzazion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n ef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sistema pos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350800" y="260280"/>
            <a:ext cx="3736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riforma monet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1422360" cy="1422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4120" y="5300640"/>
            <a:ext cx="5286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1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aureus 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25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denarii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100 sester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4800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148360" y="5877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080" y="1916280"/>
            <a:ext cx="85399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introdusse un </a:t>
            </a: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doppio sistema di monetazione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gli si riservò il diritto di battere moneta d’oro e d’argen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sciando al senato quello di battere la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11280" y="3213000"/>
            <a:ext cx="450252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Aureu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’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Denarium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= moneta d’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"/>
              </a:rPr>
              <a:t>Sesterti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= moneta di 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714680" cy="1028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68360" y="836640"/>
            <a:ext cx="66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Augusto intervenne soltanto nella politica monetaria. L’intervento fu reso necessario dalla costosissima nuova organizzazione dello st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333360"/>
            <a:ext cx="3961080" cy="936720"/>
          </a:xfrm>
          <a:prstGeom prst="wedgeRectCallout">
            <a:avLst>
              <a:gd name="adj1" fmla="val 89560"/>
              <a:gd name="adj2" fmla="val 6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AMIL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43600" y="62064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06680" y="1498680"/>
            <a:ext cx="50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restaurare le antiche virt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mos maiorum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e combatter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decadenza dell’istituto famili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ugusto fece votare in senato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8480" y="3213000"/>
            <a:ext cx="2469600" cy="88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entury"/>
              </a:rPr>
              <a:t>LEGES IULIAE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(18-9 a. 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280" y="4437000"/>
            <a:ext cx="865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Esse prevedev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l’obbligo, sia per gli uomini che per le donne tra i 25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60 anni, di sposarsi con persone nei rispettivi lim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 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premi in denaro per le famiglie più numero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forti limitazioni, nei testamenti e nelle eredità, per chi non aveva fig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6040" y="26028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promos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l’introduzione di nuove pene pubb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contro l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adul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Gli adulteri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venivano mandati in esilio su un’is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veniva confiscata la metà del loro patrimo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885080" y="692280"/>
            <a:ext cx="942840" cy="1357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17920" y="5373720"/>
            <a:ext cx="585144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iu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figlia di Augusto e di Scribonia, nota per 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suo comportamento licenzioso, all’età di 37 anni fu releg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dal padre su un’isola! Augusto fu costretto a prend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questa decisione per dimostrare ai romani la sua coerenz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la sua serietà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1428480" cy="2857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989000"/>
            <a:ext cx="35290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la moglie, il marito poteva ucc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olo l’amante e soltanto se apparteneva alle classi sociali più ba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96640" y="4076640"/>
            <a:ext cx="35748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Se a tradire era il mari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l padre della donna potev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in alcuni casi ucciderl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24720" y="2421000"/>
            <a:ext cx="1428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04640"/>
            <a:ext cx="3960720" cy="1800360"/>
          </a:xfrm>
          <a:prstGeom prst="wedgeRectCallout">
            <a:avLst>
              <a:gd name="adj1" fmla="val 81462"/>
              <a:gd name="adj2" fmla="val 9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POLITICA ESTER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GUERRA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3200400" cy="2806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92200" y="2435400"/>
            <a:ext cx="4422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ugusto non aveva progetti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spansione. Egli mise fin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3357720"/>
            <a:ext cx="503280" cy="358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8000" y="328464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328464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8520" y="3932640"/>
            <a:ext cx="1582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nfi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6480" y="4291200"/>
            <a:ext cx="1780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oli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920" y="5516640"/>
            <a:ext cx="8820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 il </a:t>
            </a:r>
            <a:r>
              <a:rPr b="0" i="1" lang="it-IT" sz="2400" spc="-1" strike="noStrike">
                <a:solidFill>
                  <a:srgbClr val="000000"/>
                </a:solidFill>
                <a:latin typeface="Century"/>
              </a:rPr>
              <a:t>princeps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non potè fare a meno di impegnarsi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issioni di 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guerra 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er controlla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entury"/>
              </a:rPr>
              <a:t>zone di confine a rischio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280" y="173520"/>
            <a:ext cx="8642520" cy="612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A NUOVA ERA DELLA POLITICA ESTERA RO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907920"/>
            <a:ext cx="485640" cy="649440"/>
          </a:xfrm>
          <a:prstGeom prst="downArrow">
            <a:avLst>
              <a:gd name="adj1" fmla="val 50000"/>
              <a:gd name="adj2" fmla="val 3343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907920"/>
            <a:ext cx="485640" cy="648000"/>
          </a:xfrm>
          <a:prstGeom prst="downArrow">
            <a:avLst>
              <a:gd name="adj1" fmla="val 50000"/>
              <a:gd name="adj2" fmla="val 33358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8360" y="1628640"/>
            <a:ext cx="2282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UER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700280"/>
            <a:ext cx="1971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TRAT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N OR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564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Tra il 20 e il 9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il genera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Agripp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braccio destro di Augus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e 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figli di Augus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Century"/>
              </a:rPr>
              <a:t>Tiberio e Drus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consolidarono il dominio romano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pagn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all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 nella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zona delle Alp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e lotte si trasformarono in vere e prop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GUERRE DI CONQUIST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550960"/>
            <a:ext cx="3168720" cy="4155480"/>
          </a:xfrm>
          <a:prstGeom prst="upArrowCallout">
            <a:avLst>
              <a:gd name="adj1" fmla="val 25002"/>
              <a:gd name="adj2" fmla="val 25000"/>
              <a:gd name="adj3" fmla="val 21857"/>
              <a:gd name="adj4" fmla="val 6666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Per trovare una soluzione ai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difficili rapporti con i Parti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, Augusto si impegnò in una complic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ZIONE DIPLOMATIC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 Si evitò, così, lo scontro arm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L’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Armenia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 entrò nella sfera di controllo dei romani, che acquisirono anche </a:t>
            </a: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il contr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entury"/>
              </a:rPr>
              <a:t>sui regni di Tracia, Asia Minore, Bosforo e Ponto</a:t>
            </a:r>
            <a:r>
              <a:rPr b="0" lang="it-IT" sz="16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03640" y="4762440"/>
            <a:ext cx="1714680" cy="2095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04000" y="4869000"/>
            <a:ext cx="2089080" cy="1584360"/>
          </a:xfrm>
          <a:prstGeom prst="wedgeEllipseCallout">
            <a:avLst>
              <a:gd name="adj1" fmla="val -80625"/>
              <a:gd name="adj2" fmla="val -33166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Var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Restituis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le mie tre legioni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720" y="121680"/>
            <a:ext cx="2589480" cy="2201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e nuove province annesse all’im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105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95640" y="295560"/>
            <a:ext cx="47530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pagna Citer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Rez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attuale Svizz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annonia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(attuali Austria oriental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Ungheria occidenta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- Fu fondata la colonia di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Aug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Pretori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(l’attuale Aos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00" y="2708280"/>
            <a:ext cx="87681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Ma…</a:t>
            </a: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le popolazioni germaniche sottomesse</a:t>
            </a: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 si ribellaro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00" y="3429000"/>
            <a:ext cx="9143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 germani, comandati dal valoroso guerrriero Arminio, tesero un’imbos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romani nella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foresta di Teutoburg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e li annientarono. Il luogote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romano Quintilio Varo si uccise. L’esercito era stato sterminato, tre leg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distrutte.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Svetonio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racconta 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ugusto, per giorni, si aggirò dispera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invocando Varo di restituirgli i su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oldati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10160" y="549360"/>
            <a:ext cx="725364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LA DOMANDA A CUI DOBBIAM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entury"/>
              </a:rPr>
              <a:t>CERCARE UNA RISPOSTA 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È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ME AVVIENE IL PASSAGG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DALLA REPUBBLICA ALL’IMP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 PERCH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80000" y="4292640"/>
            <a:ext cx="124452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6040" y="1696680"/>
            <a:ext cx="8192520" cy="302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Con la sconfitta di Teutoburgo i territori conquis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l di là del Reno vennero perduti, e Augusto fu costr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a rinunciare al progetto di rendere la Germania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"/>
              </a:rPr>
              <a:t>Provincia roma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IL CONFINE DELL’IMPERO ROMANO A O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"/>
              </a:rPr>
              <a:t>FU FISSATO LUNGO I FIUMI RENO E IL DANUBI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73440" cy="2774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61600" y="1052640"/>
            <a:ext cx="3065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la ditt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Giulio Ces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81200" cy="3562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920" y="4437000"/>
            <a:ext cx="3213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’impero ro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ante il princip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i Ottaviano Aug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52640" y="476280"/>
            <a:ext cx="3154320" cy="581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A </a:t>
            </a:r>
            <a:r>
              <a:rPr b="0" i="1" lang="en-US" sz="3200" spc="-1" strike="noStrike">
                <a:solidFill>
                  <a:srgbClr val="000000"/>
                </a:solidFill>
                <a:latin typeface="Century"/>
              </a:rPr>
              <a:t>PAX RO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4440" y="2133720"/>
            <a:ext cx="8327880" cy="28371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Nella mentalità dei romani la 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veniva garantita solo dal domin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mondiale di Roma. L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guerr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, quind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Erano intese come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l’unico str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in grado di assicurare la pace</a:t>
            </a: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89320" y="492120"/>
            <a:ext cx="29620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CONCLUSI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3500280"/>
            <a:ext cx="1714320" cy="2067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32000" y="1628640"/>
            <a:ext cx="5543640" cy="3095640"/>
          </a:xfrm>
          <a:prstGeom prst="wedgeRoundRectCallout">
            <a:avLst>
              <a:gd name="adj1" fmla="val -63976"/>
              <a:gd name="adj2" fmla="val 37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AI POSTERI (cioè a voi…) L’ARDUA SENTENZA”: SONO O NON SONO UN VERIO </a:t>
            </a:r>
            <a:r>
              <a:rPr b="1" lang="it-IT" sz="2000" spc="-1" strike="noStrike">
                <a:solidFill>
                  <a:srgbClr val="000000"/>
                </a:solidFill>
                <a:latin typeface="Century"/>
              </a:rPr>
              <a:t>GENIO DELLA POLITICA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Augustus dat vobis grat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"/>
              </a:rPr>
              <a:t>BONUM STUDIU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484280"/>
            <a:ext cx="81360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non vuole essere il monarca di tipo orientale, che viene adorato come divinità e che accentra attorno a sé tutta la vita politica, ma vuole apparire com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l restauratore della pace e dell’ordine nel mondo roman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5920" y="476280"/>
            <a:ext cx="62218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GENIALI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À POLITICA DI OTTAV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400536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4581360"/>
            <a:ext cx="8136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sa che i romani vogliono essere dei cittadini e non dei sudditi! I romani sono molto attaccati a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valori repubblican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e dimostrano un atavic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odio per il governo monarchico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63640" y="2852640"/>
            <a:ext cx="4680000" cy="39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IMPERAT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 vittori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ll’esercito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è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an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upremo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utto l’eserc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400" y="260280"/>
            <a:ext cx="8610120" cy="2288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Ottaviano Augusto, però, riuscì a farsi conferire PO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STRAORDINARI  e gli furono attribuiti, spontane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e secondo la consuetudine repubblicana, tutte le maggi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riche dello st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Negli anni del suo principato gli furono attribu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i seguenti TITO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56437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1648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260280"/>
            <a:ext cx="8353440" cy="612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AUGUS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 “degno di venerazione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divenne il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cognomen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di Ottavian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termine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ustus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 latino si riallaccia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verbo </a:t>
            </a:r>
            <a:r>
              <a:rPr b="0" i="1" lang="it-IT" sz="2800" spc="-1" strike="noStrike">
                <a:solidFill>
                  <a:srgbClr val="000000"/>
                </a:solidFill>
                <a:latin typeface="Century"/>
              </a:rPr>
              <a:t>augere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(accressere) e ha valore 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olitico che sac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Century"/>
              </a:rPr>
              <a:t>SUPERIORIT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À DI OTTAVIANO AUG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RISPETTO AGLI ALTRI UOMI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entury"/>
              </a:rPr>
              <a:t>PRINCEPS SENATUS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“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principe del Sen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l primo tra i senator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Ottaviano aveva il diritto di vo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le proposte di legge per primo (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infl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entury"/>
              </a:rPr>
              <a:t>sui senato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73332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1714320" cy="20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40464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ONSUL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onsole”; fu rieletto per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anni consecutivi. Nella Roma repubblic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iò non sarebbe stato possibi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DIVI FILI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figlio di un Dio”; Ottavi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figlio adottivo di Giulio Cesare, il q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era stato divinizzat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27640" y="4724280"/>
            <a:ext cx="1714320" cy="1838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523880" cy="2336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492360" y="5950080"/>
            <a:ext cx="486000" cy="715680"/>
          </a:xfrm>
          <a:prstGeom prst="downArrow">
            <a:avLst>
              <a:gd name="adj1" fmla="val 50000"/>
              <a:gd name="adj2" fmla="val 368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549360"/>
            <a:ext cx="7993080" cy="606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CENSOR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censore”; Ottaviano Augusto ha il diritto di controllare il censo ed i costu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NTIFEX MAXIMUS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“pontefice massimo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ttaviano Augusto regola l’attività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714680" cy="21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35280" y="4437000"/>
            <a:ext cx="1495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34040" y="549360"/>
            <a:ext cx="73922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23 a.C.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Augusto si fece conferire que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ortantissim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entury"/>
              </a:rPr>
              <a:t>poteri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1484280"/>
            <a:ext cx="1655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484280"/>
            <a:ext cx="1584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213000"/>
            <a:ext cx="257184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RIBUNI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OT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3213000"/>
            <a:ext cx="36003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MPE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CONSU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42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5157720"/>
            <a:ext cx="3024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’ordinamento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5157720"/>
            <a:ext cx="302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ieno cont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elle prov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0:38:47Z</dcterms:created>
  <dc:creator>Cristina</dc:creator>
  <dc:description/>
  <dc:language>en-US</dc:language>
  <cp:lastModifiedBy>Cristina</cp:lastModifiedBy>
  <dcterms:modified xsi:type="dcterms:W3CDTF">2005-05-24T21:03:00Z</dcterms:modified>
  <cp:revision>269</cp:revision>
  <dc:subject/>
  <dc:title>Diapositiva 1</dc:title>
</cp:coreProperties>
</file>