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9.png" ContentType="image/png"/>
  <Override PartName="/ppt/media/image16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CE6-3EAA-4E95-8668-2DD45C5D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D4B-6A66-4668-8356-4600014D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AE5-2344-4176-A853-A95F4D2F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DEA-2D6A-494D-A1E1-5D96C9DE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793-99D5-4D15-8C70-1C7745F3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E03-691B-4747-ABA6-BF2A2F92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6A8-3259-404F-84AD-959635F2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57C-022E-4651-95BD-A54A6062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CC9-D155-491F-AD1C-9A791F9D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413-2FE5-4D3D-B608-E2AA8606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35A-DF16-4FD6-8F74-7F3723C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94B-FFFE-4056-84E5-2EE8077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83F2-5209-4768-8A7B-3332F3513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3480" y="264960"/>
            <a:ext cx="45057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UNIVERSITA’ DEGLI STUDI DI CA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SSIS VI CICLO CLASSE 51/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.a. 2004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ntervento didat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88080" y="5809320"/>
            <a:ext cx="3026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Corsist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Cristina Mont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Tuto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Prof.ssa G. Chis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1712880" cy="256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565360"/>
            <a:ext cx="3961080" cy="2727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RA REPUB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 IMP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L PRINCI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DI AUGU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12680" y="1700280"/>
            <a:ext cx="7421400" cy="301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AUCTORITAS che circondava Augus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cioè quell’influenza che gli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universalmente riconosciu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Si aveva la sensazione formale 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Ottaviano si muovesse nel sol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della tradi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59280" y="1413000"/>
            <a:ext cx="6674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iminuisce il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 NUMERO DEI SENA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i passa da 1000 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6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51120" y="79200"/>
            <a:ext cx="55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’ORDINAMENTO DELLO ST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COSTITUZIONE AUGUS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35160" y="3753000"/>
            <a:ext cx="7237440" cy="1373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er diventare senatori occorreva posse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almeno 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1 milione di sesterz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067280" y="5300640"/>
            <a:ext cx="122076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2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9160" y="333360"/>
            <a:ext cx="8471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Ottaviano Augusto vuole soddisfare le aspet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di pace e ordine dei Romani…Eg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995640" y="1915560"/>
            <a:ext cx="1214640" cy="1944360"/>
          </a:xfrm>
          <a:custGeom>
            <a:avLst/>
            <a:gdLst>
              <a:gd name="textAreaLeft" fmla="*/ 0 w 1214640"/>
              <a:gd name="textAreaRight" fmla="*/ 1215000 w 1214640"/>
              <a:gd name="textAreaTop" fmla="*/ -360 h 1944360"/>
              <a:gd name="textAreaBottom" fmla="*/ 1944360 h 1944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700280"/>
            <a:ext cx="3816360" cy="484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stituisc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NU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ORGANI DI GOVERN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 li affida a funzionar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sua fiducia proven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al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CLASSi DEI SENATORI E DEI CAVALIE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. I cavalieri percepivano un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stipend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grazie al quale potevano comprare latifondi e diventare senatori (scalata della gerarchia soci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4720" y="1824120"/>
            <a:ext cx="38703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lotta contro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corruzion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degli appa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8800" y="4056120"/>
            <a:ext cx="4165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decentra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le fu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mministrative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ac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nelle sue mani il poter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iberazione e di cont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61600" y="419040"/>
            <a:ext cx="4730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 NUOVI ORGANI DELLO S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8960" y="1268280"/>
            <a:ext cx="73220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URBIS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(prefetto urbano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mministrava la città di Roma e i suoi immedi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ntorni (raggio di 100 migl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Garantiva l’ordine pub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di rango sen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2720" y="3933720"/>
            <a:ext cx="79257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ANNONAE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(prefetto dell’annon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Provvedeva all’approvvigionamento della città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lle distribuzioni gratuite di grano alla ple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veva competenze giurisdizionali sia civili che pe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di rango equ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87480" y="981000"/>
            <a:ext cx="77306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VIGILUM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(prefetto dei vigili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il capo della vigilanza notturna e dei “pompier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veva funzioni di poliz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Comandava 7 coorti, formate soprattutto da libe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86400" y="3213000"/>
            <a:ext cx="78444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EFECTUS PRAETORIO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efetto del pretorio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ra il comandante de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aetorium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quartier gener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 princi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sercitava le sue funzioni in un raggio di 100 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a R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- Era di rango equ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7000" y="404640"/>
            <a:ext cx="474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DIVISIONE DELLE 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98100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90792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773360"/>
            <a:ext cx="3529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OVINCIAE POP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ovincie del popo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o Senator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1700280"/>
            <a:ext cx="410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OVINCIAE CAES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ovincie imperi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2708280"/>
            <a:ext cx="0" cy="86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70828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188880"/>
            <a:ext cx="3240360" cy="1512360"/>
          </a:xfrm>
          <a:prstGeom prst="upArrowCallout">
            <a:avLst>
              <a:gd name="adj1" fmla="val 53569"/>
              <a:gd name="adj2" fmla="val 53565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Erano affidate a senatori che venivano chiamati “proconsoli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683800"/>
            <a:ext cx="4681440" cy="3799080"/>
          </a:xfrm>
          <a:prstGeom prst="upArrowCallout">
            <a:avLst>
              <a:gd name="adj1" fmla="val 30809"/>
              <a:gd name="adj2" fmla="val 30806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Erano poste sotto il diretto controllo del principe. Erano province difficili da governare perché di con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o turbolente, e venivano affidate a funzionari di rango inferiore ai proconsoli. Tali funzionari dipendevano direttamente dal princi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82720" y="260280"/>
            <a:ext cx="36403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RTANZA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A DIV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E 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400" y="1989000"/>
            <a:ext cx="8224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TRIBUT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riscossi nelle Provincie Imperialinon veniv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versati nella casse dello stato (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aerari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), come i trib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riscossi nelle province senatorie, ma andavano a fin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nella cassa personale del principe (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fiscu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), rivelando co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he in queste province il principe si proponeva ai sud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ome un monarca di tipo orient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200" y="486900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oltre l’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Egitto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veniva considerato come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posse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personale del princip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80000" y="53006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2520" y="907920"/>
            <a:ext cx="6400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iudizi sulla natura giuridica del princip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11280" y="2275560"/>
            <a:ext cx="3888000" cy="2376360"/>
          </a:xfrm>
          <a:custGeom>
            <a:avLst/>
            <a:gdLst>
              <a:gd name="textAreaLeft" fmla="*/ 0 w 3888000"/>
              <a:gd name="textAreaRight" fmla="*/ 3888360 w 3888000"/>
              <a:gd name="textAreaTop" fmla="*/ -360 h 2376360"/>
              <a:gd name="textAreaBottom" fmla="*/ 2376360 h 2376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160" y="27082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CITT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À-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85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33360" y="26370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MONARC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67800" y="465300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DIARCH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(Momm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620640"/>
            <a:ext cx="3960720" cy="1008000"/>
          </a:xfrm>
          <a:prstGeom prst="wedgeRectCallout">
            <a:avLst>
              <a:gd name="adj1" fmla="val 81865"/>
              <a:gd name="adj2" fmla="val 271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RI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MILI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628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RISTRUTTU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’ESERC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iduzione delle legion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da 50 a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iascuna legione, stanziata a dif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e frontiere era composta di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uom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Grande attenzione per l’esercit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singoli soldati (importanza dell’appoggio dei militar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eclutamento volontario regolar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: i soldati potevan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arriera nell’esercito nell’esercito ( fino a 20 anni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ferma per la fanteria e 10 per la cvalle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ipristino delle antiche pene milita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Trasferimento frequente degli ufficial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per ev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legami di potere troppo fo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40" y="981000"/>
            <a:ext cx="646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LA RIFORMA EBBE SUCCESSO PERCH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gli strati meno agiati della pop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ne traevano un buon vant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conom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 provinciali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rruolandosi acquistav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cittadinanza roma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 veterani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, quando lasciavano l’eserci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ricevevano un appezzamento di terr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na col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667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20640"/>
            <a:ext cx="3960720" cy="1295640"/>
          </a:xfrm>
          <a:prstGeom prst="wedgeRectCallout">
            <a:avLst>
              <a:gd name="adj1" fmla="val 81865"/>
              <a:gd name="adj2" fmla="val 10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TRANS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ERSO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INCI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8800" y="2454120"/>
            <a:ext cx="24955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el 29. a.C. si celebrò il TRIONFO di Ottav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17400" y="5084640"/>
            <a:ext cx="6372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NIZIA UNA NUOVA ER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765000"/>
            <a:ext cx="58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Fu creato l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’ERARIO MILITARE,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ioè una cassa destinata a pagare i sold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gedati e a permettere loro di dare inizio a una nuova attività nella vita civile. Esso veniva rimpinguato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assa indiretta dell’1% sulle vendi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sta al pop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assa indiretta del 5% sui b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smessi in eredità, imposta a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lassi abbi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2496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62800" y="1916280"/>
            <a:ext cx="2581200" cy="3809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020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45960"/>
            <a:ext cx="6769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’esercito permanente faceva parte anche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CORPO SPECIALE DEI PRETORI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pretoriani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rano 9000 uomini selezionati 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migliori giovani provenienti dal territorio ita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9 coorti di soldati volonta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comandati d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efectus praetor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rano incaricate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roteggere la persona del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Il corpo speciale dei pretoriani (“co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pretoria”)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nacque come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strumento di potere personale del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1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571400" cy="1028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8440" y="476280"/>
            <a:ext cx="85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Trasformazioni sociali consegu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alla riforma  amministrativa e mili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ordine equestr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ostituisce l’ossatura dell’eserci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a finanza e dell’amministrazione del nuovo 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igliorano le condizioni de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liberti,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he si arricchisc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 i commerci e con le terre confiscate ai proscri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Il servizio militare rende più flessibile e facile il passagg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fra le classi sociali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(anche un soldato di umili origini p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spirare a far parte dell’ordine equest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404640"/>
            <a:ext cx="3960720" cy="936720"/>
          </a:xfrm>
          <a:prstGeom prst="wedgeRectCallout">
            <a:avLst>
              <a:gd name="adj1" fmla="val 80703"/>
              <a:gd name="adj2" fmla="val -22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 ECONO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549360"/>
            <a:ext cx="3200400" cy="2806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1679400"/>
            <a:ext cx="435780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"/>
              </a:rPr>
              <a:t>politica economica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di Augusto 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"/>
              </a:rPr>
              <a:t>liberista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. Egli non interv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direttamente nel commercio e ne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affari. Ci fu quindi una rel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libertà in campo economico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favori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59640" y="5229360"/>
            <a:ext cx="1812960" cy="1338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51280" y="4916520"/>
            <a:ext cx="1917720" cy="1941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66480" y="4076640"/>
            <a:ext cx="3970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nquillità politica e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706320" cy="825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5880" y="5229360"/>
            <a:ext cx="2700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struzion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rete stra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5950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0080" y="3860640"/>
            <a:ext cx="2742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rganizzazion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n ef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sistema pos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3200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50800" y="260280"/>
            <a:ext cx="3736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riforma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4120" y="5300640"/>
            <a:ext cx="5286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1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aureus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25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denarii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100 sestert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4800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14836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5080" y="1916280"/>
            <a:ext cx="8539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introdusse un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doppio sistema di monetazion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gli si riservò il diritto di battere moneta d’oro e d’argen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sciando al senato quello di battere la moneta di 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11280" y="3213000"/>
            <a:ext cx="45025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Aureu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 moneta d’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Denarium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= moneta d’arg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Sesterti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 moneta di 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443640" y="371628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68360" y="836640"/>
            <a:ext cx="66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Augusto intervenne soltanto nella politica monetaria. L’intervento fu reso necessario dalla costosissima nuova organizzazione dello s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333360"/>
            <a:ext cx="3961080" cy="936720"/>
          </a:xfrm>
          <a:prstGeom prst="wedgeRectCallout">
            <a:avLst>
              <a:gd name="adj1" fmla="val 89560"/>
              <a:gd name="adj2" fmla="val 6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AMILI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943600" y="62064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06680" y="1498680"/>
            <a:ext cx="50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er restaurare le antiche virt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mos maior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 combatte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cadenza dell’istituto famili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ugusto fece votare in senato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8480" y="3213000"/>
            <a:ext cx="2469600" cy="88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entury"/>
              </a:rPr>
              <a:t>LEGES IULIAE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18-9 a. 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280" y="4437000"/>
            <a:ext cx="865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Esse prevedev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l’obbligo, sia per gli uomini che per le donne tra i 25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 60 anni, di sposarsi con persone nei rispettivi lim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di e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premi in denaro per le famiglie più numero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forti limitazioni, nei testamenti e nelle eredità, per chi non aveva fig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6040" y="260280"/>
            <a:ext cx="855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promos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l’introduzione di nuove pene pubb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contro l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adult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Gli adulteri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venivano mandati in esilio su un’is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 veniva confiscata la metà del loro patrimo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885080" y="692280"/>
            <a:ext cx="942840" cy="135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17920" y="5373720"/>
            <a:ext cx="585144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Anche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iul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figlia di Augusto e di Scribonia, nota per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suo comportamento licenzioso, all’età di 37 anni fu releg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dal padre su un’isola! Augusto fu costretto a pr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questa decisione per dimostrare ai romani la sua coeren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e la sua serie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142848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63640" y="1989000"/>
            <a:ext cx="3529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e a tradire era la moglie, il marito poteva ucc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olo l’amante e soltanto se apparteneva alle classi sociali più b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96640" y="4076640"/>
            <a:ext cx="35748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e a tradire era il mari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il padre della donna potev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in alcuni casi uccider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524720" y="2421000"/>
            <a:ext cx="1428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04640"/>
            <a:ext cx="3960720" cy="1800360"/>
          </a:xfrm>
          <a:prstGeom prst="wedgeRectCallout">
            <a:avLst>
              <a:gd name="adj1" fmla="val 81462"/>
              <a:gd name="adj2" fmla="val 9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 ESTE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GUERRA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0" i="1" lang="en-US" sz="2800" spc="-1" strike="noStrike">
                <a:solidFill>
                  <a:srgbClr val="000000"/>
                </a:solidFill>
                <a:latin typeface="Century"/>
              </a:rPr>
              <a:t>PAX RO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92200" y="2435400"/>
            <a:ext cx="4422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non aveva progett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spansione. Egli mise fin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40000" y="3357720"/>
            <a:ext cx="50328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8000" y="3284640"/>
            <a:ext cx="6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328464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8520" y="3932640"/>
            <a:ext cx="1582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fi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6480" y="4291200"/>
            <a:ext cx="1780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err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oli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920" y="5516640"/>
            <a:ext cx="8820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a i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incep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non potè fare a meno di impegnarsi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issioni di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guerra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er controlla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zone di confine a risch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73520"/>
            <a:ext cx="8642520" cy="612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NUOVA ERA DELLA POLITICA ESTERA RO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907920"/>
            <a:ext cx="485640" cy="649440"/>
          </a:xfrm>
          <a:prstGeom prst="downArrow">
            <a:avLst>
              <a:gd name="adj1" fmla="val 50000"/>
              <a:gd name="adj2" fmla="val 3343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720" y="90792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8360" y="1628640"/>
            <a:ext cx="2282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UER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 O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700280"/>
            <a:ext cx="1971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T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 OR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2550960"/>
            <a:ext cx="3168720" cy="4155480"/>
          </a:xfrm>
          <a:prstGeom prst="upArrowCallout">
            <a:avLst>
              <a:gd name="adj1" fmla="val 25002"/>
              <a:gd name="adj2" fmla="val 25000"/>
              <a:gd name="adj3" fmla="val 2185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Tra il 20 e il 9 d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il general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Agripp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braccio destro di Augus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e 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figli di August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Tiberio e Drus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consolidarono il dominio romano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Spagn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all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 e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zona delle Alpi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Le lotte si trasformarono in vere e prop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UERRE DI CONQUIST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550960"/>
            <a:ext cx="3168720" cy="4155480"/>
          </a:xfrm>
          <a:prstGeom prst="upArrowCallout">
            <a:avLst>
              <a:gd name="adj1" fmla="val 25002"/>
              <a:gd name="adj2" fmla="val 25000"/>
              <a:gd name="adj3" fmla="val 2185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Per trovare una soluzione ai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difficili rapporti con i Parti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Augusto si impegnò in una complic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AZIONE DIPLOMATIC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 Si evitò, così, lo scontro arm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L’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Armen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 entrò nella sfera di controllo dei romani, che acquisirono anche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il cont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sui regni di Tracia, Asia Minore, Bosforo e Pont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003640" y="4762440"/>
            <a:ext cx="1714680" cy="209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04000" y="4869000"/>
            <a:ext cx="2089080" cy="1584360"/>
          </a:xfrm>
          <a:prstGeom prst="wedgeEllipseCallout">
            <a:avLst>
              <a:gd name="adj1" fmla="val -80625"/>
              <a:gd name="adj2" fmla="val -3316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Va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Restituis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le mie tre legioni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6720" y="121680"/>
            <a:ext cx="2589480" cy="2201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e nuove province annesse all’im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105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295560"/>
            <a:ext cx="47530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Spagna Citer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Rezi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(attuale Svizz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Pannonia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(attuali Austria oriental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Ungheria occidenta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- Fu fondata la colonia di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Au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Pretori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(l’attuale Ao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00" y="2708280"/>
            <a:ext cx="87681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a…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le popolazioni germaniche sottomess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si ribellaro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00" y="3429000"/>
            <a:ext cx="914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 germani, comandati dal valoroso guerrriero Arminio, tesero un’imbos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i romani nella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foresta di Teutoburgo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e li annientarono. Il luogote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romano Quintilio Varo si uccise. L’esercito era stato sterminato, tre leg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distrutte.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Svetonio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racconta 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ugusto, per giorni, si aggirò dispera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nvocando Varo di restituirgli i su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soldati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10160" y="549360"/>
            <a:ext cx="72536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entury"/>
              </a:rPr>
              <a:t>LA DOMANDA A CUI DOBBIA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entury"/>
              </a:rPr>
              <a:t>CERCARE UNA RISPOSTA 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È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OME AVVIENE IL PASSAGG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DALLA REPUBBLICA ALL’IMP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E PERCHE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124452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56040" y="1696680"/>
            <a:ext cx="819252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on la sconfitta di Teutoburgo i territori conquis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l di là del Reno vennero perduti, e Augusto fu cost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 rinunciare al progetto di rendere la Germania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rovincia rom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IL CONFINE DELL’IMPERO ROMANO A O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FU FISSATO LUNGO I FIUMI RENO E IL DANUBI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73440" cy="2774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61600" y="1052640"/>
            <a:ext cx="3065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imper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ante la ditt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 Giulio Ces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81200" cy="3562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920" y="4437000"/>
            <a:ext cx="3213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impero rom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ante il princip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 Ottaviano Aug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52640" y="476280"/>
            <a:ext cx="31543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0" i="1" lang="en-US" sz="3200" spc="-1" strike="noStrike">
                <a:solidFill>
                  <a:srgbClr val="000000"/>
                </a:solidFill>
                <a:latin typeface="Century"/>
              </a:rPr>
              <a:t>PAX RO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440" y="2133720"/>
            <a:ext cx="8327880" cy="283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Nella mentalità dei romani la 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veniva garantita solo dal domin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mondiale di Roma. Le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guerr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, quind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Erano intese come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l’unico stru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in grado di assicurare la pac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89320" y="492120"/>
            <a:ext cx="2962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CONCLUSIO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1714320" cy="2067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132000" y="1628640"/>
            <a:ext cx="5543640" cy="3095640"/>
          </a:xfrm>
          <a:prstGeom prst="wedgeRoundRectCallout">
            <a:avLst>
              <a:gd name="adj1" fmla="val -63976"/>
              <a:gd name="adj2" fmla="val 37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I POSTERI (cioè a voi…) L’ARDUA SENTENZA”: SONO O NON SONO UN VERIO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GENIO DELLA POLITIC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Augustus dat vobis grati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BONUM STUDI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484280"/>
            <a:ext cx="81360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non vuole essere il monarca di tipo orientale, che viene adorato come divinità e che accentra attorno a sé tutta la vita politica, ma vuole apparire com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l restauratore della pace e dell’ordine nel mondo roma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5920" y="476280"/>
            <a:ext cx="6221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GENIALIT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À POLITICA DI OTTAV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00536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581360"/>
            <a:ext cx="813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sa che i romani vogliono essere dei cittadini e non dei sudditi! I romani sono molto attaccati a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valori repubblican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e dimostrano un atavic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odio per il governo monarchico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63640" y="2852640"/>
            <a:ext cx="4680000" cy="39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MPERATOR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andante vittori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ll’esercito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è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upremo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utto l’eserc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400" y="260280"/>
            <a:ext cx="8610120" cy="228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ttaviano Augusto, però, riuscì a farsi conferire PO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STRAORDINARI  e gli furono attribuiti, spontane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 secondo la consuetudine repubblicana, tutte le maggi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ariche dello st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Negli anni del suo principato gli furono attribu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 seguenti TITO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1648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0280"/>
            <a:ext cx="8353440" cy="612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"/>
              </a:rPr>
              <a:t>AUGUSTUS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: “degno di venerazione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divenne il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cognomen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di Ottavia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l termine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augustus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n latino si riallaccia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verbo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augere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(accressere) e ha valore 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politico che sac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SUPERIORIT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À DI OTTAVIANO AUG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RISPETTO AGLI ALTRI UOMI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"/>
              </a:rPr>
              <a:t>PRINCEPS SENATUS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“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principe del Sen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l primo tra i senator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Ottaviano aveva il diritto di vot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le proposte di legge per primo (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sui senato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73332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1714320" cy="206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92360" y="5950080"/>
            <a:ext cx="486000" cy="715680"/>
          </a:xfrm>
          <a:prstGeom prst="downArrow">
            <a:avLst>
              <a:gd name="adj1" fmla="val 50000"/>
              <a:gd name="adj2" fmla="val 36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404640"/>
            <a:ext cx="7993080" cy="606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CONSUL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console”; fu rieletto per div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anni consecutivi. Nella Roma repubbl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iò non sarebbe stato possibi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DIVI FILIUS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figlio di un Dio”; Ottavi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ra figlio adottivo di Giulio Cesare, il qu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ra stato divinizzat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27640" y="4724280"/>
            <a:ext cx="1714320" cy="1838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523880" cy="233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92360" y="5950080"/>
            <a:ext cx="486000" cy="715680"/>
          </a:xfrm>
          <a:prstGeom prst="downArrow">
            <a:avLst>
              <a:gd name="adj1" fmla="val 50000"/>
              <a:gd name="adj2" fmla="val 36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0000" y="549360"/>
            <a:ext cx="7993080" cy="606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CENSOR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censore”; Ottaviano Augusto ha il diritto di controllare il censo ed i costu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PONTIFEX MAXIMUS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pontefice massimo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Augusto regola l’attività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1413000"/>
            <a:ext cx="1714680" cy="21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35280" y="4437000"/>
            <a:ext cx="14954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34040" y="549360"/>
            <a:ext cx="73922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23 a.C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Augusto si fece conferire que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mportantissim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poter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1484280"/>
            <a:ext cx="1655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484280"/>
            <a:ext cx="1584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3213000"/>
            <a:ext cx="2571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RIBUNI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OT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3213000"/>
            <a:ext cx="3600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MPER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OCONSU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42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42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5157720"/>
            <a:ext cx="3024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ieno cont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’ordinamento cittad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5157720"/>
            <a:ext cx="302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ieno cont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e provi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0:38:47Z</dcterms:created>
  <dc:creator>Cristina</dc:creator>
  <dc:description/>
  <dc:language>en-US</dc:language>
  <cp:lastModifiedBy>Cristina</cp:lastModifiedBy>
  <dcterms:modified xsi:type="dcterms:W3CDTF">2005-05-24T21:03:00Z</dcterms:modified>
  <cp:revision>269</cp:revision>
  <dc:subject/>
  <dc:title>Diapositiva 1</dc:title>
</cp:coreProperties>
</file>