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8CAD-F0A8-4F9F-876F-E3760E65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6CF1-3979-4FC1-8715-C794ED89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9C68-2A4A-48FB-8BF6-EB006EE67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BCA7-9409-4551-AAA5-3F0A2F0A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BE6D-B794-404B-A89E-E46FA970E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E1BA-65C3-4725-870A-7BF5E229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5D3F-D6BC-4862-ADB8-C971E72D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D5DC-FA10-4423-8D85-9CBC17BE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29AA-9E42-4DC8-9887-4B7278FA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7768-8EA3-4111-98F8-217E2D44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D81C-D376-4F9B-AB43-96647FF4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E499-C641-4762-A587-9D6D0553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8AEA-D64B-4177-91FE-FD62ACD2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1086-19EC-425D-B052-FD5259C0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E9A4-07A8-48FE-83B5-EF1F95BA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50B7-7942-4EA5-926D-9CBDA4BB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31E2-7A71-4F37-9964-E171C75F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D936-99C9-44A8-83A3-05B912F8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E308-7101-4B11-814C-C9B9EB1D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A120-EA73-485E-856F-9F5526D0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87C3-1C1C-4A6F-AD64-5AB6A90C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0F93-0071-4E99-9BCC-FC9429A7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5984-9D76-4748-A83F-13660C17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B48A-9C88-44D8-8817-1BD34E5C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96D9-5066-40B5-B560-96EB2ED143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18CC-BAE6-4606-BBCB-144D6315BC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eroplataforma TIC de Conectividad a INTERNE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STION 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BO-ANT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689880" y="442440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SES DEL PROYECT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. Definición del proble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ta de acceso de conectividad a INTERNET de comunidades en zona geográficamente aisl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. Alternativas de solu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ocomunicación digital basada en Aeroplataforma Globo-Anten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bjetivos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regar una solución mas económica con condiciones de calidad y diversidad de servicios a localidades y sectores con escasa fuente de conectiv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TAPAS PRINCIPAL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I. Diseño del Proyec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V. Evaluación Económ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. Construc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. Implemen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I. Prueba y Corrección de err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II. Ejecu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X. Control y segui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. Retroalimen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ANEJO DE RIESG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nológ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ta de compatibi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i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mentos de costos que repercutan en usuarios fi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bient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ubridad Publ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ESTRUCTURA DE EQUIPO DE TRABAJO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Gerente de Proyec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Jefe Area Finanz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Jefe Area Tecnolog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Jefe Area Leg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TROS ASPECTO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 Tecnolog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vel de Alfabetización digital bás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so a equipo por los ciudada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iciones climáticas de la zo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22:21:46Z</dcterms:created>
  <dc:creator>VICTOR MOLINA</dc:creator>
  <dc:description/>
  <dc:language>en-US</dc:language>
  <cp:lastModifiedBy>VICTOR MOLINA</cp:lastModifiedBy>
  <dcterms:modified xsi:type="dcterms:W3CDTF">2007-07-13T23:11:06Z</dcterms:modified>
  <cp:revision>2</cp:revision>
  <dc:subject/>
  <dc:title>Aeroplataforma TIC de Conectividad a INTERNET</dc:title>
</cp:coreProperties>
</file>