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77B-688C-4EFC-8974-5E34D837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FA3-6BC2-422C-BB03-36F64452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194-9548-4559-AFB4-D9D18516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1D5-EB3F-459B-9CD1-1D5876B8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D18B-1356-49D0-91A6-17BC55A7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EFB9-3B59-42FA-B325-3E02D658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B876-3353-4700-A976-04337473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41F2-2655-4B81-9397-36E450EB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D695-B489-4BB8-8445-7C8AADB0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1C0F-084D-4771-A4A5-F5F77151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63A2-87EC-421E-B67B-9C8EF747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48E-764A-49F8-815E-665DAF27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A3C1-37C1-4BA3-A7A3-22F84E7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B7A8-079B-4719-9621-FDE65A9D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3FD6-79F2-431A-8767-57E6EC81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272A-2EB2-4475-8513-78D069BC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0899-2558-417F-B40D-07457314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FE5-41E7-4903-AFB5-36555B54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003-D7A5-485B-A293-88C8A96A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083-08D8-46AF-8481-1958BFC3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A9B-7B60-42FE-9475-FA1B3E6F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BBD-3B81-42DA-82BB-0F7B55D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C12-CC7B-4C74-BE35-35EFA24D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966-3972-4E55-B0D6-19C2E934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B1A2-D530-43EF-AC94-51DB8FC04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665D-2B86-41FD-AE2D-EBCC0169A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eroplataforma TIC de Conectividad a INTERNE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STION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O-ANT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89880" y="44244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SES DEL PROYEC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Definición del proble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acceso de conectividad a INTERNET de comunidades en zona geográficamente aisl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Alternativas de sol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comunicación digital basada en Aeroplataforma Globo-Ante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egar una solución mas económica con condiciones de calidad y diversidad de servicios a localidades y sectores con escasa fuente de con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TAPAS PRINCIPA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Diseño del Proy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. Evaluación Econó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. Constru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. Imple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I. Prueba y Corrección de err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II. Ejec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X. Control y segu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. Retroali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NEJO DE RIESG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n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compati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mentos de costos que repercutan en usuarios fi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ien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ubridad Pu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STRUCTURA DE EQUIPO DE TRABAJ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erente de Proy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efe Area Finan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efe Area Tecnolo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efe Area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ROS ASPECT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 Tecn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vel de Alfabetización digital bá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o a equipo por los ciudad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ciones climáticas de la z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22:21:46Z</dcterms:created>
  <dc:creator>VICTOR MOLINA</dc:creator>
  <dc:description/>
  <dc:language>en-US</dc:language>
  <cp:lastModifiedBy>VICTOR MOLINA</cp:lastModifiedBy>
  <dcterms:modified xsi:type="dcterms:W3CDTF">2007-07-13T23:11:06Z</dcterms:modified>
  <cp:revision>2</cp:revision>
  <dc:subject/>
  <dc:title>Aeroplataforma TIC de Conectividad a INTERNET</dc:title>
</cp:coreProperties>
</file>