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368-9A08-447C-A588-71B2C807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2A2-8F50-42ED-86DF-CEEC26AF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C93-2325-45D3-85A1-E2BAF3D1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AC0-35F4-4C97-977E-24FC82C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7BF5-0254-406D-9588-A0D5102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8FA-C02F-4F3A-AC48-42F6C5EF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CCDA-AEC6-43BE-BA78-A08D07B3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5DFA-BDDA-406E-9387-75C7C0C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138-4988-4666-A74F-8B1288EF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192-FD69-4162-8E4F-DC4460A8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85B-49EE-44FE-8FA9-4531290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B2E-3337-4663-8A5D-7E2FDB1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F3CA-4B0B-4360-B2C7-DE90CBD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67F-AFC4-4D21-9291-2E41087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AAA8-9329-410B-80F4-970FED65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5675-A4C1-4BB5-A0F5-DBE6486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2D9E-A974-4599-B9D3-CA1332BC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92E-6134-4F55-95EA-1778A70C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7F1-ABFF-448D-BFF6-ED5CC88E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54E-FB85-4D61-A3E3-99EB0C4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FA1-F036-49CE-9CD2-591A0C28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9D9-D9CA-47F1-9320-40FD2D38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C2F-762C-43D9-8BBB-755CB90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C68-46F5-4B64-BC67-DB2341B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1A87-7725-4D89-85A1-F3A177F3D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20D6-BFAE-44ED-AE35-93DAD98AB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eroplataforma TIC de Conectividad a INTER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TION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O-AN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89880" y="44244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SES DEL PROYE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Definición del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acceso de conectividad a INTERNET de comunidades en zona geográficamente aisl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Alternativas de 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comunicación digital basada en Aeroplataforma Globo-Ant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egar una solución mas económica con condiciones de calidad y diversidad de servicios a localidades y sectores con escasa fuente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TAPAS PRINCIPA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Diseño del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. Evaluación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. Constr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. Imple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. Prueba y Corrección de err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II. Ejec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X. Control y segu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. Retroali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ANEJO DE RIESG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n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compati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mentos de costos que repercutan en usuarios fi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ubridad Pu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STRUCTURA DE EQUIPO DE TRABAJ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rente de Proy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Finanz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Tecn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e Area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ROS ASPECT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vel de Alfabetización digital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o a equipo por los ciudad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ciones climáticas de la z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22:21:46Z</dcterms:created>
  <dc:creator>VICTOR MOLINA</dc:creator>
  <dc:description/>
  <dc:language>en-US</dc:language>
  <cp:lastModifiedBy>VICTOR MOLINA</cp:lastModifiedBy>
  <dcterms:modified xsi:type="dcterms:W3CDTF">2007-07-13T23:11:06Z</dcterms:modified>
  <cp:revision>2</cp:revision>
  <dc:subject/>
  <dc:title>Aeroplataforma TIC de Conectividad a INTERNET</dc:title>
</cp:coreProperties>
</file>