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9DDF-B782-46F3-99D7-CB02A0A60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01AD-DD94-4C49-B4DF-3EB35BDF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ADB1-F5A3-4A83-8055-894835B57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568E-F41B-4FDE-A444-5246D3E4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F1F3-C3DF-4C22-A4EF-46F322E09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C9EF-036D-4462-A181-9E65C7F9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BE18-C71A-491E-9DCB-D2BB848B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B29A-DD7C-4135-A9F9-04D15B83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4F7F-9CB2-41CC-B7E3-68FEBC7E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CF87-97A9-4AA4-9A69-3C1B47D6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F787-52F8-42BE-B450-A2C8B85E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99B8-1EEE-4C21-88C4-79718457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C25B-D881-489B-9E23-3E8FC7CD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9664-A72C-447A-A543-8B5E2821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FE56-92D5-439A-8024-D7D1DBC1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3E55-A79D-4BAC-9767-DF163EDF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C0E6-5055-4EE9-A3DA-B8C0A1ACF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624E-17E6-4025-B1DA-F7151F64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2946-69BA-47D2-88FE-A3789CCC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E281-0A33-4CD9-8DAA-FEDBBC87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C02F-0930-4EF1-85BD-16CEEEB1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F678-2990-4990-B624-8B1471F2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8189-5447-4773-9061-9301E453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498B-09CD-4DD6-9867-63EA8BC2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3F59-78F5-43EC-A3F4-8934D0280F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B503-34C9-4D57-AC23-051733A9E6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eroplataforma TIC de Conectividad a INTERNE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STION 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BO-ANT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689880" y="442440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SES DEL PROYECT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. Definición del proble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ta de acceso de conectividad a INTERNET de comunidades en zona geográficamente aisl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. Alternativas de solu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ocomunicación digital basada en Aeroplataforma Globo-Anten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bjetivos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regar una solución mas económica con condiciones de calidad y diversidad de servicios a localidades y sectores con escasa fuente de conectiv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TAPAS PRINCIPAL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I. Diseño del Proyec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V. Evaluación Económ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. Construc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. Implemen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I. Prueba y Corrección de err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II. Ejecu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X. Control y segui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. Retroalimen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ANEJO DE RIESG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nológ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ta de compatibi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i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mentos de costos que repercutan en usuarios fi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bient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ubridad Publ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ESTRUCTURA DE EQUIPO DE TRABAJO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Gerente de Proyec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Jefe Area Finanz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Jefe Area Tecnolog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Jefe Area Leg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TROS ASPECTO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 Tecnolog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vel de Alfabetización digital bás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so a equipo por los ciudada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iciones climáticas de la zo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22:21:46Z</dcterms:created>
  <dc:creator>VICTOR MOLINA</dc:creator>
  <dc:description/>
  <dc:language>en-US</dc:language>
  <cp:lastModifiedBy>VICTOR MOLINA</cp:lastModifiedBy>
  <dcterms:modified xsi:type="dcterms:W3CDTF">2007-07-13T23:11:06Z</dcterms:modified>
  <cp:revision>2</cp:revision>
  <dc:subject/>
  <dc:title>Aeroplataforma TIC de Conectividad a INTERNET</dc:title>
</cp:coreProperties>
</file>