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828-EE42-4B7A-95E9-FED5D98D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F72-30E9-4C6F-85B6-A47F0A9E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063-F821-4FBB-976A-1F407E82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1E1-5917-48CE-8C28-2A7FED62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D00-B100-446F-9B6D-44901408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4CE-A9DF-4668-AD3F-6CCB9D11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49B-1775-44AB-9299-02995BBD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DBC-F0E1-4344-9AC2-720DC1A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2D5-D379-4FA4-8E59-5678C53D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F63-34CF-46E9-BAC9-AC423E4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088-1479-4E3A-9A3F-BD383DBB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9B9-5F8E-4156-AD84-44BDE6F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891E-AEC6-4548-8C6F-11F2C87E6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240" y="1197000"/>
            <a:ext cx="863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Nº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5049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0496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7:10:33Z</dcterms:created>
  <dc:creator>Facultad de Medicina</dc:creator>
  <dc:description/>
  <dc:language>en-US</dc:language>
  <cp:lastModifiedBy>Facultad de Medicina</cp:lastModifiedBy>
  <dcterms:modified xsi:type="dcterms:W3CDTF">2009-07-10T18:06:19Z</dcterms:modified>
  <cp:revision>2</cp:revision>
  <dc:subject/>
  <dc:title>Diapositiva 1</dc:title>
</cp:coreProperties>
</file>