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01A2-B650-4125-8409-C144290C0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4BBD-F558-41A0-93C6-F9C282CDD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0689-C724-4739-9172-F1CD38E50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B090-35EA-4576-B43C-FBB63EA53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7AF0-8345-43FD-BA66-6481E1D85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8885-7D42-4530-B8AB-97EB746B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DE77-CA44-4FFD-AD4D-FE7CE65E9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5C87-19B9-4961-83C7-B3660309A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0CCF-E516-46A5-BA2E-0B39F15EA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E356-C357-4481-A560-3F991C3A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4857-CFA0-43B4-ACD5-0F54A67A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FF1B-FC6A-4C4F-8515-363E1191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3C391-5C24-4C57-9317-8D4F96883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3240" y="1197000"/>
            <a:ext cx="8632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ESTACIÓN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Nº 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843280" y="2781360"/>
            <a:ext cx="350496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560" y="62028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ESTACIÓN Nº 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700360" y="2133720"/>
            <a:ext cx="350532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85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ESTACIÓN Nº 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843280" y="2492280"/>
            <a:ext cx="3504960" cy="32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ESTACIÓN Nº 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771640" y="2637000"/>
            <a:ext cx="350532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87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ESTACIÓN Nº 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771640" y="2565360"/>
            <a:ext cx="350532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17:10:33Z</dcterms:created>
  <dc:creator>Facultad de Medicina</dc:creator>
  <dc:description/>
  <dc:language>en-US</dc:language>
  <cp:lastModifiedBy>Facultad de Medicina</cp:lastModifiedBy>
  <dcterms:modified xsi:type="dcterms:W3CDTF">2009-07-10T18:06:19Z</dcterms:modified>
  <cp:revision>2</cp:revision>
  <dc:subject/>
  <dc:title>Diapositiva 1</dc:title>
</cp:coreProperties>
</file>