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F604-C489-4D94-A39B-84D696EC7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C5D3-6412-4761-87A4-0B4134713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E861-7FBE-4E92-85FB-4F4E3609B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A603-22BB-4B99-BCFD-47717BC40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506C-2CF6-43E6-9BC0-46C724D41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F64A-439F-469E-ADEC-AB81AC6A3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8D80-5E15-4D1A-90B8-34F035AAE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E011-3187-470A-B82A-F72BACA0D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540B-92D0-4696-BD3A-F75F3B615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D710-3DB3-4D91-8208-13D20B377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22B2-1779-43C5-B044-B0B9F6CC9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DFDD-5C9D-4184-ADDE-181497E4A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A5C81-646E-4553-872E-9CA3847E67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3240" y="1197000"/>
            <a:ext cx="8632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ESTACIÓN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 Nº 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843280" y="2781360"/>
            <a:ext cx="350496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0560" y="62028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ESTACIÓN Nº 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700360" y="2133720"/>
            <a:ext cx="350532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85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ESTACIÓN Nº 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843280" y="2492280"/>
            <a:ext cx="3504960" cy="32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ESTACIÓN Nº 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771640" y="2637000"/>
            <a:ext cx="350532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87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ESTACIÓN Nº 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771640" y="2565360"/>
            <a:ext cx="350532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0T17:10:33Z</dcterms:created>
  <dc:creator>Facultad de Medicina</dc:creator>
  <dc:description/>
  <dc:language>en-US</dc:language>
  <cp:lastModifiedBy>Facultad de Medicina</cp:lastModifiedBy>
  <dcterms:modified xsi:type="dcterms:W3CDTF">2009-07-10T18:06:19Z</dcterms:modified>
  <cp:revision>2</cp:revision>
  <dc:subject/>
  <dc:title>Diapositiva 1</dc:title>
</cp:coreProperties>
</file>