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AA3A-56E8-4C65-9A5E-2A006D2A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801-1F60-4C87-91B0-EF75CCEA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E429-BB4C-4747-BC6F-9F267885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6E7B-C988-478C-B14B-72AEC169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CD97-39DC-487F-8EC3-85E63047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DFF-E802-4F9F-91FE-48A8D00F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5C66-8A9A-4237-A342-F5F56142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30F-846A-4BE2-96E4-B750CD91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258-84C2-4AC5-BFE8-4816F260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602-0BDA-4CD3-B232-0C6CD8F6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B7C6-FF10-4842-979E-C1BF2852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6EAA-088C-4757-BE06-077A56E0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2014-59A3-423F-BB23-22F6B564B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240" y="1197000"/>
            <a:ext cx="863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STACIÓN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Nº 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5049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STACIÓN Nº 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00360" y="2133720"/>
            <a:ext cx="350532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5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STACIÓN Nº 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350496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STACIÓN Nº 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50532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STACIÓN Nº 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350532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7:10:33Z</dcterms:created>
  <dc:creator>Facultad de Medicina</dc:creator>
  <dc:description/>
  <dc:language>en-US</dc:language>
  <cp:lastModifiedBy>Facultad de Medicina</cp:lastModifiedBy>
  <dcterms:modified xsi:type="dcterms:W3CDTF">2009-07-10T18:06:19Z</dcterms:modified>
  <cp:revision>2</cp:revision>
  <dc:subject/>
  <dc:title>Diapositiva 1</dc:title>
</cp:coreProperties>
</file>