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57D-FBDC-4378-9E88-324678CF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D8D-1537-48BE-8F8F-765BAC3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18F-7FEB-40FB-A6D7-D3534273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1E1-1E04-428F-989B-20C96357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000-3667-4CAB-89D9-22AA4694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699-FAF0-458F-97AD-EFF2FBFA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913-5E4B-48F8-A2BA-346BB32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429-51FD-4A81-B4AD-E45D92E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03A-6FA5-4D5F-B869-F03AD06A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A24-B2D3-4A65-A538-75B370F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440-B7EC-4CF6-9F0D-D75EAB3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19B-0CDF-4994-A70E-CD03E78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280-D6BB-4703-9498-F6417A6E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7848720" cy="5832720"/>
          </a:xfrm>
          <a:custGeom>
            <a:avLst/>
            <a:gdLst>
              <a:gd name="textAreaLeft" fmla="*/ 1226160 w 7848720"/>
              <a:gd name="textAreaRight" fmla="*/ 6867720 w 7848720"/>
              <a:gd name="textAreaTop" fmla="*/ 1458000 h 5832720"/>
              <a:gd name="textAreaBottom" fmla="*/ 4374720 h 583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32:56Z</dcterms:created>
  <dc:creator>Facultad de Medicina</dc:creator>
  <dc:description/>
  <dc:language>en-US</dc:language>
  <cp:lastModifiedBy>Facultad de Medicina</cp:lastModifiedBy>
  <dcterms:modified xsi:type="dcterms:W3CDTF">2009-07-10T19:35:29Z</dcterms:modified>
  <cp:revision>1</cp:revision>
  <dc:subject/>
  <dc:title>Diapositiva 1</dc:title>
</cp:coreProperties>
</file>