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766-EADE-4A34-887C-39E85E4B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94A-84F2-4FE1-9952-DD667F83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A04-93FF-4834-B677-7B9CBF44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046-8FD7-453C-90CC-D8E4E32D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4FC-2A45-414D-BDF9-47F5E20A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1DC-FFBD-4595-A467-2D54B3E5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69B-31EA-4FEF-965D-3B0BE504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10D-405F-42E6-BEB5-C4DD5873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99F-F0A4-4C25-8669-DFCC6267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F9B-56A1-409C-9101-6E631DE7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921-F24A-4CE2-A403-6E97EBB4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D8E-A6C1-45EC-B4BA-0FD121A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EA1C-4F77-40AF-BFAC-8A295E708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20640"/>
            <a:ext cx="7848720" cy="5832720"/>
          </a:xfrm>
          <a:custGeom>
            <a:avLst/>
            <a:gdLst>
              <a:gd name="textAreaLeft" fmla="*/ 1226160 w 7848720"/>
              <a:gd name="textAreaRight" fmla="*/ 6867720 w 7848720"/>
              <a:gd name="textAreaTop" fmla="*/ 1458000 h 5832720"/>
              <a:gd name="textAreaBottom" fmla="*/ 4374720 h 583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9:32:56Z</dcterms:created>
  <dc:creator>Facultad de Medicina</dc:creator>
  <dc:description/>
  <dc:language>en-US</dc:language>
  <cp:lastModifiedBy>Facultad de Medicina</cp:lastModifiedBy>
  <dcterms:modified xsi:type="dcterms:W3CDTF">2009-07-10T19:35:29Z</dcterms:modified>
  <cp:revision>1</cp:revision>
  <dc:subject/>
  <dc:title>Diapositiva 1</dc:title>
</cp:coreProperties>
</file>