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3EA2-5FED-4732-91C4-16F478FDE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6DE0-01F8-4578-B756-0CE84B6E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89E6-AE87-4BF3-9E0F-52F851C6B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E7CD-184B-4512-BD00-DE1E4E5A7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1452-5731-447D-AA1A-B83BE946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2D38-AB14-432A-9ABE-C418CA63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6FE2-D581-4CA7-A3FD-CC8CF2C1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DE3B-9DF2-44D2-806C-3436A689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42DE-4FE2-497B-A60E-E57A9562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2E99-887E-49C2-8716-33948248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6FAA-0B0C-494C-AC52-58466C22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737C-DCD2-4054-B6AC-D9D49F9D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12B0-ACF8-47FC-845B-B746EFB5D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20640"/>
            <a:ext cx="7848720" cy="5832720"/>
          </a:xfrm>
          <a:custGeom>
            <a:avLst/>
            <a:gdLst>
              <a:gd name="textAreaLeft" fmla="*/ 1226160 w 7848720"/>
              <a:gd name="textAreaRight" fmla="*/ 6867720 w 7848720"/>
              <a:gd name="textAreaTop" fmla="*/ 1458000 h 5832720"/>
              <a:gd name="textAreaBottom" fmla="*/ 4374720 h 5832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19:32:56Z</dcterms:created>
  <dc:creator>Facultad de Medicina</dc:creator>
  <dc:description/>
  <dc:language>en-US</dc:language>
  <cp:lastModifiedBy>Facultad de Medicina</cp:lastModifiedBy>
  <dcterms:modified xsi:type="dcterms:W3CDTF">2009-07-10T19:35:29Z</dcterms:modified>
  <cp:revision>1</cp:revision>
  <dc:subject/>
  <dc:title>Diapositiva 1</dc:title>
</cp:coreProperties>
</file>