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148-4591-4EA2-97C2-7CBF6AE6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438-E64C-492F-A902-0606A460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03B-C860-4E3B-9163-F46EF945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675-6DE9-4A6E-980F-D46B3B0B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E8E-3B4B-42E7-B689-B51B1BDD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717-69FB-4ABE-9F4E-B5B33E09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B09-5872-4E6C-813B-C17A5B21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C08-F897-47B5-9EB0-B5C3D959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1F4A-352F-462D-9D68-12C41093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A4C-4FC7-4D3F-925B-338A261D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C2D-0275-4081-9F39-131B4281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450-D2B1-46F8-A63B-CFAA03C0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5E30-9B4B-4631-AB72-4D608CC55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20640"/>
            <a:ext cx="7848720" cy="5832720"/>
          </a:xfrm>
          <a:custGeom>
            <a:avLst/>
            <a:gdLst>
              <a:gd name="textAreaLeft" fmla="*/ 1226160 w 7848720"/>
              <a:gd name="textAreaRight" fmla="*/ 6867720 w 7848720"/>
              <a:gd name="textAreaTop" fmla="*/ 1458000 h 5832720"/>
              <a:gd name="textAreaBottom" fmla="*/ 4374720 h 583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9:32:56Z</dcterms:created>
  <dc:creator>Facultad de Medicina</dc:creator>
  <dc:description/>
  <dc:language>en-US</dc:language>
  <cp:lastModifiedBy>Facultad de Medicina</cp:lastModifiedBy>
  <dcterms:modified xsi:type="dcterms:W3CDTF">2009-07-10T19:35:29Z</dcterms:modified>
  <cp:revision>1</cp:revision>
  <dc:subject/>
  <dc:title>Diapositiva 1</dc:title>
</cp:coreProperties>
</file>