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70A-5D5F-41CF-A2C4-5154BA4B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EC4A-DAF3-4C57-995B-963A3E45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6D21-22D7-41BE-93CA-69CD8E08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3C48-6CA0-4766-A206-93669986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1F8C-CC14-46D5-ADCC-F2B92CC1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41DB-37CE-4FB8-B738-C1C4368B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0ADB-CC4A-4B86-88D1-64CF1C1B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E868-4AC3-47F6-82B3-5A661C38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FC55-4017-4FBD-8CAA-C426E44D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673E-41E8-43BC-9EBD-E78E5E0F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F633-5E42-420D-BB90-F6AE017F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2F82-B0AB-44A3-9987-8356501E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77DF-11C1-4ABB-A2C4-2485B8731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otic@med.uchile.cl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cielo.cl/scielo.php?script=sci_serial&amp;pid=1726-569X&amp;lng=es&amp;nrm=iso" TargetMode="External"/><Relationship Id="rId2" Type="http://schemas.openxmlformats.org/officeDocument/2006/relationships/hyperlink" Target="http://www.scielo.cl/scielo.php?script=sci_serial&amp;pid=1726-569X&amp;lng=es&amp;nrm=iso" TargetMode="External"/><Relationship Id="rId3" Type="http://schemas.openxmlformats.org/officeDocument/2006/relationships/hyperlink" Target="http://www.scielo.cl/scielo.php?script=sci_serial&amp;pid=1726-569X&amp;lng=es&amp;nrm=iso" TargetMode="External"/><Relationship Id="rId4" Type="http://schemas.openxmlformats.org/officeDocument/2006/relationships/hyperlink" Target="http://www.scielo.cl/scielo.php?script=sci_serial&amp;pid=0301-732X&amp;lng=es&amp;nrm=iso" TargetMode="External"/><Relationship Id="rId5" Type="http://schemas.openxmlformats.org/officeDocument/2006/relationships/hyperlink" Target="http://www.scielo.cl/scielo.php?script=sci_serial&amp;pid=0365-9402&amp;lng=es&amp;nrm=iso" TargetMode="External"/><Relationship Id="rId6" Type="http://schemas.openxmlformats.org/officeDocument/2006/relationships/hyperlink" Target="http://www.scielo.cl/scielo.php?script=sci_serial&amp;pid=0717-9553&amp;lng=es&amp;nrm=iso" TargetMode="External"/><Relationship Id="rId7" Type="http://schemas.openxmlformats.org/officeDocument/2006/relationships/hyperlink" Target="http://www.scielo.cl/scielo.php?script=sci_serial&amp;pid=0717-9502&amp;lng=es&amp;nrm=iso" TargetMode="External"/><Relationship Id="rId8" Type="http://schemas.openxmlformats.org/officeDocument/2006/relationships/hyperlink" Target="http://www.scielo.cl/scielo.php?script=sci_serial&amp;pid=0717-9502&amp;lng=es&amp;nrm=iso" TargetMode="External"/><Relationship Id="rId9" Type="http://schemas.openxmlformats.org/officeDocument/2006/relationships/hyperlink" Target="http://www.scielo.cl/scielo.php?script=sci_serial&amp;pid=0717-9502&amp;lng=es&amp;nrm=iso" TargetMode="External"/><Relationship Id="rId10" Type="http://schemas.openxmlformats.org/officeDocument/2006/relationships/hyperlink" Target="http://www.scielo.cl/scielo.php?script=sci_serial&amp;pid=0717-9502&amp;lng=es&amp;nrm=iso" TargetMode="External"/><Relationship Id="rId11" Type="http://schemas.openxmlformats.org/officeDocument/2006/relationships/hyperlink" Target="http://www.scielo.cl/scielo.php?script=sci_serial&amp;pid=0717-9502&amp;lng=es&amp;nrm=iso" TargetMode="External"/><Relationship Id="rId12" Type="http://schemas.openxmlformats.org/officeDocument/2006/relationships/hyperlink" Target="http://www.scielo.cl/scielo.php?script=sci_serial&amp;pid=0717-9502&amp;lng=es&amp;nrm=iso" TargetMode="External"/><Relationship Id="rId13" Type="http://schemas.openxmlformats.org/officeDocument/2006/relationships/hyperlink" Target="http://www.scielo.cl/scielo.php?script=sci_serial&amp;pid=0717-9502&amp;lng=es&amp;nrm=iso" TargetMode="External"/><Relationship Id="rId14" Type="http://schemas.openxmlformats.org/officeDocument/2006/relationships/hyperlink" Target="http://www.scielo.cl/scielo.php?script=sci_serial&amp;pid=0717-9502&amp;lng=es&amp;nrm=iso" TargetMode="External"/><Relationship Id="rId15" Type="http://schemas.openxmlformats.org/officeDocument/2006/relationships/hyperlink" Target="http://www.scielo.cl/scielo.php?script=sci_serial&amp;pid=0716-0720&amp;lng=es&amp;nrm=iso" TargetMode="External"/><Relationship Id="rId16" Type="http://schemas.openxmlformats.org/officeDocument/2006/relationships/hyperlink" Target="http://www.scielo.cl/scielo.php?script=sci_serial&amp;pid=0717-7712&amp;lng=es&amp;nrm=iso" TargetMode="External"/><Relationship Id="rId17" Type="http://schemas.openxmlformats.org/officeDocument/2006/relationships/hyperlink" Target="http://www.scielo.cl/scielo.php?script=sci_serial&amp;pid=0716-9868&amp;lng=es&amp;nrm=iso" TargetMode="External"/><Relationship Id="rId18" Type="http://schemas.openxmlformats.org/officeDocument/2006/relationships/hyperlink" Target="http://www.scielo.cl/scielo.php?script=sci_serial&amp;pid=0718-4026&amp;lng=es&amp;nrm=iso" TargetMode="External"/><Relationship Id="rId19" Type="http://schemas.openxmlformats.org/officeDocument/2006/relationships/hyperlink" Target="http://www.scielo.cl/scielo.php?script=sci_serial&amp;pid=0717-7348&amp;lng=es&amp;nrm=iso" TargetMode="External"/><Relationship Id="rId20" Type="http://schemas.openxmlformats.org/officeDocument/2006/relationships/hyperlink" Target="http://www.scielo.cl/scielo.php?script=sci_serial&amp;pid=0716-1018&amp;lng=es&amp;nrm=iso" TargetMode="External"/><Relationship Id="rId21" Type="http://schemas.openxmlformats.org/officeDocument/2006/relationships/hyperlink" Target="http://www.scielo.cl/scielo.php?script=sci_serial&amp;pid=0716-1018&amp;lng=es&amp;nrm=iso" TargetMode="External"/><Relationship Id="rId22" Type="http://schemas.openxmlformats.org/officeDocument/2006/relationships/hyperlink" Target="http://www.scielo.cl/scielo.php?script=sci_serial&amp;pid=0716-1018&amp;lng=es&amp;nrm=iso" TargetMode="External"/><Relationship Id="rId23" Type="http://schemas.openxmlformats.org/officeDocument/2006/relationships/hyperlink" Target="http://www.scielo.cl/scielo.php?script=sci_serial&amp;pid=0717-9227&amp;lng=es&amp;nrm=iso" TargetMode="External"/><Relationship Id="rId24" Type="http://schemas.openxmlformats.org/officeDocument/2006/relationships/hyperlink" Target="http://www.scielo.cl/scielo.php?script=sci_serial&amp;pid=0717-9227&amp;lng=es&amp;nrm=iso" TargetMode="External"/><Relationship Id="rId25" Type="http://schemas.openxmlformats.org/officeDocument/2006/relationships/hyperlink" Target="http://www.scielo.cl/scielo.php?script=sci_serial&amp;pid=0717-9227&amp;lng=es&amp;nrm=iso" TargetMode="External"/><Relationship Id="rId26" Type="http://schemas.openxmlformats.org/officeDocument/2006/relationships/hyperlink" Target="http://www.scielo.cl/scielo.php?script=sci_serial&amp;pid=0717-7518&amp;lng=es&amp;nrm=iso" TargetMode="External"/><Relationship Id="rId27" Type="http://schemas.openxmlformats.org/officeDocument/2006/relationships/hyperlink" Target="http://www.scielo.cl/scielo.php?script=sci_serial&amp;pid=0717-7526&amp;lng=es&amp;nrm=iso" TargetMode="External"/><Relationship Id="rId28" Type="http://schemas.openxmlformats.org/officeDocument/2006/relationships/hyperlink" Target="http://www.scielo.cl/scielo.php?script=sci_serial&amp;pid=0370-4106&amp;lng=es&amp;nrm=iso" TargetMode="External"/><Relationship Id="rId29" Type="http://schemas.openxmlformats.org/officeDocument/2006/relationships/hyperlink" Target="http://www.scielo.cl/scielo.php?script=sci_serial&amp;pid=0717-9308&amp;lng=es&amp;nrm=iso" TargetMode="External"/><Relationship Id="rId30" Type="http://schemas.openxmlformats.org/officeDocument/2006/relationships/hyperlink" Target="http://www.scielo.cl/scielo.php?script=sci_serial&amp;pid=0718-4816&amp;lng=es&amp;nrm=iso" TargetMode="External"/><Relationship Id="rId31" Type="http://schemas.openxmlformats.org/officeDocument/2006/relationships/hyperlink" Target="http://www.scielo.cl/scielo.php?script=sci_serial&amp;pid=0034-9887&amp;lng=es&amp;nrm=iso" TargetMode="External"/><Relationship Id="rId3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scielo.cl/scielo.php?script=sci_serial&amp;pid=0717-6996&amp;lng=es&amp;nrm=iso" TargetMode="External"/><Relationship Id="rId2" Type="http://schemas.openxmlformats.org/officeDocument/2006/relationships/hyperlink" Target="http://www.scielo.cl/scielo.php?script=sci_serial&amp;pid=0718-6894&amp;lng=es&amp;nrm=iso" TargetMode="External"/><Relationship Id="rId3" Type="http://schemas.openxmlformats.org/officeDocument/2006/relationships/hyperlink" Target="http://www.scielo.cl/scielo.php?script=sci_serial&amp;pid=0717-7356&amp;lng=es&amp;nrm=iso" TargetMode="External"/><Relationship Id="rId4" Type="http://schemas.openxmlformats.org/officeDocument/2006/relationships/hyperlink" Target="http://www.scielo.cl/scielo.php?script=sci_serial&amp;pid=0717-554X&amp;lng=es&amp;nrm=iso" TargetMode="External"/><Relationship Id="rId5" Type="http://schemas.openxmlformats.org/officeDocument/2006/relationships/hyperlink" Target="http://www.scielo.cl/scielo.php?script=sci_serial&amp;pid=0717-554X&amp;lng=es&amp;nrm=iso" TargetMode="External"/><Relationship Id="rId6" Type="http://schemas.openxmlformats.org/officeDocument/2006/relationships/hyperlink" Target="http://www.scielo.cl/scielo.php?script=sci_serial&amp;pid=0717-554X&amp;lng=es&amp;nrm=iso" TargetMode="External"/><Relationship Id="rId7" Type="http://schemas.openxmlformats.org/officeDocument/2006/relationships/hyperlink" Target="http://www.scielo.cl/scielo.php?script=sci_serial&amp;pid=0717-6821&amp;lng=es&amp;nrm=iso" TargetMode="External"/><Relationship Id="rId8" Type="http://schemas.openxmlformats.org/officeDocument/2006/relationships/hyperlink" Target="http://www.scielo.cl/scielo.php?script=sci_serial&amp;pid=0717-6821&amp;lng=es&amp;nrm=iso" TargetMode="External"/><Relationship Id="rId9" Type="http://schemas.openxmlformats.org/officeDocument/2006/relationships/hyperlink" Target="http://www.scielo.cl/scielo.php?script=sci_serial&amp;pid=0717-6821&amp;lng=es&amp;nrm=iso" TargetMode="External"/><Relationship Id="rId10" Type="http://schemas.openxmlformats.org/officeDocument/2006/relationships/hyperlink" Target="http://www.scielo.cl/scielo.php?script=sci_serial&amp;pid=0717-6821&amp;lng=es&amp;nrm=iso" TargetMode="External"/><Relationship Id="rId11" Type="http://schemas.openxmlformats.org/officeDocument/2006/relationships/hyperlink" Target="http://www.scielo.cl/scielo.php?script=sci_serial&amp;pid=0717-6821&amp;lng=es&amp;nrm=iso" TargetMode="External"/><Relationship Id="rId12" Type="http://schemas.openxmlformats.org/officeDocument/2006/relationships/hyperlink" Target="http://www.scielo.cl/scielo.php?script=sci_serial&amp;pid=0717-6821&amp;lng=es&amp;nrm=iso" TargetMode="External"/><Relationship Id="rId13" Type="http://schemas.openxmlformats.org/officeDocument/2006/relationships/hyperlink" Target="http://www.scielo.cl/scielo.php?script=sci_serial&amp;pid=0717-6821&amp;lng=es&amp;nrm=iso" TargetMode="External"/><Relationship Id="rId14" Type="http://schemas.openxmlformats.org/officeDocument/2006/relationships/hyperlink" Target="http://www.scielo.cl/scielo.php?script=sci_serial&amp;pid=0717-6821&amp;lng=es&amp;nrm=iso" TargetMode="External"/><Relationship Id="rId15" Type="http://schemas.openxmlformats.org/officeDocument/2006/relationships/hyperlink" Target="http://www.scielo.cl/scielo.php?script=sci_serial&amp;pid=0717-6821&amp;lng=es&amp;nrm=iso" TargetMode="External"/><Relationship Id="rId16" Type="http://schemas.openxmlformats.org/officeDocument/2006/relationships/hyperlink" Target="http://www.scielo.cl/scielo.php?script=sci_serial&amp;pid=0717-6821&amp;lng=es&amp;nrm=iso" TargetMode="External"/><Relationship Id="rId17" Type="http://schemas.openxmlformats.org/officeDocument/2006/relationships/hyperlink" Target="http://www.scielo.cl/scielo.php?script=sci_serial&amp;pid=0717-6821&amp;lng=es&amp;nrm=iso" TargetMode="External"/><Relationship Id="rId18" Type="http://schemas.openxmlformats.org/officeDocument/2006/relationships/hyperlink" Target="http://www.scielo.cl/scielo.php?script=sci_serial&amp;pid=0250-7161&amp;lng=es&amp;nrm=iso" TargetMode="External"/><Relationship Id="rId19" Type="http://schemas.openxmlformats.org/officeDocument/2006/relationships/hyperlink" Target="http://www.scielo.cl/scielo.php?script=sci_serial&amp;pid=0718-1043&amp;lng=es&amp;nrm=iso" TargetMode="External"/><Relationship Id="rId20" Type="http://schemas.openxmlformats.org/officeDocument/2006/relationships/hyperlink" Target="http://www.scielo.cl/scielo.php?script=sci_serial&amp;pid=0718-1043&amp;lng=es&amp;nrm=iso" TargetMode="External"/><Relationship Id="rId21" Type="http://schemas.openxmlformats.org/officeDocument/2006/relationships/hyperlink" Target="http://www.scielo.cl/scielo.php?script=sci_serial&amp;pid=0718-1043&amp;lng=es&amp;nrm=iso" TargetMode="External"/><Relationship Id="rId22" Type="http://schemas.openxmlformats.org/officeDocument/2006/relationships/hyperlink" Target="http://www.scielo.cl/scielo.php?script=sci_serial&amp;pid=0718-5200&amp;lng=es&amp;nrm=iso" TargetMode="External"/><Relationship Id="rId23" Type="http://schemas.openxmlformats.org/officeDocument/2006/relationships/hyperlink" Target="http://www.scielo.cl/scielo.php?script=sci_serial&amp;pid=0718-5286&amp;lng=es&amp;nrm=iso" TargetMode="External"/><Relationship Id="rId24" Type="http://schemas.openxmlformats.org/officeDocument/2006/relationships/hyperlink" Target="http://www.scielo.cl/scielo.php?script=sci_serial&amp;pid=0717-7194&amp;lng=es&amp;nrm=iso" TargetMode="External"/><Relationship Id="rId25" Type="http://schemas.openxmlformats.org/officeDocument/2006/relationships/hyperlink" Target="http://www.scielo.cl/scielo.php?script=sci_serial&amp;pid=0718-0012&amp;lng=es&amp;nrm=iso" TargetMode="External"/><Relationship Id="rId26" Type="http://schemas.openxmlformats.org/officeDocument/2006/relationships/hyperlink" Target="http://www.scielo.cl/scielo.php?script=sci_serial&amp;pid=0718-0012&amp;lng=es&amp;nrm=iso" TargetMode="External"/><Relationship Id="rId27" Type="http://schemas.openxmlformats.org/officeDocument/2006/relationships/hyperlink" Target="http://www.scielo.cl/scielo.php?script=sci_serial&amp;pid=0718-1876&amp;lng=es&amp;nrm=iso" TargetMode="External"/><Relationship Id="rId28" Type="http://schemas.openxmlformats.org/officeDocument/2006/relationships/hyperlink" Target="http://www.scielo.cl/scielo.php?script=sci_serial&amp;pid=0718-1876&amp;lng=es&amp;nrm=iso" TargetMode="External"/><Relationship Id="rId29" Type="http://schemas.openxmlformats.org/officeDocument/2006/relationships/hyperlink" Target="http://www.scielo.cl/scielo.php?script=sci_serial&amp;pid=0718-1876&amp;lng=es&amp;nrm=iso" TargetMode="External"/><Relationship Id="rId30" Type="http://schemas.openxmlformats.org/officeDocument/2006/relationships/hyperlink" Target="http://www.scielo.cl/scielo.php?script=sci_serial&amp;pid=0718-1876&amp;lng=es&amp;nrm=iso" TargetMode="External"/><Relationship Id="rId31" Type="http://schemas.openxmlformats.org/officeDocument/2006/relationships/hyperlink" Target="http://www.scielo.cl/scielo.php?script=sci_serial&amp;pid=0718-1876&amp;lng=es&amp;nrm=iso" TargetMode="External"/><Relationship Id="rId32" Type="http://schemas.openxmlformats.org/officeDocument/2006/relationships/hyperlink" Target="http://www.scielo.cl/scielo.php?script=sci_serial&amp;pid=0718-1876&amp;lng=es&amp;nrm=iso" TargetMode="External"/><Relationship Id="rId33" Type="http://schemas.openxmlformats.org/officeDocument/2006/relationships/hyperlink" Target="http://www.scielo.cl/scielo.php?script=sci_serial&amp;pid=0718-1876&amp;lng=es&amp;nrm=iso" TargetMode="External"/><Relationship Id="rId34" Type="http://schemas.openxmlformats.org/officeDocument/2006/relationships/hyperlink" Target="http://www.scielo.cl/scielo.php?script=sci_serial&amp;pid=0718-1876&amp;lng=es&amp;nrm=iso" TargetMode="External"/><Relationship Id="rId35" Type="http://schemas.openxmlformats.org/officeDocument/2006/relationships/hyperlink" Target="http://www.scielo.cl/scielo.php?script=sci_serial&amp;pid=0718-1876&amp;lng=es&amp;nrm=iso" TargetMode="External"/><Relationship Id="rId36" Type="http://schemas.openxmlformats.org/officeDocument/2006/relationships/hyperlink" Target="http://www.scielo.cl/scielo.php?script=sci_serial&amp;pid=0718-1876&amp;lng=es&amp;nrm=iso" TargetMode="External"/><Relationship Id="rId37" Type="http://schemas.openxmlformats.org/officeDocument/2006/relationships/hyperlink" Target="http://www.scielo.cl/scielo.php?script=sci_serial&amp;pid=0718-1876&amp;lng=es&amp;nrm=iso" TargetMode="External"/><Relationship Id="rId38" Type="http://schemas.openxmlformats.org/officeDocument/2006/relationships/hyperlink" Target="http://www.scielo.cl/scielo.php?script=sci_serial&amp;pid=0718-1876&amp;lng=es&amp;nrm=iso" TargetMode="External"/><Relationship Id="rId39" Type="http://schemas.openxmlformats.org/officeDocument/2006/relationships/hyperlink" Target="http://www.scielo.cl/scielo.php?script=sci_serial&amp;pid=0718-1876&amp;lng=es&amp;nrm=iso" TargetMode="External"/><Relationship Id="rId40" Type="http://schemas.openxmlformats.org/officeDocument/2006/relationships/hyperlink" Target="http://www.scielo.cl/scielo.php?script=sci_serial&amp;pid=0718-1876&amp;lng=es&amp;nrm=iso" TargetMode="External"/><Relationship Id="rId41" Type="http://schemas.openxmlformats.org/officeDocument/2006/relationships/hyperlink" Target="http://www.scielo.cl/scielo.php?script=sci_serial&amp;pid=0718-1876&amp;lng=es&amp;nrm=iso" TargetMode="External"/><Relationship Id="rId42" Type="http://schemas.openxmlformats.org/officeDocument/2006/relationships/hyperlink" Target="http://www.scielo.cl/scielo.php?script=sci_serial&amp;pid=0718-1876&amp;lng=es&amp;nrm=iso" TargetMode="External"/><Relationship Id="rId43" Type="http://schemas.openxmlformats.org/officeDocument/2006/relationships/hyperlink" Target="http://www.scielo.cl/scielo.php?script=sci_serial&amp;pid=0718-2244&amp;lng=es&amp;nrm=iso" TargetMode="External"/><Relationship Id="rId44" Type="http://schemas.openxmlformats.org/officeDocument/2006/relationships/hyperlink" Target="http://www.scielo.cl/scielo.php?script=sci_serial&amp;pid=0718-2244&amp;lng=es&amp;nrm=iso" TargetMode="External"/><Relationship Id="rId45" Type="http://schemas.openxmlformats.org/officeDocument/2006/relationships/hyperlink" Target="http://www.scielo.cl/scielo.php?script=sci_serial&amp;pid=0718-6568&amp;lng=es&amp;nrm=iso" TargetMode="External"/><Relationship Id="rId46" Type="http://schemas.openxmlformats.org/officeDocument/2006/relationships/hyperlink" Target="http://www.scielo.cl/scielo.php?script=sci_serial&amp;pid=0718-2228&amp;lng=es&amp;nrm=iso" TargetMode="External"/><Relationship Id="rId47" Type="http://schemas.openxmlformats.org/officeDocument/2006/relationships/hyperlink" Target="http://www.scielo.cl/scielo.php?script=sci_serial&amp;pid=0718-2228&amp;lng=es&amp;nrm=iso" TargetMode="External"/><Relationship Id="rId48" Type="http://schemas.openxmlformats.org/officeDocument/2006/relationships/hyperlink" Target="http://www.scielo.cl/scielo.php?script=sci_serial&amp;pid=0718-2228&amp;lng=es&amp;nrm=iso" TargetMode="External"/><Relationship Id="rId49" Type="http://schemas.openxmlformats.org/officeDocument/2006/relationships/hyperlink" Target="http://www.scielo.cl/scielo.php?script=sci_serial&amp;pid=0718-8072&amp;lng=es&amp;nrm=iso" TargetMode="External"/><Relationship Id="rId50" Type="http://schemas.openxmlformats.org/officeDocument/2006/relationships/hyperlink" Target="http://www.scielo.cl/scielo.php?script=sci_serial&amp;pid=0718-3437&amp;lng=es&amp;nrm=iso" TargetMode="External"/><Relationship Id="rId51" Type="http://schemas.openxmlformats.org/officeDocument/2006/relationships/hyperlink" Target="http://www.scielo.cl/scielo.php?script=sci_serial&amp;pid=0718-090X&amp;lng=es&amp;nrm=iso" TargetMode="External"/><Relationship Id="rId52" Type="http://schemas.openxmlformats.org/officeDocument/2006/relationships/hyperlink" Target="http://www.scielo.cl/scielo.php?script=sci_serial&amp;pid=0718-0950&amp;lng=es&amp;nrm=iso" TargetMode="External"/><Relationship Id="rId53" Type="http://schemas.openxmlformats.org/officeDocument/2006/relationships/hyperlink" Target="http://www.scielo.cl/scielo.php?script=sci_serial&amp;pid=0718-6851&amp;lng=es&amp;nrm=iso" TargetMode="External"/><Relationship Id="rId54" Type="http://schemas.openxmlformats.org/officeDocument/2006/relationships/hyperlink" Target="http://www.scielo.cl/scielo.php?script=sci_serial&amp;pid=0716-5455&amp;lng=es&amp;nrm=iso" TargetMode="External"/><Relationship Id="rId55" Type="http://schemas.openxmlformats.org/officeDocument/2006/relationships/hyperlink" Target="http://www.scielo.cl/scielo.php?script=sci_serial&amp;pid=0718-3402&amp;lng=es&amp;nrm=iso" TargetMode="External"/><Relationship Id="rId56" Type="http://schemas.openxmlformats.org/officeDocument/2006/relationships/hyperlink" Target="http://www.scielo.cl/scielo.php?script=sci_serial&amp;pid=0718-4808&amp;lng=es&amp;nrm=iso" TargetMode="External"/><Relationship Id="rId57" Type="http://schemas.openxmlformats.org/officeDocument/2006/relationships/hyperlink" Target="http://www.scielo.cl/scielo.php?script=sci_serial&amp;pid=0718-2236&amp;lng=es&amp;nrm=iso" TargetMode="External"/><Relationship Id="rId58" Type="http://schemas.openxmlformats.org/officeDocument/2006/relationships/hyperlink" Target="http://www.scielo.cl/scielo.php?script=sci_serial&amp;pid=0718-2376&amp;lng=es&amp;nrm=iso" TargetMode="External"/><Relationship Id="rId59" Type="http://schemas.openxmlformats.org/officeDocument/2006/relationships/hyperlink" Target="http://www.scielo.cl/scielo.php?script=sci_serial&amp;pid=0718-2376&amp;lng=es&amp;nrm=iso" TargetMode="External"/><Relationship Id="rId60" Type="http://schemas.openxmlformats.org/officeDocument/2006/relationships/hyperlink" Target="http://www.scielo.cl/scielo.php?script=sci_serial&amp;pid=0718-2376&amp;lng=es&amp;nrm=iso" TargetMode="External"/><Relationship Id="rId6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scielo.cl/scielo.php?script=sci_serial&amp;pid=0717-6848&amp;lng=es&amp;nrm=iso" TargetMode="External"/><Relationship Id="rId2" Type="http://schemas.openxmlformats.org/officeDocument/2006/relationships/hyperlink" Target="http://www.scielo.cl/scielo.php?script=sci_serial&amp;pid=0718-7181&amp;lng=es&amp;nrm=iso" TargetMode="External"/><Relationship Id="rId3" Type="http://schemas.openxmlformats.org/officeDocument/2006/relationships/hyperlink" Target="http://www.scielo.cl/scielo.php?script=sci_serial&amp;pid=0718-7181&amp;lng=es&amp;nrm=iso" TargetMode="External"/><Relationship Id="rId4" Type="http://schemas.openxmlformats.org/officeDocument/2006/relationships/hyperlink" Target="http://www.scielo.cl/scielo.php?script=sci_serial&amp;pid=0718-2201&amp;lng=es&amp;nrm=iso" TargetMode="External"/><Relationship Id="rId5" Type="http://schemas.openxmlformats.org/officeDocument/2006/relationships/hyperlink" Target="http://www.scielo.cl/scielo.php?script=sci_serial&amp;pid=0718-0462&amp;lng=es&amp;nrm=iso" TargetMode="External"/><Relationship Id="rId6" Type="http://schemas.openxmlformats.org/officeDocument/2006/relationships/hyperlink" Target="http://www.scielo.cl/scielo.php?script=sci_serial&amp;pid=0071-1713&amp;lng=es&amp;nrm=iso" TargetMode="External"/><Relationship Id="rId7" Type="http://schemas.openxmlformats.org/officeDocument/2006/relationships/hyperlink" Target="http://www.scielo.cl/scielo.php?script=sci_serial&amp;pid=0718-0705&amp;lng=es&amp;nrm=iso" TargetMode="External"/><Relationship Id="rId8" Type="http://schemas.openxmlformats.org/officeDocument/2006/relationships/hyperlink" Target="http://www.scielo.cl/scielo.php?script=sci_serial&amp;pid=0716-5811&amp;lng=es&amp;nrm=iso" TargetMode="External"/><Relationship Id="rId9" Type="http://schemas.openxmlformats.org/officeDocument/2006/relationships/hyperlink" Target="http://www.scielo.cl/scielo.php?script=sci_serial&amp;pid=0718-2244&amp;lng=es&amp;nrm=iso" TargetMode="External"/><Relationship Id="rId10" Type="http://schemas.openxmlformats.org/officeDocument/2006/relationships/hyperlink" Target="http://www.scielo.cl/scielo.php?script=sci_serial&amp;pid=0718-2244&amp;lng=es&amp;nrm=iso" TargetMode="External"/><Relationship Id="rId11" Type="http://schemas.openxmlformats.org/officeDocument/2006/relationships/hyperlink" Target="http://www.scielo.cl/scielo.php?script=sci_serial&amp;pid=0718-2228&amp;lng=es&amp;nrm=iso" TargetMode="External"/><Relationship Id="rId12" Type="http://schemas.openxmlformats.org/officeDocument/2006/relationships/hyperlink" Target="http://www.scielo.cl/scielo.php?script=sci_serial&amp;pid=0718-2228&amp;lng=es&amp;nrm=iso" TargetMode="External"/><Relationship Id="rId13" Type="http://schemas.openxmlformats.org/officeDocument/2006/relationships/hyperlink" Target="http://www.scielo.cl/scielo.php?script=sci_serial&amp;pid=0718-4883&amp;lng=es&amp;nrm=iso" TargetMode="External"/><Relationship Id="rId1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cuela de Terapia Ocupacional</a:t>
            </a: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acultad de Medicina</a:t>
            </a: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64464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Oportunidades para Desarrollo Científico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Integ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Basado en power de la Dirección de Investigación Cientí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acultad de Medicina, Universidad de Chil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736560" cy="1589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ONDECYT 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nancia competitivamente iniciativas presentadas por investigadores de trayectoria demostrada, sin importar el área o procedencia institu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duración de 2 a 4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abierto a todas las áreas del cono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investigador responsable con o sin coinvestig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financia: honorarios, tesistas, personal técnico, viajes, gastos de operación y bie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 capital. Monto máximo asignado: $50.000.000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ONDECYT Ini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iciativa para formar nuevos científicos. Se requiere grado académico de doctor o  especialidad médica (últimos 5 años), preferentemente hasta 45 añ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duración de 2 a 3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abierto a todas las áreas de cono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postulantes con patroci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financia: honorarios, tesistas, personal técnico, viajes, gastos de operación y bie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 capital. Monto máximo asignado: $20.000.000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ONIS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Fondo Nacional de Investigación y Desarrollo en Salu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nancia proyectos que generen nuevo conocimiento para contribuir a mejorar la toma de decisiones en salud, abarcando desde el diseño de políticas sanitarias hasta el nivel de decisiones clín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eneficiari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instituciones legalmente constituidas, como servicios de salud,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iversidades, centros de estudios, municipios, institutos profesionales,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itutos de investigación, fundaciones y ot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investigadores individuales y/o grupos de trabajo. En caso qu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stigación requiera aporte institucional (capacidades, infraestructu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sonal, pacientes, etc.), se deberá contar con patrocinio institu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uración:  18 meses, excepcionalmente se aprobarán proyectos por hasta dos añ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nanciamiento máximo: $25.000.000.- (honorarios, subcontratos, capacitación, equipos, software, infraestructura, material fungible, pasajes y viáticos, seminarios, publicaciones, difusión, propiedad intelectual, gastos gener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so de selec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imera fase: árbitros expertos designados por Consejo de FONIS evalúan la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deas del proyecto o pre-proyectos y  seleccionan los que pasan a la siguiente f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gunda fase: se solicitan propuestas de proyectos in exten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s Comités de FONIS evalúan: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lidad del proyecto, pertinencia, impacto y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licabilidad y solicitan opinión de expertos independien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sejo de FONIS selecciona los proyectos que se aprue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tificación de la selección por medio de Resolución de CONICY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NIS Concurso Nacional de Programas de Formación en Metodología de la Investigación Aplicada en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u objetivo es aumentar la competitividad de los proyectos presentados a FONIS y la capacidad de los investigadores para formular y desarrollar propuestas de investigación de salud aplic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módulos: Metodología de la investigación clínica, Metodología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vestigación en Salud Pública y Metodología de la investig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alitativa en salu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n postular entidades sin fines de lucro de educación superior o centros de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vestigación que realicen formación de profesionales e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duración: 6 a 10 me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financiamiento: $40.000.000.- (entidad debe financiar 20% del costo to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NID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Fondo de Investigación Educativa (FONIDE) fue creado el año 2006 con el propósito de fomentar y apoyar la labor de investigación en educación en ámbito nacion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ello, busca promover la realización de estudios de calidad, relevantes para la toma de decisiones de políticas educativas y para la gestión de los distintos niveles del sistema escolar chil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n participar Universidades, Institutos Profesionales y Centros Privados de Educ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s instituciones que postulen deben designar un Investigador Princip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Áreas temáticas prioritarias del 2do. concurso: Calidad y Equidad Educativa, Sistema Educativo, Desarrollo Docente y Gestión de la Educ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uración máxima: 10 me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nanciamiento máximo: $20.000.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riterios de evaluación: Importancia del tema; Consistencia del Proyecto; Metodología propuesta; Antecedentes Institucionales y Capacidad del Equipo; Resultados esper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NDEF: Fondo de Fomento al Desarrollo Científico y Tecn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ncurso Nacional de Proyectos de Investigación y Desarrollo (I+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trega financiamiento a universidades, institutos de investigación y desarrollo y otros sin fines de lucro que coinvierten junto a empresas.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Área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6600"/>
                </a:solidFill>
                <a:latin typeface="Arial"/>
              </a:rPr>
              <a:t>-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radicionales de la economía nacional (agropecuaria, forestal, pesca , minería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alto dinamismo en la construcción de valor (tecnologías de información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unicaciones y manufactu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lto impacto social: salud y edu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s proyectos deben consider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ponente de investigación cientí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sarrollo de solu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tección intelectual de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ransferencia de resultados para generación negocios productivos o serv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RFO: Corporación de Fomento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RFO a través de Innova Chile estimula la innovación empresarial, apoyando a que las empresas accedan a nuevas tecnologías y desarrollen nuevos productos y servicios de mayor valor y diferenci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vestigación y Desarrollo de Interés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RFO ofrece líneas de financiamiento para acercar al mundo productivo la investigación y desarrollo que realizan las universidades, institutos tecnológicos y organismos públicos, cuyas labores influyen en el entorno de las empres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novación precompetitiv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para investigación y desarrollo en universidades y centros tecnológicos que en el mediano y largo plazo tenga aplicación en el sector produc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terés público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para proyectos de universidades, centros tecnológicos y organismos públicos, orientados a mejorar la operación de mercados y sectores productivos. Ej. elaboración de normas técnicas, apoyo a la regulación y la generación de información relevante para la toma de decisiones de la autoridad públ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cursos Vicerrectoría de Investigación y Desarrollo (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ondo central para la investigación y la creación artística de la Universidad, que se distribuye en diversas actividades que implican el financiamiento de proyectos de investigación, de programas institucionales y actividades adicionales para apoyar la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yectos de Inici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oya la formación d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cadémicos jóvenes en investigación. Financia proyectos de investigación originales, que conduzcan a la producción de nuevos conocimientos, mediante la aplicación del método científico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22 horas y nombramiento vig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grado académico de doctor, magíster o especialidad médica (5 añ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edad máxima: 35 años y 40 si posee postdoctor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2 años de d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IR + 1 académico coinvestig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$6.500.000/año (mat. fungible, equipos, bibliografía, publicaciones, viaje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y viáticos nacion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cursos Vicerrectoría de Investigación y Desarrollo (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yectos de Enlace (FONDECYT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iene la finalidad de mantener activas las líneas de investigación de la Universidad, que han sido interrumpidas al no aprobarse un proyecto del concurso Regular FONDECYT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0">
              <a:spcBef>
                <a:spcPts val="4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pueden postular IR de proyectos FONDECYT rechazados  en el concurso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anterior, que hayan finalizado un proyecto Regular durante los últimos 2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0">
              <a:spcBef>
                <a:spcPts val="4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y que presenten un nuevo proyecto al concurso FONDECYT sigu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0">
              <a:spcBef>
                <a:spcPts val="4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0">
              <a:spcBef>
                <a:spcPts val="4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$3.000.000 (mat. fungible, accesorios, pago servicios externos, difusión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result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ropuestas para Estrategia de Desarrollo de Investigación en Unidades Académicas en la 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lanific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lan Estratégic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blemas de inter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uentes de financi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nálisis de Facti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uerdo entre los miembros de unidad académica, formación de equi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fesion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ormación de re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rear condiciones necesarias para el desarrollo de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ocimiento de métodos de gestión y evaluación de actividad cientí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oración de actividad científica (I+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labo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eracción entre miembros de unidades académ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eracción con grupos de excelencia, flexibilización, divers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oyo Institu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icerrectoría de Investigación y Desarrollo (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yudas de vi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stán destinadas a financiar presentaciones a congresos nacionales o internacionales y estadías cortas de investigación en el extranjero (inscripción, estadía y pasaj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n postular académicos con jerarquía académica vigente mínima de 11 hor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dará prioridad a académicos JC en formación (profesor asistente, profesor instructor y ayuda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paración de equ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nancia en forma parcial hasta el 50% del valor de la reparación, el resto del financiamiento es por parte de la Facult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yectos en Ciencias Sociales, Humanidades y Edu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menta la investigación de los académicos en Ciencias Sociales, Humanidades y Educación. Sólo financia proyectos de investigación que conduzcan a la producción de nuevos conocimientos mediante la aplicación de métodos rigurosos y valederos, que no consideren aspectos tratados en otros proyectos que hayan sido aprobados o que se encuentren en ejecución, patrocinados y/o financiados por instituciones públicas, privadas o extranje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vocatoria 2009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pertura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4 de abril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ierre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 25 de may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forme de Avance Proyecto en Cs. Sociales, Humanidades y Educación 2008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06 de noviembre de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forme Final Proyecto en Cs. Sociales, Humanidades y Educación 2007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08 de enero d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cerectoría de Investigación y Desarro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ttp://www.uchile.cl/uchile.portal?_nfpb=true&amp;_pageLabel=in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entes de financi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lend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Apoyo para la Presentación de Proyectos Científicos a 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úsqueda prospectiva de fuentes de financiamiento para investigación de acuerdo al perfil de los investigad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esoría en el diseño y redacción de proyectos de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úsqueda de colaboradores para la formación de equipos de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eevaluación técnica de los proyectos de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eevaluación científica de los proyectos por investigador experto en el área temá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oyo bioestadíst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formación y contac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ra. Rosa Hinojosa, Secret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rección: Av. Independencia Nª1027 (Facultad de Medici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eléfonos: (56 2) 978 6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rreo electrónico: rhinojosa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@med.uchile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Otras Fuentes de Financi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ECI: Agencia Española de Cooperación intern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vocatoria abierta y perma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grama de Cooperación interuniversitaria e Investigación Científica entre España e iberoam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ACSO: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ejo Latinoamericano de Ciencias Social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grama Regional de Becas de investigación. Becas de iniciación, consolidación y nivel sup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vestigación de calidad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ubl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Investigación Public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vistas Scielo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ENCIAS DE LA SALUD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cta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ioethica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rchivos de medicina veterinari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2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oletín chileno de parasitolog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5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iencia y enfermería - Revista iberoamericana de investigació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International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Journal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of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Morphology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27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arasitología al d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arasitología latinoamerican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3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Revista chilena de anatom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4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Revista chilena de cirug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23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Revista chilena de enfermedades respiratori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30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Revista chilena de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infectología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56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Revista chilena de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neuro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-psiquiatr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40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Revista chilena de nutrició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31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Revista chilena de obstetricia y ginecolog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46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Revista chilena de pediatr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407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Revista chilena de radiolog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30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Revista de otorrinolaringología y cirugía de cabeza y cuello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Revista médica de Chile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22  número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ubl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vistas Scielo: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IENCIAS SOCIALES APLICADAS</a:t>
            </a:r>
            <a:br>
              <a:rPr sz="1400"/>
            </a:b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RQ (Santiago) - arquitectura, diseño, urbanismo, Chile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2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oletín del Museo Chileno de Arte Precolombino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2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hungará (Arica) - Revista de antropología chilen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2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inta de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moebio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4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uadernos de economía -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Latin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merican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Journal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of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Economics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22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EURE (Santiago) - Revista latinoamericana de estudios urbano regionales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3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studios atacameños - Arqueología y antropología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surandinas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6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Estudios constitucionales - Revista Semestral del Centro de Estudios Constitucionales de Chile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Estudios de economí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istoria (Santiago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Ius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 et Praxis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6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Journal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of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theoretical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and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applied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electronic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commerce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research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4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Magallania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 (Punta Arenas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Polis (Santiago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4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Psykhe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 (Santiago)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 </a:t>
            </a: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- 11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Revista chilena de derecho privado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  número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Revista chilena de derecho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1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Revista de ciencia política (Santiago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6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Revista de derecho (Valdivia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2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Revista de derecho (Valparaíso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3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Revista de estudios histórico-jurídicos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2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Revista de geografía Norte Grande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Terapia psicológic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Ultima décad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9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Universum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 (Talca) - Revista de humanidades y ciencias sociales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1  número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ubl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vistas Scielo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   HUMANIDADES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cta literari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4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isthesis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- Revista Chilena de Investigaciones Estét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lpha (Osorno) - Revista de artes, letras y filosof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tenea (Concepción)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3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studios filológico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3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studios pedagógicos (Valdivia)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6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Literatura y lingüístic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1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Magallania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(Punta Arenas)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Psykhe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(Santiago)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1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RLA. Revista de lingüística teórica y aplicad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6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Revista chilena de literatura - 11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Revista de filosofía - 4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Revista musical chilena - 27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Revista signos - Estudios de lingüística - 25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Teología y vida - 2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Ultima década - 1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Universum (Talca) - Revista de humanidades y ciencias sociale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Revistas 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MERICAN JOURNAL OF OCCUPATIONAL THERAPY DISABILITY AND REHABILI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URNAL OF INTERPROFESSIONAL C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FANTS AND YOUNG CHILD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REAST CANCER RESEARCH AND TREA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STRALIAN OCCUPATIONAL THERAPY JOUR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URNAL OF REHABILITATION RESEARCH AND DEVELOP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ONG KONG JOURNAL OF OCCUPATIONAL THERA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ERNATIONAL JOURNAL OF REHABILITATION RESEAR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Investigación de la ETOUCH: Relevante y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vestigación de Relev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ponde a las necesidades país (objetivos sanitari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jora la calidad de vida de las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vestigación de C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inanci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ubl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utre la práctica doc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 este contexto. ¿Qué investigación debe desarrollar la ETOU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vestigación relev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Áreas Prioritarias para la ETOUCH según los objetivos sanitarios de la épo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Salud infantil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promoción del desarrollo integral, trastornos hipercinéticos y de la atención, maltrato infanti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Traumatismo y accidentes;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salud de la mujer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climaterio y cáncer del cuello de útero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Desafío derivados del envejecimiento y cambios sociale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envejecimiento, estilos de vida, aspectos relacionados con el trabajo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Áreas Prioritarias para la ETOUCH según los objetivos sanitarios de la épo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Enfermedad cardiovascular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Cáncer,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Enfermedades mentale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depresión, esquizofreni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Alzheimer y demencia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Alcohol y drogas;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Diabete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VIH SID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Cuidado paliativo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vestigación de c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vestigación de calidad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inanci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Investigación Financiada: Fondos Estatales Concursables I+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estinados a Ciencia Bá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DECYT Re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DECYT Inici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iciativa Milenio (Núcleos, Institu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Orientados Preferentemente a Tecnología y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DECYT Re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D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yecto Bicentenario (Inserción y Anill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NOVA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Orientados a Formación de Investig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grama Nacional de Becas de Postgrado (CONICY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plemento de Tesis Doctoral (CONICY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yectos de Posdoctorado (FONDECY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ecas Doctorales del Programa MECESUP (EDUCACIÓ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7080" y="6453360"/>
            <a:ext cx="265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Fuentes: CONICYT, Academia Chilena de Ciencia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0:11:38Z</dcterms:created>
  <dc:creator>Luis Michea</dc:creator>
  <dc:description/>
  <dc:language>en-US</dc:language>
  <cp:lastModifiedBy>Fac. de Medicina</cp:lastModifiedBy>
  <dcterms:modified xsi:type="dcterms:W3CDTF">2009-11-05T18:57:08Z</dcterms:modified>
  <cp:revision>99</cp:revision>
  <dc:subject/>
  <dc:title>Diapositiva 1</dc:title>
</cp:coreProperties>
</file>