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71320" y="329760"/>
            <a:ext cx="1186164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71320" y="5753880"/>
            <a:ext cx="118616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49560" y="232416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7132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49560" y="5753880"/>
            <a:ext cx="57884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820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592480" y="232416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7132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820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592480" y="5753880"/>
            <a:ext cx="3819240" cy="313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1" name="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648828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9" name="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8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7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1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5" name="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>
              <a:buClr>
                <a:srgbClr val="60606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654" name="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" name="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066240" y="519120"/>
            <a:ext cx="144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" name="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9" name="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30880" y="1778040"/>
            <a:ext cx="144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488280" y="507960"/>
            <a:ext cx="144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4434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545680" y="1776240"/>
            <a:ext cx="144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606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309" name="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" descr=""/>
          <p:cNvPicPr/>
          <p:nvPr/>
        </p:nvPicPr>
        <p:blipFill>
          <a:blip r:embed="rId1"/>
          <a:srcRect l="317" t="1473" r="1971" b="0"/>
          <a:stretch/>
        </p:blipFill>
        <p:spPr>
          <a:xfrm>
            <a:off x="6502320" y="0"/>
            <a:ext cx="6502320" cy="975672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luidos</a:t>
            </a:r>
            <a:endParaRPr b="0" lang="en-US" sz="7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6060"/>
                </a:solidFill>
                <a:latin typeface="Helvetica Neue"/>
              </a:rPr>
              <a:t>Hidrostática</a:t>
            </a:r>
            <a:endParaRPr b="0" lang="en-US" sz="3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Principio de Pascal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568944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En la cara interna de los émbolos, </a:t>
            </a:r>
            <a:r>
              <a:rPr b="0" lang="en-US" sz="2600" spc="-1" strike="noStrike">
                <a:solidFill>
                  <a:srgbClr val="d90b00"/>
                </a:solidFill>
                <a:latin typeface="Helvetica Neue"/>
              </a:rPr>
              <a:t>la presión es la misma</a:t>
            </a: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7429680" y="2322360"/>
            <a:ext cx="4673520" cy="395460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1460520" y="6337440"/>
            <a:ext cx="4203720" cy="355572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1308240" y="3301920"/>
            <a:ext cx="4203720" cy="355608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4"/>
          <a:stretch/>
        </p:blipFill>
        <p:spPr>
          <a:xfrm>
            <a:off x="8109000" y="6464160"/>
            <a:ext cx="3301920" cy="33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Ejemplo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71680" y="2324160"/>
            <a:ext cx="1167120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 ejerce una fuerza de 5 N a un émbolo circular de una gata hidráulica de 20 cm de diámetro. Si el otro émbolo tiene un diámetro de 100 cm, fa fuerza resultante será de: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72" name=""/>
          <p:cNvSpPr/>
          <p:nvPr/>
        </p:nvSpPr>
        <p:spPr>
          <a:xfrm>
            <a:off x="9754200" y="8554320"/>
            <a:ext cx="2073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0b00"/>
                </a:solidFill>
                <a:latin typeface="Helvetica Neue Light"/>
                <a:ea typeface="Helvetica Neue Light"/>
              </a:rPr>
              <a:t>R: 125 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Principio de Arquímedes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uando un objeto se encuentra sumergido en un fluido, éste es empujado hacia arriba por una </a:t>
            </a:r>
            <a:r>
              <a:rPr b="0" lang="en-US" sz="2600" spc="-1" strike="noStrike">
                <a:solidFill>
                  <a:srgbClr val="2e6ffd"/>
                </a:solidFill>
                <a:latin typeface="Helvetica Neue"/>
              </a:rPr>
              <a:t>fuerza de magnitud idéntica a la del fluido desplazado</a:t>
            </a: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. Esta fuerza se le denomina </a:t>
            </a:r>
            <a:r>
              <a:rPr b="0" lang="en-US" sz="2600" spc="-1" strike="noStrike">
                <a:solidFill>
                  <a:srgbClr val="ff2712"/>
                </a:solidFill>
                <a:latin typeface="Helvetica Neue"/>
              </a:rPr>
              <a:t>empuje (E)</a:t>
            </a: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  <a:ea typeface="Lucida Grande"/>
              </a:rPr>
              <a:t>Donde ρ es la densidad del fluido, g es la aceleración de gravedad y V </a:t>
            </a:r>
            <a:r>
              <a:rPr b="0" lang="en-US" sz="2600" spc="-1" strike="noStrike">
                <a:solidFill>
                  <a:srgbClr val="2e6ffd"/>
                </a:solidFill>
                <a:latin typeface="Helvetica Neue"/>
              </a:rPr>
              <a:t>el volumen del fluido desplazado</a:t>
            </a: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, que equivale al </a:t>
            </a:r>
            <a:r>
              <a:rPr b="0" lang="en-US" sz="2600" spc="-1" strike="noStrike">
                <a:solidFill>
                  <a:srgbClr val="ff2712"/>
                </a:solidFill>
                <a:latin typeface="Helvetica Neue"/>
              </a:rPr>
              <a:t>volumen del cuerpo sumergido</a:t>
            </a: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1104840" y="3746520"/>
            <a:ext cx="4203720" cy="355608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7594560" y="3797280"/>
            <a:ext cx="298440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Principio de Arquímedes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i el empuje es </a:t>
            </a:r>
            <a:r>
              <a:rPr b="0" lang="en-US" sz="2600" spc="-1" strike="noStrike">
                <a:solidFill>
                  <a:srgbClr val="ff2712"/>
                </a:solidFill>
                <a:latin typeface="Helvetica Neue"/>
              </a:rPr>
              <a:t>mayor</a:t>
            </a: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 que el peso del objeto, éste </a:t>
            </a:r>
            <a:r>
              <a:rPr b="0" lang="en-US" sz="2600" spc="-1" strike="noStrike">
                <a:solidFill>
                  <a:srgbClr val="ff2712"/>
                </a:solidFill>
                <a:latin typeface="Helvetica Neue"/>
              </a:rPr>
              <a:t>flotará</a:t>
            </a: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. Se puede concluir que el flote o el hundimiento dependen de la relación entre las densidades del objeto y del fluido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7556400" y="4127400"/>
            <a:ext cx="4546800" cy="430524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1001880" y="5181480"/>
            <a:ext cx="53337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6767"/>
                </a:solidFill>
                <a:latin typeface="Helvetica Neue"/>
                <a:ea typeface="Helvetica Neue"/>
              </a:rPr>
              <a:t>Si la densidad del fluido es mayor que la del objeto, el empuje será mayor y el objeto flotará.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Ejemplo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Una piedra de volumen 50 cm3 se hunde en un contenedor lleno de agua. El empuje resultante equivale a: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3" name=""/>
          <p:cNvSpPr/>
          <p:nvPr/>
        </p:nvSpPr>
        <p:spPr>
          <a:xfrm>
            <a:off x="9884880" y="8313120"/>
            <a:ext cx="1911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0b00"/>
                </a:solidFill>
                <a:latin typeface="Helvetica Neue Light"/>
                <a:ea typeface="Helvetica Neue Light"/>
              </a:rPr>
              <a:t>R: 0,5 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Ejemplo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Un objeto de volumen 100 cm3 se hunde en un estanque de agua. Si la diferencia entre el peso del objeto y el empuje es de 5 N, la densidad del objeto equivale a: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86" name=""/>
          <p:cNvSpPr/>
          <p:nvPr/>
        </p:nvSpPr>
        <p:spPr>
          <a:xfrm>
            <a:off x="8901720" y="8516160"/>
            <a:ext cx="286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0b00"/>
                </a:solidFill>
                <a:latin typeface="Helvetica Neue Light"/>
                <a:ea typeface="Helvetica Neue Light"/>
              </a:rPr>
              <a:t>R: 6 gr/cm3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Fluidos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480960" y="2235240"/>
            <a:ext cx="5948280" cy="441972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6438960" y="4762440"/>
            <a:ext cx="627372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Fluidos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65860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Los fluidos son sustancias que se encuentran en estado </a:t>
            </a:r>
            <a:r>
              <a:rPr b="0" lang="en-US" sz="2600" spc="-1" strike="noStrike">
                <a:solidFill>
                  <a:srgbClr val="0044fe"/>
                </a:solidFill>
                <a:latin typeface="Helvetica Neue"/>
              </a:rPr>
              <a:t>líquido</a:t>
            </a:r>
            <a:r>
              <a:rPr b="0" lang="en-US" sz="2600" spc="-1" strike="noStrike">
                <a:solidFill>
                  <a:srgbClr val="d90b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676767"/>
                </a:solidFill>
                <a:latin typeface="Helvetica Neue"/>
              </a:rPr>
              <a:t>o</a:t>
            </a:r>
            <a:r>
              <a:rPr b="0" lang="en-US" sz="2600" spc="-1" strike="noStrike">
                <a:solidFill>
                  <a:srgbClr val="d90b00"/>
                </a:solidFill>
                <a:latin typeface="Helvetica Neue"/>
              </a:rPr>
              <a:t> gaseoso</a:t>
            </a: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, por lo tanto </a:t>
            </a:r>
            <a:r>
              <a:rPr b="0" lang="en-US" sz="2600" spc="-1" strike="noStrike">
                <a:solidFill>
                  <a:srgbClr val="558e28"/>
                </a:solidFill>
                <a:latin typeface="Helvetica Neue"/>
              </a:rPr>
              <a:t>su forma espacial se ajusta a la de su contenedor</a:t>
            </a: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Debido a las escasas cohesiones moleculares, los fluidos no responden a estímulos externos según la mecánica tradicional, basada en sólidos. Aquí se consideran factores como </a:t>
            </a:r>
            <a:r>
              <a:rPr b="0" lang="en-US" sz="2600" spc="-1" strike="noStrike">
                <a:solidFill>
                  <a:srgbClr val="0044fe"/>
                </a:solidFill>
                <a:latin typeface="Helvetica Neue"/>
              </a:rPr>
              <a:t>la densidad, viscosidad, capilaridad, presión, </a:t>
            </a:r>
            <a:r>
              <a:rPr b="0" lang="en-US" sz="2600" spc="-1" strike="noStrike">
                <a:solidFill>
                  <a:srgbClr val="676767"/>
                </a:solidFill>
                <a:latin typeface="Helvetica Neue"/>
              </a:rPr>
              <a:t>etc;</a:t>
            </a: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 a la hora de observar los fenómenos que involucran fluidos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Debido a las características antes mencionadas, en fluidos </a:t>
            </a:r>
            <a:r>
              <a:rPr b="0" lang="en-US" sz="2600" spc="-1" strike="noStrike">
                <a:solidFill>
                  <a:srgbClr val="d90b00"/>
                </a:solidFill>
                <a:latin typeface="Helvetica Neue"/>
              </a:rPr>
              <a:t>no se trabaja con la masa de la partícula propiamente tal, sino con su densidad</a:t>
            </a: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, dependiente del volumen que ocupa el fluido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Densidad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Se define como la masa del fluido existente en una unidad de volumen que ocupa éste en el espacio: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4737240" y="3606840"/>
            <a:ext cx="3174840" cy="253980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8255160" y="6464160"/>
            <a:ext cx="3174840" cy="25401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2882880" y="6489720"/>
            <a:ext cx="3175200" cy="254016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2647800" y="7175520"/>
            <a:ext cx="5461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90b00"/>
                </a:solidFill>
                <a:latin typeface="Helvetica Neue Light"/>
                <a:ea typeface="Helvetica Neue Light"/>
              </a:rPr>
              <a:t>1</a:t>
            </a:r>
            <a:endParaRPr b="0" lang="en-US" sz="7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"/>
          <p:cNvSpPr/>
          <p:nvPr/>
        </p:nvSpPr>
        <p:spPr>
          <a:xfrm>
            <a:off x="5850000" y="7188480"/>
            <a:ext cx="2769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= </a:t>
            </a:r>
            <a:r>
              <a:rPr b="0" lang="en-US" sz="7000" spc="-1" strike="noStrike">
                <a:solidFill>
                  <a:srgbClr val="d90b00"/>
                </a:solidFill>
                <a:latin typeface="Helvetica Neue Light"/>
                <a:ea typeface="Helvetica Neue Light"/>
              </a:rPr>
              <a:t>1000</a:t>
            </a:r>
            <a:endParaRPr b="0" lang="en-US" sz="7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Presió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uando un objeto es sumergido en un recipiente con agua u otro fluido, su área recibe una fuerza ejercida por el agua.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1549440" y="4064040"/>
            <a:ext cx="3771720" cy="44575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2"/>
          <a:stretch/>
        </p:blipFill>
        <p:spPr>
          <a:xfrm>
            <a:off x="7010280" y="3822840"/>
            <a:ext cx="3175200" cy="25398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3"/>
          <a:stretch/>
        </p:blipFill>
        <p:spPr>
          <a:xfrm>
            <a:off x="7010280" y="6718320"/>
            <a:ext cx="31752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Presió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71320" y="2260080"/>
            <a:ext cx="11861640" cy="107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onsiderando que en fluidos no se trabaja con masas, sino con densidades, tenemos: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4280040" y="2857680"/>
            <a:ext cx="4444920" cy="25398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3645000" y="4927680"/>
            <a:ext cx="5715000" cy="253980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1128600" y="7988400"/>
            <a:ext cx="106045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La diferencia entre la presión en la superficie del objeto sumergido y la </a:t>
            </a:r>
            <a:r>
              <a:rPr b="0" lang="en-US" sz="2600" spc="-1" strike="noStrike">
                <a:solidFill>
                  <a:srgbClr val="0044fe"/>
                </a:solidFill>
                <a:latin typeface="Helvetica Neue"/>
                <a:ea typeface="Helvetica Neue"/>
              </a:rPr>
              <a:t>presión atmosférica Po (101 [kPa])</a:t>
            </a:r>
            <a:r>
              <a:rPr b="0" lang="en-US" sz="26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, depende de la </a:t>
            </a:r>
            <a:r>
              <a:rPr b="0" lang="en-US" sz="2600" spc="-1" strike="noStrike">
                <a:solidFill>
                  <a:srgbClr val="d90b00"/>
                </a:solidFill>
                <a:latin typeface="Helvetica Neue"/>
                <a:ea typeface="Helvetica Neue"/>
              </a:rPr>
              <a:t>profundidad (h)</a:t>
            </a:r>
            <a:r>
              <a:rPr b="0" lang="en-US" sz="2600" spc="-1" strike="noStrike">
                <a:solidFill>
                  <a:srgbClr val="606060"/>
                </a:solidFill>
                <a:latin typeface="Helvetica Neue"/>
                <a:ea typeface="Helvetica Neue"/>
              </a:rPr>
              <a:t> a la que se encuentra el objeto.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Ejemplo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3000"/>
          </a:bodyPr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Un objeto se encuentra sumergido a 50 cms de la superficie de un tanque de aceite de densidad 0,6 [gr/cm3]. La presión que es ejercida sobre el objeto equivale a (g=10):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                                                                                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sp>
        <p:nvSpPr>
          <p:cNvPr id="756" name=""/>
          <p:cNvSpPr/>
          <p:nvPr/>
        </p:nvSpPr>
        <p:spPr>
          <a:xfrm>
            <a:off x="8751240" y="8592480"/>
            <a:ext cx="3342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0b00"/>
                </a:solidFill>
                <a:latin typeface="Helvetica Neue Light"/>
                <a:ea typeface="Helvetica Neue Light"/>
              </a:rPr>
              <a:t>R: 104000 Pa 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Presió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A igual profundidad, la presión será la misma, independiente de la forma del objeto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3668760" y="2776680"/>
            <a:ext cx="564984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Presión Atmosférica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Helvetica Neue"/>
              </a:rPr>
              <a:t>Como la atmósfera es un fluido, ejerce una presión sobre nosotros, que vale aproximadamente </a:t>
            </a:r>
            <a:r>
              <a:rPr b="0" lang="en-US" sz="2600" spc="-1" strike="noStrike">
                <a:solidFill>
                  <a:srgbClr val="2e6ffd"/>
                </a:solidFill>
                <a:latin typeface="Helvetica Neue"/>
              </a:rPr>
              <a:t>101000 Pa a nivel del mar.</a:t>
            </a: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6060"/>
              </a:solidFill>
              <a:latin typeface="Helvetica Neue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7721640" y="3352680"/>
            <a:ext cx="4419720" cy="571500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560520" y="6464160"/>
            <a:ext cx="8102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0b00"/>
                </a:solidFill>
                <a:latin typeface="Helvetica Neue"/>
                <a:ea typeface="Helvetica Neue"/>
              </a:rPr>
              <a:t>101000 Pa = 1 atm = 750 mmHg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