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799-49C8-46E0-A861-11A66303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769-AA33-4F70-B0A1-9AF9B2E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E71-34B4-4682-8CA1-00C3F646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AC0-4625-41B8-99E0-75B8F638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E95D-564F-4E58-AD25-289AA643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B51-B741-4E08-98B3-C5AEED2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7AF-218A-4D1E-B06B-D78210CE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CD1C-5CE9-4730-AFEF-6ACA5BF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0D34-3016-42F7-A1AC-045B8DF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8658-85C8-4E56-A8B0-113BBF82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FC18-9E41-44A5-A74F-2B16FA3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FCE-3D44-4030-82E0-E205F4E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36B-E6A8-42D6-ADE0-F286ED1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D386-A000-4421-9648-A112C9D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C67-80F5-4437-89C8-F7DFF48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B73-2F04-4DD8-A28C-860221FF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F011-41B4-4D9B-A16E-671DD5F6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D45-460D-4393-847D-032CB9CD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E33-DDA2-4CBF-8B9E-F1EDF09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810-E19C-4449-A836-DDCCB4C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8DA-B292-49E5-ACD4-FFD95EE1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3BE-6BF8-46DB-9442-9A2C7A1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2D4-6A59-4398-9A2C-214AAEB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041-51B6-4D67-B2AC-73EF68E1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DA3-044A-45C0-AD6D-89F21BFA4E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CAF-D170-4842-B76E-A33AEE99A0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eforma a la salud mental y la psiquiatría en Chile: Del diagnóstico a la estadística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Jimena Carrasco M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Doctor (c) Psicología Social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Universidad Autónoma de Barcelona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V.       DEFINIC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 Centre de Salud Mental Comunitaria es un establecimiento de atención ambulatoria, especializado en Salud Mental y Psiquiatría, integrado a la Red de Salud General y a la Red de Salud Mental y Psiquiatr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baja con una población beneficiaria referida por la red asistencial y que desarrolla, de acuerdo a sus funciones, acciones de promoción, prevención, tratamiento, rehabilitación y reinserción social en personas con problemas y trastornes de su salud mental de moderados a sever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INSAL (2008) NORMA TECNICA PARA LA IMPLJEMENTACION Y FUNCIONAMIENTO DE CENTROS DE SALUD MENTAL COMUNITARI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ntro de Salud Mental Comunit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578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a ficción como realidad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276720"/>
            <a:ext cx="1981440" cy="641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Extracción de un referente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sde la experiencia a la distanc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362320"/>
            <a:ext cx="1524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Trabajo etnográfico en el laboratori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 (Latour, 2001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809880"/>
            <a:ext cx="1676520" cy="73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reación de hechos positivo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Visibles/enunciab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352680"/>
            <a:ext cx="121932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aturaleza: Objeto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/su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800600"/>
            <a:ext cx="9907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Científica -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7924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Latour, B.,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esperanza de Pandora. Ensayos sobre la realidad de los estudios de la ciencia.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: Gedis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9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El nacimiento de la clínica: Una arqueología de la mirada médic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14ª ed.). México D. F.: Siglo XXI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Goffman, E. (1959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La presentación de la persona en la vida cotidian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Madrid: H. F. Martínez de Murguía, DL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Rose, N. (2007),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Terapia y poder: Techné y etho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chipiélago. Cuadernos Crítica De La Cultura, Septiembre (76) 101-124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o natural hecho social: el signo extraído de la materia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95480" y="24382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SAM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iones como hechos positiv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8769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733920"/>
            <a:ext cx="304776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sc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Visita Domiciliar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rabajo con los territo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990720"/>
            <a:ext cx="12189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066680"/>
            <a:ext cx="76176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990720"/>
            <a:ext cx="16002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.S. Valdiv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962520"/>
            <a:ext cx="1219320" cy="459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tracción del referen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752480" y="2590920"/>
            <a:ext cx="0" cy="13716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419720"/>
            <a:ext cx="0" cy="76176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257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0400" y="914400"/>
            <a:ext cx="2438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alidad Terapéu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2666880" cy="20142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strucción de historias y búsqueda de Conexion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1600200"/>
            <a:ext cx="2133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trastienda como actuación de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971800"/>
            <a:ext cx="144792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895480"/>
            <a:ext cx="137160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tadís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5181480"/>
            <a:ext cx="327672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scripción de hechos como medio de cooperación dram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736560"/>
            <a:ext cx="8153280" cy="612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352680" y="1295280"/>
            <a:ext cx="198144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os hechos posi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362320"/>
            <a:ext cx="6858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191120"/>
            <a:ext cx="129528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ven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191120"/>
            <a:ext cx="1143000" cy="368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uar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05520"/>
            <a:ext cx="2971800" cy="6426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Encargado terapéu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Dupla Psico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105520"/>
            <a:ext cx="259056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ticip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smedical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 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blemat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971800"/>
            <a:ext cx="1600200" cy="9169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evas realidades Terapéu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Y dónde está lo crítico?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udiar a la ciencia de forma científica, es como querer mirar el ojo con el que se mira (Maturana y Varela 2006)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ólo es posible creyendo que una representación del ojo con el que miramos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s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el ojo con el que miram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La realidad no sólo surge de las acciones humanas, sino que surge de una experiencia localizada en un cuer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o no significa renunciar a conocer los artefactos a través de los cuales conocemos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de la experiencia, de conocer al ser humano como objeto, se genera un cambio en la estructura fundamental de la experiencia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l reconocimiento de nuestra posición no debe ser desde afuera (no mirando a una representación de nosotros mismos en un mapa de relaciones), sino que desde la metáfora de la articulación (Haraway 1995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uen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ficción como realida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La construcción de realidad en un Centro de Salud Mental Comunitario.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Procesos de re configuración de lo social y de la subjetividad: la reforma a la salud mental y la psiquiatría en Chil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590920"/>
            <a:ext cx="152424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forma a la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438280"/>
            <a:ext cx="152424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Cambio en la gubernamentalidad (Rose 1997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276720"/>
            <a:ext cx="137160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gobiern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1676520" cy="641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ransformación de la mentalidad para gobern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514600"/>
            <a:ext cx="137160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495680"/>
            <a:ext cx="106704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ujetos de interven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648320"/>
            <a:ext cx="114300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tervento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038480"/>
            <a:ext cx="1218960" cy="459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blemas de salu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9436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059440"/>
            <a:ext cx="807696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Arrau, F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ceptualización del plan de acceso universal con garantías explícitas (AUGE), eje de la actual reforma a la salud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Comité de Estudios de Anticipación ed.).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Santiago, Chile: Biblioteca del Congreso Nacional de Chile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arry, A., Osborne, T., &amp; Rose, N. (1996). In Barry A., Osborne T. and Rose N. (Eds.),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Foucault and political reason: Liberasm, neo-liberalims and rationalities of governmen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University College London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Brown, B., Crawford, P. (2003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The clinical governance of the soul:‘deep anagement’ and the self-regulating subject in integrated community mental health teams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Social Science &amp; Medicine 56 (2003) 67–81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INSAL. (2006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Plan nacional de salud mental y psiquiatría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Gobierno de Chile, Ministerio de Salud ed.). Santiago, Chile: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Montenegro, M. (2001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onocimientos, agentes y articulaciones: Una mirada situada a la intervención social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 Programa de Doctorat en Psicologia Social. Universitat Autònoma de Barcelona)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Sandoval, J. (200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Ciudadanía, "gobierno" de la subjetividad y políticas sociales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Última Década,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(Número 17), 161-177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pósito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Contribuir a que las personas, las familias y las comunidades alcancen y mantengan la mayor capacidad posible para interactuar entre sí y con el medio ambiente, de modo de promover el bienestar subjetivo, el desarrollo y uso óptimo de sus potencialidades psicológicas, cognitivas, afectivas y relacionales, el logro de sus metas individuales y colectivas, en concordancia con la justicia y el bien común.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Nacional de Salud mental y Psiquiatrí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 la institución a la red, del paciente al usu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 de servicios: diversidad, igualdad, cooperación, coordinación, efectividad, territorialida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uipos de Salud Mental y Psiquiatría Ambulator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articuladores entre los diferentes actores de la 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010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"/>
              </a:rPr>
              <a:t>Los aportes de las miradas críticas: Del encierro de la locura a la psicologización del ser humano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676520" cy="82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cura como enfermedad mental (Foucault 1976, 1979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352680"/>
            <a:ext cx="91440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 cí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352680"/>
            <a:ext cx="129528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l sujeto/obje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648320"/>
            <a:ext cx="99072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quiatr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657600"/>
            <a:ext cx="167652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configuración del objeto de la medici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572000"/>
            <a:ext cx="990360" cy="276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sicolog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572000"/>
            <a:ext cx="106704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Técnicas terapeutic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334120"/>
            <a:ext cx="8076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76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Historia de la locura en la época clás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[Histoire de la folie à l´âge classique] (2ª ed. ed.). México D. F.: Fondo de Cultura Económica.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Foucault, M. (1979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Nacimiento de la biopolítica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(pp. 209-215)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Foucault, M. (1982). </a:t>
            </a:r>
            <a:r>
              <a:rPr b="0" i="1" lang="es-ES_tradnl" sz="900" spc="-1" strike="noStrike">
                <a:solidFill>
                  <a:srgbClr val="003366"/>
                </a:solidFill>
                <a:latin typeface="Arial"/>
              </a:rPr>
              <a:t>Vigilar y castigar: Nacimiento de la prisión</a:t>
            </a:r>
            <a:r>
              <a:rPr b="0" lang="es-ES_tradnl" sz="900" spc="-1" strike="noStrike">
                <a:solidFill>
                  <a:srgbClr val="003366"/>
                </a:solidFill>
                <a:latin typeface="Arial"/>
              </a:rPr>
              <a:t> (7ª ed. ed.).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Madrid: Siglo Veintiuno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ivero, I. (2005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Ciencia "PSI", subjetividad y gobierno. una aproximación genealógica a la producción de subjetividades "psi" en la modernidad.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 Departament de Psicología de la Salut i Psicología Social. Unitat de Psicología Social. Facultat de Psicología. Universitat Autònoma de Barcelona.)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Rose, N. (1997). 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El gobierno de las democracias liberales "avanzadas</a:t>
            </a: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": Del liberalismo al neoliberalismo.</a:t>
            </a:r>
            <a:r>
              <a:rPr b="0" i="1" lang="es-ES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rchipiélago. Cuadernos Crítica De La Cultura, verano (29), 25-40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Rose, N. (1999). </a:t>
            </a: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Power of freedom. reframing political thought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. London: Cambridge University Press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la dimensión semiótico material en la metodologí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hacer una investigación que de cuenta de la generación de realidad que ocurre en la intervención socia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incorporar mi propia visión de la realidad en la investigació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¿Cómo generar un conocimiento situado desde la posición de intervento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Terapia y Poder: Techné y Ethos 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(Rose 2007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549160"/>
            <a:ext cx="76932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lugar de ver las prácticas actuales de psicoterapia como una aplicación o desaplicación de la teoría terapéutica, mi punto de partida es contemplar la realidad de las prácticas terapéuticas actualmente existentes tal como funcionan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bjetivos de la investig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escribir las prácticas de los Equipos de Salud Mental y Psiquiatría Ambulatorio (ESMPA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y analizar los tipos de subjetividades que se elaboran a partir de estas prácticas, tanto de los profesionales interventores, como de los sujetos objetos de sus intervencio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relaciones entre los procesos de gubernamentalidad neoliberal, la configuración de estas prácticas y las subjetividades que se generan a partir de las práctic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stablecer efectos y posibilidades de los procesos de subjetivación y de los procesos de gubernamentalidad que se relacionan con las prácticas de los equipos de salud mental y psiquiatría ambulatori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ena</cp:lastModifiedBy>
  <dcterms:modified xsi:type="dcterms:W3CDTF">2009-07-27T22:14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