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F4D-F4F9-4D05-84F6-17EAF6C0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BA2-4472-4FDF-AC81-B89FB1C7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8D3-2FD0-47C7-B051-5EA5F8ED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A21-6241-4148-9846-3D391469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D258-24CE-40BE-A099-83FAC375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D471-16A1-4490-9E54-0FFCDE1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9924-6461-4DFB-BC79-4314C72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F815-41C4-4EF5-A3A7-ACE96420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AE54-05D9-458D-87AB-B99ECC20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B0ED-E9F4-48D1-BB3B-7DCE889C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E5DF-2710-4030-880A-9FA84AE7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D22-2378-4FC3-94D5-735D66F4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D406-70A1-41E4-A06E-F3DD8382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277C-D5E0-410D-B7E2-5D4D0262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754E-6168-48C9-B3F4-4CCF80D1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05E9-A0F6-4F55-9BE8-335464CF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25F9-44AD-4631-B3F4-72A01AFE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CE4-E2D6-46DD-9B01-1C061DF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C84-9DAA-48A3-8152-AB6AD1E2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5AA-8EE1-4AC8-8702-99BADB2B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162-D525-4ADD-9ECB-43D085AB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611-1CCD-4AC3-97D7-42AEE603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7EB-285A-40D6-A0E0-3C8D38B4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8C5-4CD6-4E73-B4F7-3CFF216E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4C22-D9EE-45DA-9968-E2D9FADBC9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4D4C-1653-4407-8E4D-849A8ADAFA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reforma a la salud mental y la psiquiatría en Chile: Del diagnóstico a la estadística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Jimena Carrasco M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Doctor (c) Psicología Social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Universidad Autónoma de Barcelona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ntro de Salud Mental Comunita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V.       DEFINIC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 Centre de Salud Mental Comunitaria es un establecimiento de atención ambulatoria, especializado en Salud Mental y Psiquiatría, integrado a la Red de Salud General y a la Red de Salud Mental y Psiquiatr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baja con una población beneficiaria referida por la red asistencial y que desarrolla, de acuerdo a sus funciones, acciones de promoción, prevención, tratamiento, rehabilitación y reinserción social en personas con problemas y trastornes de su salud mental de moderados a sever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INSAL (2008) NORMA TECNICA PARA LA IMPLJEMENTACION Y FUNCIONAMIENTO DE CENTROS DE SALUD MENTAL COMUNITARI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ntro de Salud Mental Comunita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2578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La ficción como realidad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276720"/>
            <a:ext cx="1981440" cy="641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Extracción de un referente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sde la experiencia a la distanc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362320"/>
            <a:ext cx="152424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Trabajo etnográfico en el laboratorio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 (Latour, 2001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809880"/>
            <a:ext cx="1676520" cy="73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reación de hechos positivo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Visibles/enunciab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352680"/>
            <a:ext cx="121932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aturaleza: Objeto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/suje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800600"/>
            <a:ext cx="99072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alidad Científica -terapéu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7924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Latour, B., (200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La esperanza de Pandora. Ensayos sobre la realidad de los estudios de la ciencia.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: Gedis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9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El nacimiento de la clínica: Una arqueología de la mirada médic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14ª ed.). México D. F.: Siglo XXI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Goffman, E. (1959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La presentación de la persona en la vida cotidian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 Madrid: H. F. Martínez de Murguía, DL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Rose, N. (2007),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Terapia y poder: Techné y ethos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Archipiélago. Cuadernos Crítica De La Cultura, Septiembre (76) 101-124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3200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Lo natural hecho social: el signo extraído de la materia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95480" y="24382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SAM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iones como hechos positiv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876920"/>
            <a:ext cx="29718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Encargado terapéu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Dupla Psicoso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733920"/>
            <a:ext cx="304776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sc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Visita Domiciliar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rabajo con los territor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990720"/>
            <a:ext cx="121896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066680"/>
            <a:ext cx="76176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990720"/>
            <a:ext cx="16002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.S. Valdiv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962520"/>
            <a:ext cx="1219320" cy="459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tracción del referent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752480" y="2590920"/>
            <a:ext cx="0" cy="13716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4419720"/>
            <a:ext cx="0" cy="76176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209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stadís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257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alidad Terapéu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0400" y="914400"/>
            <a:ext cx="243828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lidad Terapéu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895480"/>
            <a:ext cx="2666880" cy="20142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trucción de historias y búsqueda de Conexion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medical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 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blemat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1600200"/>
            <a:ext cx="213372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trastienda como actuación de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971800"/>
            <a:ext cx="1447920" cy="36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2895480"/>
            <a:ext cx="1371600" cy="36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tadís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5181480"/>
            <a:ext cx="327672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scripción de hechos como medio de cooperación dram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352680" y="1295280"/>
            <a:ext cx="198144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evos hechos posi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362320"/>
            <a:ext cx="6858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4191120"/>
            <a:ext cx="129528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ven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191120"/>
            <a:ext cx="11430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uar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105520"/>
            <a:ext cx="29718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Encargado terapéu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Dupla Psicoso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5105520"/>
            <a:ext cx="2590560" cy="11912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medical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 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blemat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971800"/>
            <a:ext cx="160020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evas realidades Terapéu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Y dónde está lo crítico?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udiar a la ciencia de forma científica, es como querer mirar el ojo con el que se mira (Maturana y Varela 2006)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sólo es posible creyendo que una representación del ojo con el que miramos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s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el ojo con el que miram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a realidad no sólo surge de las acciones humanas, sino que surge de una experiencia localizada en un cuer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o no significa renunciar a conocer los artefactos a través de los cuales conocemos (Haraway 1995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esde la experiencia, de conocer al ser humano como objeto, se genera un cambio en la estructura fundamental de la experiencia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l reconocimiento de nuestra posición no debe ser desde afuera (no mirando a una representación de nosotros mismos en un mapa de relaciones), sino que desde la metáfora de la articulación (Haraway 1995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uen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rocesos de re configuración de lo social y de la subjetividad: la reforma a la salud mental y la psiquiatría en Ch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os aportes de las miradas críticas: Del encierro de la locura a la psicologización del ser human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a ficción como realida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a construcción de realidad en un Centro de Salud Mental Comunitario.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Procesos de re configuración de lo social y de la subjetividad: la reforma a la salud mental y la psiquiatría en Chil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590920"/>
            <a:ext cx="152424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forma a la salu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438280"/>
            <a:ext cx="152424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Cambio en la gubernamentalidad (Rose 1997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276720"/>
            <a:ext cx="137160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configuración del objeto de gobiern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167652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ransformación de la mentalidad para gobern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514600"/>
            <a:ext cx="137160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 Nacional de Salud Mental y Psiquiatr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495680"/>
            <a:ext cx="106704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ujetos de interven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648320"/>
            <a:ext cx="114300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tervento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038480"/>
            <a:ext cx="121896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blemas de salu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9436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059440"/>
            <a:ext cx="807696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Arrau, F. (200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onceptualización del plan de acceso universal con garantías explícitas (AUGE), eje de la actual reforma a la salud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Comité de Estudios de Anticipación ed.). 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Santiago, Chile: Biblioteca del Congreso Nacional de Chile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Barry, A., Osborne, T., &amp; Rose, N. (1996). In Barry A., Osborne T. and Rose N. (Eds.),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Foucault and political reason: Liberasm, neo-liberalims and rationalities of government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London: University College London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Brown, B., Crawford, P. (2003).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The clinical governance of the soul:‘deep anagement’ and the self-regulating subject in integrated community mental health teams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Social Science &amp; Medicine 56 (2003) 67–81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MINSAL. (2006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Plan nacional de salud mental y psiquiatrí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Gobierno de Chile, Ministerio de Salud ed.). Santiago, Chile: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Montenegro, M. (200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onocimientos, agentes y articulaciones: Una mirada situada a la intervención social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 Programa de Doctorat en Psicologia Social. Universitat Autònoma de Barcelona)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Sandoval, J. (200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iudadanía, "gobierno" de la subjetividad y políticas sociales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Última Década,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(Número 17), 161-177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 Nacional de Salud mental y Psiquiatrí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pósito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Contribuir a que las personas, las familias y las comunidades alcancen y mantengan la mayor capacidad posible para interactuar entre sí y con el medio ambiente, de modo de promover el bienestar subjetivo, el desarrollo y uso óptimo de sus potencialidades psicológicas, cognitivas, afectivas y relacionales, el logro de sus metas individuales y colectivas, en concordancia con la justicia y el bien común.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 Nacional de Salud mental y Psiquiatrí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 la institución a la red, del paciente al usu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 de servicios: diversidad, igualdad, cooperación, coordinación, efectividad, territorialida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quipos de Salud Mental y Psiquiatría Ambulatori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o articuladores entre los diferentes actores de la 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010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Los aportes de las miradas críticas: Del encierro de la locura a la psicologización del ser humano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514600"/>
            <a:ext cx="1676520" cy="824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cura como enfermedad mental (Foucault 1976, 1979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352680"/>
            <a:ext cx="91440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 cín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3352680"/>
            <a:ext cx="129528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l sujeto/obje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4648320"/>
            <a:ext cx="99072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siquiatr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657600"/>
            <a:ext cx="167652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configuración del objeto de la medici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4572000"/>
            <a:ext cx="99036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sicolog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572000"/>
            <a:ext cx="106704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Técnicas terapeutic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334120"/>
            <a:ext cx="8076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76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Historia de la locura en la época clásic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[Histoire de la folie à l´âge classique] (2ª ed. ed.). México D. F.: Fondo de Cultura Económica.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Foucault, M. (1979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Nacimiento de la biopolític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(pp. 209-215)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8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Vigilar y castigar: Nacimiento de la prisión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7ª ed. ed.).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adrid: Siglo Veintiuno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Rivero, I. (2005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Ciencia "PSI", subjetividad y gobierno. una aproximación genealógica a la producción de subjetividades "psi" en la modernidad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Departament de Psicología de la Salut i Psicología Social. Unitat de Psicología Social. Facultat de Psicología. Universitat Autònoma de Barcelona.)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Rose, N. (1997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El gobierno de las democracias liberales "avanzadas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": Del liberalismo al neoliberalismo.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rchipiélago. Cuadernos Crítica De La Cultura, verano (29), 25-40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Rose, N. (1999).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Power of freedom. reframing political thought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London: Cambridge University Press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incorporar la dimensión semiótico material en la metodologí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hacer una investigación que de cuenta de la generación de realidad que ocurre en la intervención social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incorporar mi propia visión de la realidad en la investigació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generar un conocimiento situado desde la posición de interventor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erapia y Poder: Techné y Ethos 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(Rose 2007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549160"/>
            <a:ext cx="76932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lugar de ver las prácticas actuales de psicoterapia como una aplicación o desaplicación de la teoría terapéutica, mi punto de partida es contemplar la realidad de las prácticas terapéuticas actualmente existentes tal como funcionan”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bjetivos de la investig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escribir las prácticas de los Equipos de Salud Mental y Psiquiatría Ambulatorio (ESMPA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y analizar los tipos de subjetividades que se elaboran a partir de estas prácticas, tanto de los profesionales interventores, como de los sujetos objetos de sus intervencio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relaciones entre los procesos de gubernamentalidad neoliberal, la configuración de estas prácticas y las subjetividades que se generan a partir de las práctica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efectos y posibilidades de los procesos de subjetivación y de los procesos de gubernamentalidad que se relacionan con las prácticas de los equipos de salud mental y psiquiatría ambulatori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mena</cp:lastModifiedBy>
  <dcterms:modified xsi:type="dcterms:W3CDTF">2009-07-27T22:14:0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