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635-5C89-485A-BC61-A44D3502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BC1-3E53-4C81-B663-A47F4D8F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54C-1063-41C7-8C6C-52E1CDAD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F2F-30DF-47AE-B40F-967F1DEA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2CB8-29A7-4E08-BDD5-74FD2263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574F-B1B5-4CBB-AD81-75177191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4648-0D52-4840-A795-C880723F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B7B0-7400-404D-B3E7-3414596C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2A1F-678E-41C7-AD8C-B288393E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2E20-F349-4918-A71D-0242DA2B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3219-B623-4383-802B-BFFE2E59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E41-4C96-42D8-9FF5-64AB15F2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CF13-C1D8-4782-AAF8-69823CF6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2B7B-33A3-419D-BA59-1C3764C5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6729-DA52-455C-8C03-A03330BF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D00D-496C-4712-A5D4-33EBE4DE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1625-50BA-41A7-B9B5-4829F764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3AC-BDF4-48BE-8457-763565B3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2C9-DFE0-4B7E-9AF6-0B6E4BB2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7F3-6C34-425C-9445-D9530A52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60C-93AA-4227-9558-C8CA96C1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47A-7478-4FFA-BE4B-F1B012AD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764-4D65-41C9-8BEA-F878D8AC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EFE-DA75-4318-9E40-96F18E87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80AC-7D6B-40F5-83BB-8AEEC93FA78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424A-01EE-4F69-8E0C-2AB7850C2F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reforma a la salud mental y la psiquiatría en Chile: Del diagnóstico a la estadística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Arial"/>
              </a:rPr>
              <a:t>Jimena Carrasco M.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Arial"/>
              </a:rPr>
              <a:t>Doctor (c) Psicología Social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Arial"/>
              </a:rPr>
              <a:t>Universidad Autónoma de Barcelona.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entro de Salud Mental Comunitar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V.       DEFINIC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 Centre de Salud Mental Comunitaria es un establecimiento de atención ambulatoria, especializado en Salud Mental y Psiquiatría, integrado a la Red de Salud General y a la Red de Salud Mental y Psiquiatrí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baja con una población beneficiaria referida por la red asistencial y que desarrolla, de acuerdo a sus funciones, acciones de promoción, prevención, tratamiento, rehabilitación y reinserción social en personas con problemas y trastornes de su salud mental de moderados a sever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MINSAL (2008) NORMA TECNICA PARA LA IMPLJEMENTACION Y FUNCIONAMIENTO DE CENTROS DE SALUD MENTAL COMUNITARI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entro de Salud Mental Comunitar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2578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La ficción como realidad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3276720"/>
            <a:ext cx="1981440" cy="6415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Extracción de un referente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sde la experiencia a la distanc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362320"/>
            <a:ext cx="1524240" cy="641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Trabajo etnográfico en el laboratorio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 (Latour, 2001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3809880"/>
            <a:ext cx="1676520" cy="736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reación de hechos positivo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Visibles/enunciab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3352680"/>
            <a:ext cx="1219320" cy="459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aturaleza: Objeto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/suje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4800600"/>
            <a:ext cx="990720" cy="641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alidad Científica -terapéu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638680"/>
            <a:ext cx="79246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Latour, B., (2001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La esperanza de Pandora. Ensayos sobre la realidad de los estudios de la ciencia. 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: Gedisa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Foucault, M. (1991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El nacimiento de la clínica: Una arqueología de la mirada médica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 (14ª ed.). México D. F.: Siglo XXI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Goffman, E. (1959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La presentación de la persona en la vida cotidiana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. Madrid: H. F. Martínez de Murguía, DL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Rose, N. (2007),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Terapia y poder: Techné y ethos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Archipiélago. Cuadernos Crítica De La Cultura, Septiembre (76) 101-124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3200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Arial"/>
              </a:rPr>
              <a:t>Lo natural hecho social: el signo extraído de la materia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736560"/>
            <a:ext cx="8153280" cy="6121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95480" y="2438280"/>
            <a:ext cx="327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ESAM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ciones como hechos positivo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4876920"/>
            <a:ext cx="2971800" cy="6426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Encargado terapéu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Dupla Psicosoc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3733920"/>
            <a:ext cx="3047760" cy="9169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sc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Visita Domiciliar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Trabajo con los territor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990720"/>
            <a:ext cx="121896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1066680"/>
            <a:ext cx="76176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990720"/>
            <a:ext cx="160020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.S. Valdiv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3962520"/>
            <a:ext cx="1219320" cy="4590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tracción del referent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752480" y="2590920"/>
            <a:ext cx="0" cy="13716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4419720"/>
            <a:ext cx="0" cy="76176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22096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stadís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2578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alidad Terapéu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736560"/>
            <a:ext cx="8153280" cy="6121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00400" y="914400"/>
            <a:ext cx="243828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lidad Terapéu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895480"/>
            <a:ext cx="2666880" cy="20142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nstrucción de historias y búsqueda de Conexion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smedical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 responsabi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oblemat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1600200"/>
            <a:ext cx="2133720" cy="9169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trastienda como actuación de equi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971800"/>
            <a:ext cx="1447920" cy="36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agnós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2895480"/>
            <a:ext cx="1371600" cy="36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stadís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5181480"/>
            <a:ext cx="3276720" cy="9169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scripción de hechos como medio de cooperación dramá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736560"/>
            <a:ext cx="8153280" cy="6121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352680" y="1295280"/>
            <a:ext cx="1981440" cy="6426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uevos hechos posi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2362320"/>
            <a:ext cx="68580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4191120"/>
            <a:ext cx="129528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rven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4191120"/>
            <a:ext cx="114300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uar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105520"/>
            <a:ext cx="2971800" cy="6426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Encargado terapéu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Dupla Psicosoc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5105520"/>
            <a:ext cx="2590560" cy="11912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smedical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 responsabi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oblemat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971800"/>
            <a:ext cx="1600200" cy="9169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uevas realidades Terapéutic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Y dónde está lo crítico?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udiar a la ciencia de forma científica, es como querer mirar el ojo con el que se mira (Maturana y Varela 2006)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sólo es posible creyendo que una representación del ojo con el que miramos 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s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el ojo con el que miram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La realidad no sólo surge de las acciones humanas, sino que surge de una experiencia localizada en un cuer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o no significa renunciar a conocer los artefactos a través de los cuales conocemos (Haraway 1995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Desde la experiencia, de conocer al ser humano como objeto, se genera un cambio en la estructura fundamental de la experiencia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l reconocimiento de nuestra posición no debe ser desde afuera (no mirando a una representación de nosotros mismos en un mapa de relaciones), sino que desde la metáfora de la articulación (Haraway 1995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uent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Procesos de re configuración de lo social y de la subjetividad: la reforma a la salud mental y la psiquiatría en Chile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Los aportes de las miradas críticas: Del encierro de la locura a la psicologización del ser humano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La ficción como realidad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La construcción de realidad en un Centro de Salud Mental Comunitario.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Procesos de re configuración de lo social y de la subjetividad: la reforma a la salud mental y la psiquiatría en Chil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590920"/>
            <a:ext cx="1524240" cy="27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forma a la salu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2438280"/>
            <a:ext cx="1524240" cy="641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Cambio en la gubernamentalidad (Rose 1997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3276720"/>
            <a:ext cx="1371600" cy="641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configuración del objeto de gobiern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1676520" cy="641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ransformación de la mentalidad para gobern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514600"/>
            <a:ext cx="1371600" cy="641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 Nacional de Salud Mental y Psiquiatr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4495680"/>
            <a:ext cx="1067040" cy="459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ujetos de interven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4648320"/>
            <a:ext cx="1143000" cy="276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tervento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038480"/>
            <a:ext cx="1218960" cy="459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blemas de salu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94360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059440"/>
            <a:ext cx="807696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Arrau, F. (2002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Conceptualización del plan de acceso universal con garantías explícitas (AUGE), eje de la actual reforma a la salud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 (Comité de Estudios de Anticipación ed.). 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Santiago, Chile: Biblioteca del Congreso Nacional de Chile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Barry, A., Osborne, T., &amp; Rose, N. (1996). In Barry A., Osborne T. and Rose N. (Eds.), </a:t>
            </a:r>
            <a:r>
              <a:rPr b="0" i="1" lang="en-US" sz="900" spc="-1" strike="noStrike">
                <a:solidFill>
                  <a:srgbClr val="003366"/>
                </a:solidFill>
                <a:latin typeface="Arial"/>
              </a:rPr>
              <a:t>Foucault and political reason: Liberasm, neo-liberalims and rationalities of government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. London: University College London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Brown, B., Crawford, P. (2003). </a:t>
            </a:r>
            <a:r>
              <a:rPr b="0" i="1" lang="en-US" sz="900" spc="-1" strike="noStrike">
                <a:solidFill>
                  <a:srgbClr val="003366"/>
                </a:solidFill>
                <a:latin typeface="Arial"/>
              </a:rPr>
              <a:t>The clinical governance of the soul:‘deep anagement’ and the self-regulating subject in integrated community mental health teams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. Social Science &amp; Medicine 56 (2003) 67–81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MINSAL. (2006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Plan nacional de salud mental y psiquiatría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 (Gobierno de Chile, Ministerio de Salud ed.). Santiago, Chile: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Montenegro, M. (2001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Conocimientos, agentes y articulaciones: Una mirada situada a la intervención social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. Programa de Doctorat en Psicologia Social. Universitat Autònoma de Barcelona)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Sandoval, J. (2002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Ciudadanía, "gobierno" de la subjetividad y políticas sociales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Última Década,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(Número 17), 161-177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 Nacional de Salud mental y Psiquiatrí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pósito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Contribuir a que las personas, las familias y las comunidades alcancen y mantengan la mayor capacidad posible para interactuar entre sí y con el medio ambiente, de modo de promover el bienestar subjetivo, el desarrollo y uso óptimo de sus potencialidades psicológicas, cognitivas, afectivas y relacionales, el logro de sus metas individuales y colectivas, en concordancia con la justicia y el bien común.”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 Nacional de Salud mental y Psiquiatrí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 la institución a la red, del paciente al usu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 de servicios: diversidad, igualdad, cooperación, coordinación, efectividad, territorialida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quipos de Salud Mental y Psiquiatría Ambulatori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o articuladores entre los diferentes actores de la r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010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Los aportes de las miradas críticas: Del encierro de la locura a la psicologización del ser humano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514600"/>
            <a:ext cx="1676520" cy="8240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cura como enfermedad mental (Foucault 1976, 1979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352680"/>
            <a:ext cx="914400" cy="27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 cín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3352680"/>
            <a:ext cx="1295280" cy="27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l sujeto/obje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4648320"/>
            <a:ext cx="990720" cy="276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siquiatr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657600"/>
            <a:ext cx="1676520" cy="459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configuración del objeto de la medici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4572000"/>
            <a:ext cx="990360" cy="276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sicolog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4572000"/>
            <a:ext cx="1067040" cy="459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Técnicas terapeutic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334120"/>
            <a:ext cx="8076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Foucault, M. (1976). 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Historia de la locura en la época clásica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[Histoire de la folie à l´âge classique] (2ª ed. ed.). México D. F.: Fondo de Cultura Económica.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Foucault, M. (1979). 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Nacimiento de la biopolítica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(pp. 209-215)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Foucault, M. (1982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Vigilar y castigar: Nacimiento de la prisión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 (7ª ed. ed.). 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Madrid: Siglo Veintiuno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Rivero, I. (2005). 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Ciencia "PSI", subjetividad y gobierno. una aproximación genealógica a la producción de subjetividades "psi" en la modernidad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Departament de Psicología de la Salut i Psicología Social. Unitat de Psicología Social. Facultat de Psicología. Universitat Autònoma de Barcelona.)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Rose, N. (1997). 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El gobierno de las democracias liberales "avanzadas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": Del liberalismo al neoliberalismo.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rchipiélago. Cuadernos Crítica De La Cultura, verano (29), 25-40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Rose, N. (1999). </a:t>
            </a:r>
            <a:r>
              <a:rPr b="0" i="1" lang="en-US" sz="900" spc="-1" strike="noStrike">
                <a:solidFill>
                  <a:srgbClr val="003366"/>
                </a:solidFill>
                <a:latin typeface="Arial"/>
              </a:rPr>
              <a:t>Power of freedom. reframing political thought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. London: Cambridge University Press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a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¿Cómo incorporar la dimensión semiótico material en la metodologí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¿Cómo hacer una investigación que de cuenta de la generación de realidad que ocurre en la intervención social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¿Cómo incorporar mi propia visión de la realidad en la investigació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¿Cómo generar un conocimiento situado desde la posición de interventor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Terapia y Poder: Techné y Ethos </a:t>
            </a:r>
            <a:br>
              <a:rPr sz="3200"/>
            </a:b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(Rose 2007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549160"/>
            <a:ext cx="76932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lugar de ver las prácticas actuales de psicoterapia como una aplicación o desaplicación de la teoría terapéutica, mi punto de partida es contemplar la realidad de las prácticas terapéuticas actualmente existentes tal como funcionan”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Objetivos de la investig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Describir las prácticas de los Equipos de Salud Mental y Psiquiatría Ambulatorio (ESMPA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ablecer y analizar los tipos de subjetividades que se elaboran a partir de estas prácticas, tanto de los profesionales interventores, como de los sujetos objetos de sus intervencio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ablecer relaciones entre los procesos de gubernamentalidad neoliberal, la configuración de estas prácticas y las subjetividades que se generan a partir de las práctica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ablecer efectos y posibilidades de los procesos de subjetivación y de los procesos de gubernamentalidad que se relacionan con las prácticas de los equipos de salud mental y psiquiatría ambulatori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mena</cp:lastModifiedBy>
  <dcterms:modified xsi:type="dcterms:W3CDTF">2009-07-27T22:14:0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