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9AF85-AF9B-44A0-AD3D-C3547727F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64F35-06FF-4288-A6F0-16EA0D76D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B220B-DEE9-439C-9CF7-12EB3A262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B07D6-8A61-4828-9018-AD196277A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7B977-E24C-4FE0-9B53-17FFC59A4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D72FE-8FE0-4B8C-ABB9-BE7876548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93F8C-A1A7-44BC-95A6-FFEA1CB04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62321-1045-4D83-8912-9C56DD409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65F66-38A9-4E4A-ABA4-25CD7D853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32BC8-C388-42FC-9E4D-BEABF9A6F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F5828-29AF-49C7-A3DD-52404DC49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D2B89-6610-49B7-9BF5-380BD63F1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51967-B4B1-47F6-8486-25A03F817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95D06-7527-4872-8E4D-E9327F603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E39A3-16B7-45E1-B058-AD5292052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3D4AA-9791-4B09-85E0-2CCE2ADFB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A60C7-0934-4B71-B0A7-A6C97A46B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13C8F-1E9A-404D-AA23-70EBCB16D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935B6-400E-424C-96D7-3B13195B4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D8979-34F1-4E7F-B98D-84B41E7BD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E2A73-A2D3-427F-B3A2-A6567CAB0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7B1EA-341E-4C7B-B0E5-4BB520B34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43D11-A102-49BD-8DA8-145FFBB9A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57A53-275C-447F-8FB4-61570727E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DC037-C5D2-4192-AAD7-6DD5AF8C523C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5A5E3-3D64-4CD6-BC7D-2D7CAFAE3F18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a reforma a la salud mental y la psiquiatría en Chile: Del diagnóstico a la estadística.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6666"/>
                </a:solidFill>
                <a:latin typeface="Arial"/>
              </a:rPr>
              <a:t>Jimena Carrasco M.</a:t>
            </a:r>
            <a:endParaRPr b="0" lang="en-US" sz="18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6666"/>
                </a:solidFill>
                <a:latin typeface="Arial"/>
              </a:rPr>
              <a:t>Doctor (c) Psicología Social </a:t>
            </a:r>
            <a:endParaRPr b="0" lang="en-US" sz="18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6666"/>
                </a:solidFill>
                <a:latin typeface="Arial"/>
              </a:rPr>
              <a:t>Universidad Autónoma de Barcelona.</a:t>
            </a:r>
            <a:endParaRPr b="0" lang="en-US" sz="1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Centro de Salud Mental Comunitaria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V.       DEFINIC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El Centre de Salud Mental Comunitaria es un establecimiento de atención ambulatoria, especializado en Salud Mental y Psiquiatría, integrado a la Red de Salud General y a la Red de Salud Mental y Psiquiatría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rabaja con una población beneficiaria referida por la red asistencial y que desarrolla, de acuerdo a sus funciones, acciones de promoción, prevención, tratamiento, rehabilitación y reinserción social en personas con problemas y trastornes de su salud mental de moderados a severos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3366"/>
                </a:solidFill>
                <a:latin typeface="Arial"/>
              </a:rPr>
              <a:t>MINSAL (2008) NORMA TECNICA PARA LA IMPLJEMENTACION Y FUNCIONAMIENTO DE CENTROS DE SALUD MENTAL COMUNITARIA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Centro de Salud Mental Comunitaria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981080" y="2438280"/>
            <a:ext cx="5257800" cy="394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6666"/>
                </a:solidFill>
                <a:latin typeface="Arial"/>
              </a:rPr>
              <a:t>La ficción como realidad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523880" y="3276720"/>
            <a:ext cx="1981440" cy="64152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3366"/>
                </a:solidFill>
                <a:latin typeface="Arial"/>
              </a:rPr>
              <a:t>Extracción de un referente </a:t>
            </a: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desde la experiencia a la distancia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038480" y="2362320"/>
            <a:ext cx="1524240" cy="6415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Trabajo etnográfico en el laboratorio</a:t>
            </a:r>
            <a:r>
              <a:rPr b="0" lang="es-ES" sz="1200" spc="-1" strike="noStrike">
                <a:solidFill>
                  <a:srgbClr val="003366"/>
                </a:solidFill>
                <a:latin typeface="Arial"/>
              </a:rPr>
              <a:t> (Latour, 2001)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038480" y="3809880"/>
            <a:ext cx="1676520" cy="73692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Creación de hechos positivo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Visibles/enunciable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400800" y="3352680"/>
            <a:ext cx="1219320" cy="45900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Naturaleza: Objeto</a:t>
            </a:r>
            <a:r>
              <a:rPr b="0" lang="es-ES" sz="1200" spc="-1" strike="noStrike">
                <a:solidFill>
                  <a:srgbClr val="003366"/>
                </a:solidFill>
                <a:latin typeface="Arial"/>
              </a:rPr>
              <a:t>/sujeto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343400" y="4800600"/>
            <a:ext cx="990720" cy="64152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Realidad Científica -terapéutica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5638680"/>
            <a:ext cx="7924680" cy="85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3366"/>
                </a:solidFill>
                <a:latin typeface="Arial"/>
              </a:rPr>
              <a:t>Latour, B., (2001). </a:t>
            </a:r>
            <a:r>
              <a:rPr b="0" i="1" lang="es-ES_tradnl" sz="900" spc="-1" strike="noStrike">
                <a:solidFill>
                  <a:srgbClr val="003366"/>
                </a:solidFill>
                <a:latin typeface="Arial"/>
              </a:rPr>
              <a:t>La esperanza de Pandora. Ensayos sobre la realidad de los estudios de la ciencia. </a:t>
            </a:r>
            <a:r>
              <a:rPr b="0" lang="es-ES_tradnl" sz="900" spc="-1" strike="noStrike">
                <a:solidFill>
                  <a:srgbClr val="003366"/>
                </a:solidFill>
                <a:latin typeface="Arial"/>
              </a:rPr>
              <a:t>: Gedisa</a:t>
            </a:r>
            <a:r>
              <a:rPr b="0" lang="es-ES" sz="9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3366"/>
                </a:solidFill>
                <a:latin typeface="Arial"/>
              </a:rPr>
              <a:t>Foucault, M. (1991). </a:t>
            </a:r>
            <a:r>
              <a:rPr b="0" i="1" lang="es-ES_tradnl" sz="900" spc="-1" strike="noStrike">
                <a:solidFill>
                  <a:srgbClr val="003366"/>
                </a:solidFill>
                <a:latin typeface="Arial"/>
              </a:rPr>
              <a:t>El nacimiento de la clínica: Una arqueología de la mirada médica</a:t>
            </a:r>
            <a:r>
              <a:rPr b="0" lang="es-ES_tradnl" sz="900" spc="-1" strike="noStrike">
                <a:solidFill>
                  <a:srgbClr val="003366"/>
                </a:solidFill>
                <a:latin typeface="Arial"/>
              </a:rPr>
              <a:t> (14ª ed.). México D. F.: Siglo XXI.</a:t>
            </a:r>
            <a:r>
              <a:rPr b="0" lang="es-ES" sz="9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3366"/>
                </a:solidFill>
                <a:latin typeface="Arial"/>
              </a:rPr>
              <a:t>Goffman, E. (1959). </a:t>
            </a:r>
            <a:r>
              <a:rPr b="0" i="1" lang="es-ES_tradnl" sz="900" spc="-1" strike="noStrike">
                <a:solidFill>
                  <a:srgbClr val="003366"/>
                </a:solidFill>
                <a:latin typeface="Arial"/>
              </a:rPr>
              <a:t>La presentación de la persona en la vida cotidiana</a:t>
            </a:r>
            <a:r>
              <a:rPr b="0" lang="es-ES_tradnl" sz="900" spc="-1" strike="noStrike">
                <a:solidFill>
                  <a:srgbClr val="003366"/>
                </a:solidFill>
                <a:latin typeface="Arial"/>
              </a:rPr>
              <a:t>. Madrid: H. F. Martínez de Murguía, DL</a:t>
            </a:r>
            <a:r>
              <a:rPr b="0" lang="es-ES" sz="9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3366"/>
                </a:solidFill>
                <a:latin typeface="Arial"/>
              </a:rPr>
              <a:t>Rose, N. (2007), </a:t>
            </a:r>
            <a:r>
              <a:rPr b="0" i="1" lang="es-ES_tradnl" sz="900" spc="-1" strike="noStrike">
                <a:solidFill>
                  <a:srgbClr val="003366"/>
                </a:solidFill>
                <a:latin typeface="Arial"/>
              </a:rPr>
              <a:t>Terapia y poder: Techné y ethos</a:t>
            </a:r>
            <a:r>
              <a:rPr b="0" lang="es-ES_tradnl" sz="900" spc="-1" strike="noStrike">
                <a:solidFill>
                  <a:srgbClr val="003366"/>
                </a:solidFill>
                <a:latin typeface="Arial"/>
              </a:rPr>
              <a:t>.</a:t>
            </a:r>
            <a:r>
              <a:rPr b="0" i="1" lang="es-ES_tradnl" sz="9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s-ES_tradnl" sz="900" spc="-1" strike="noStrike">
                <a:solidFill>
                  <a:srgbClr val="003366"/>
                </a:solidFill>
                <a:latin typeface="Arial"/>
              </a:rPr>
              <a:t>Archipiélago. Cuadernos Crítica De La Cultura, Septiembre (76) 101-124.</a:t>
            </a:r>
            <a:r>
              <a:rPr b="0" lang="es-ES" sz="9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886200" y="32004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66"/>
                </a:solidFill>
                <a:latin typeface="Arial"/>
              </a:rPr>
              <a:t>Lo natural hecho social: el signo extraído de la materia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762120" y="736560"/>
            <a:ext cx="8153280" cy="612144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2895480" y="2438280"/>
            <a:ext cx="32767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CESAMC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Acciones como hechos positivos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048120" y="4876920"/>
            <a:ext cx="2971800" cy="642600"/>
          </a:xfrm>
          <a:prstGeom prst="rect">
            <a:avLst/>
          </a:prstGeom>
          <a:noFill/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 Encargado terapéutic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 Dupla Psicosocia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048120" y="3733920"/>
            <a:ext cx="3047760" cy="916920"/>
          </a:xfrm>
          <a:prstGeom prst="rect">
            <a:avLst/>
          </a:prstGeom>
          <a:noFill/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 Rescat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 Visita Domiciliari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 Trabajo con los territorio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990720" y="990720"/>
            <a:ext cx="1218960" cy="368280"/>
          </a:xfrm>
          <a:prstGeom prst="rect">
            <a:avLst/>
          </a:prstGeom>
          <a:noFill/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CONAC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191120" y="1066680"/>
            <a:ext cx="761760" cy="368280"/>
          </a:xfrm>
          <a:prstGeom prst="rect">
            <a:avLst/>
          </a:prstGeom>
          <a:noFill/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AP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705720" y="990720"/>
            <a:ext cx="1600200" cy="368280"/>
          </a:xfrm>
          <a:prstGeom prst="rect">
            <a:avLst/>
          </a:prstGeom>
          <a:noFill/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S.S. Valdivi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143000" y="3962520"/>
            <a:ext cx="1219320" cy="459000"/>
          </a:xfrm>
          <a:prstGeom prst="rect">
            <a:avLst/>
          </a:prstGeom>
          <a:noFill/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Extracción del referente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1752480" y="2590920"/>
            <a:ext cx="0" cy="1371600"/>
          </a:xfrm>
          <a:prstGeom prst="line">
            <a:avLst/>
          </a:prstGeom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752480" y="4419720"/>
            <a:ext cx="0" cy="761760"/>
          </a:xfrm>
          <a:prstGeom prst="line">
            <a:avLst/>
          </a:prstGeom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219320" y="220968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Estadística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295280" y="5257800"/>
            <a:ext cx="99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Realidad Terapéutica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762120" y="736560"/>
            <a:ext cx="8153280" cy="612144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3200400" y="914400"/>
            <a:ext cx="2438280" cy="368280"/>
          </a:xfrm>
          <a:prstGeom prst="rect">
            <a:avLst/>
          </a:prstGeom>
          <a:noFill/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ealidad Terapéutic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048120" y="2895480"/>
            <a:ext cx="2666880" cy="2014200"/>
          </a:xfrm>
          <a:prstGeom prst="rect">
            <a:avLst/>
          </a:prstGeom>
          <a:noFill/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Construcción de historias y búsqueda de Conexiones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Participació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Desmedicalizació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Co responsabilidad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Problematizació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352680" y="1600200"/>
            <a:ext cx="2133720" cy="916920"/>
          </a:xfrm>
          <a:prstGeom prst="rect">
            <a:avLst/>
          </a:prstGeom>
          <a:noFill/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La trastienda como actuación de equip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066680" y="2971800"/>
            <a:ext cx="1447920" cy="368280"/>
          </a:xfrm>
          <a:prstGeom prst="rect">
            <a:avLst/>
          </a:prstGeom>
          <a:noFill/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Diagnóstic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477120" y="2895480"/>
            <a:ext cx="1371600" cy="368280"/>
          </a:xfrm>
          <a:prstGeom prst="rect">
            <a:avLst/>
          </a:prstGeom>
          <a:noFill/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Estadístic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743200" y="5181480"/>
            <a:ext cx="3276720" cy="916920"/>
          </a:xfrm>
          <a:prstGeom prst="rect">
            <a:avLst/>
          </a:prstGeom>
          <a:noFill/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Trascripción de hechos como medio de cooperación dramátic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762120" y="736560"/>
            <a:ext cx="8153280" cy="612144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3352680" y="1295280"/>
            <a:ext cx="1981440" cy="642600"/>
          </a:xfrm>
          <a:prstGeom prst="rect">
            <a:avLst/>
          </a:prstGeom>
          <a:noFill/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Nuevos hechos positivo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962520" y="2362320"/>
            <a:ext cx="685800" cy="368280"/>
          </a:xfrm>
          <a:prstGeom prst="rect">
            <a:avLst/>
          </a:prstGeom>
          <a:noFill/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VIF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19320" y="4191120"/>
            <a:ext cx="1295280" cy="368280"/>
          </a:xfrm>
          <a:prstGeom prst="rect">
            <a:avLst/>
          </a:prstGeom>
          <a:noFill/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Intervento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553080" y="4191120"/>
            <a:ext cx="1143000" cy="368280"/>
          </a:xfrm>
          <a:prstGeom prst="rect">
            <a:avLst/>
          </a:prstGeom>
          <a:noFill/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Usuario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143000" y="5105520"/>
            <a:ext cx="2971800" cy="642600"/>
          </a:xfrm>
          <a:prstGeom prst="rect">
            <a:avLst/>
          </a:prstGeom>
          <a:noFill/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 Encargado terapéutic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 Dupla Psicosocia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334120" y="5105520"/>
            <a:ext cx="2590560" cy="1191240"/>
          </a:xfrm>
          <a:prstGeom prst="rect">
            <a:avLst/>
          </a:prstGeom>
          <a:noFill/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33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Participació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Desmedicalizació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Co responsabilidad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Problematizació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581280" y="2971800"/>
            <a:ext cx="1600200" cy="916920"/>
          </a:xfrm>
          <a:prstGeom prst="rect">
            <a:avLst/>
          </a:prstGeom>
          <a:noFill/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Nuevas realidades Terapéutica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6666"/>
                </a:solidFill>
                <a:latin typeface="Arial"/>
              </a:rPr>
              <a:t>Y dónde está lo crítico?</a:t>
            </a:r>
            <a:r>
              <a:rPr b="1" lang="es-ES" sz="2400" spc="-1" strike="noStrike">
                <a:solidFill>
                  <a:srgbClr val="006666"/>
                </a:solidFill>
                <a:latin typeface="Arial"/>
              </a:rPr>
              <a:t> </a:t>
            </a:r>
            <a:br>
              <a:rPr sz="2400"/>
            </a:b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3366"/>
                </a:solidFill>
                <a:latin typeface="Arial"/>
              </a:rPr>
              <a:t>Estudiar a la ciencia de forma científica, es como querer mirar el ojo con el que se mira (Maturana y Varela 2006)</a:t>
            </a: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; </a:t>
            </a:r>
            <a:r>
              <a:rPr b="0" lang="es-ES_tradnl" sz="1800" spc="-1" strike="noStrike">
                <a:solidFill>
                  <a:srgbClr val="003366"/>
                </a:solidFill>
                <a:latin typeface="Arial"/>
              </a:rPr>
              <a:t>sólo es posible creyendo que una representación del ojo con el que miramos </a:t>
            </a:r>
            <a:r>
              <a:rPr b="1" lang="es-ES_tradnl" sz="1800" spc="-1" strike="noStrike">
                <a:solidFill>
                  <a:srgbClr val="003366"/>
                </a:solidFill>
                <a:latin typeface="Arial"/>
              </a:rPr>
              <a:t>es</a:t>
            </a:r>
            <a:r>
              <a:rPr b="0" lang="es-ES_tradnl" sz="1800" spc="-1" strike="noStrike">
                <a:solidFill>
                  <a:srgbClr val="003366"/>
                </a:solidFill>
                <a:latin typeface="Arial"/>
              </a:rPr>
              <a:t> el ojo con el que miramos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3366"/>
                </a:solidFill>
                <a:latin typeface="Arial"/>
              </a:rPr>
              <a:t>La realidad no sólo surge de las acciones humanas, sino que surge de una experiencia localizada en un cuerp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3366"/>
                </a:solidFill>
                <a:latin typeface="Arial"/>
              </a:rPr>
              <a:t>Esto no significa renunciar a conocer los artefactos a través de los cuales conocemos (Haraway 1995).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3366"/>
                </a:solidFill>
                <a:latin typeface="Arial"/>
              </a:rPr>
              <a:t>Desde la experiencia, de conocer al ser humano como objeto, se genera un cambio en la estructura fundamental de la experiencia.</a:t>
            </a: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3366"/>
                </a:solidFill>
                <a:latin typeface="Arial"/>
              </a:rPr>
              <a:t>El reconocimiento de nuestra posición no debe ser desde afuera (no mirando a una representación de nosotros mismos en un mapa de relaciones), sino que desde la metáfora de la articulación (Haraway 1995).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ecuento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66"/>
                </a:solidFill>
                <a:latin typeface="Arial"/>
              </a:rPr>
              <a:t>Procesos de re configuración de lo social y de la subjetividad: la reforma a la salud mental y la psiquiatría en Chile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66"/>
                </a:solidFill>
                <a:latin typeface="Arial"/>
              </a:rPr>
              <a:t>Los aportes de las miradas críticas: Del encierro de la locura a la psicologización del ser humano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66"/>
                </a:solidFill>
                <a:latin typeface="Arial"/>
              </a:rPr>
              <a:t>La ficción como realidad</a:t>
            </a: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66"/>
                </a:solidFill>
                <a:latin typeface="Arial"/>
              </a:rPr>
              <a:t>La construcción de realidad en un Centro de Salud Mental Comunitario.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1760" y="106632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6666"/>
                </a:solidFill>
                <a:latin typeface="Arial"/>
              </a:rPr>
              <a:t>Procesos de re configuración de lo social y de la subjetividad: la reforma a la salud mental y la psiquiatría en Chile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2590920"/>
            <a:ext cx="1524240" cy="2764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Reforma a la salud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809880" y="2438280"/>
            <a:ext cx="1524240" cy="64152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3366"/>
                </a:solidFill>
                <a:latin typeface="Arial"/>
              </a:rPr>
              <a:t>Cambio en la gubernamentalidad (Rose 1997)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981080" y="3276720"/>
            <a:ext cx="1371600" cy="64152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Reconfiguración del objeto de gobierno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715000" y="3429000"/>
            <a:ext cx="1676520" cy="64152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Transformación de la mentalidad para gobernar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858000" y="2514600"/>
            <a:ext cx="1371600" cy="6415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Plan Nacional de Salud Mental y Psiquiatría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981080" y="4495680"/>
            <a:ext cx="1067040" cy="45900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Sujetos de intervención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019920" y="4648320"/>
            <a:ext cx="1143000" cy="27648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Interventore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962520" y="4038480"/>
            <a:ext cx="1218960" cy="45900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Problemas de salud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04920" y="5943600"/>
            <a:ext cx="8458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33520" y="5059440"/>
            <a:ext cx="8076960" cy="181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3366"/>
                </a:solidFill>
                <a:latin typeface="Arial"/>
              </a:rPr>
              <a:t>Arrau, F. (2002). </a:t>
            </a:r>
            <a:r>
              <a:rPr b="0" i="1" lang="es-ES_tradnl" sz="900" spc="-1" strike="noStrike">
                <a:solidFill>
                  <a:srgbClr val="003366"/>
                </a:solidFill>
                <a:latin typeface="Arial"/>
              </a:rPr>
              <a:t>Conceptualización del plan de acceso universal con garantías explícitas (AUGE), eje de la actual reforma a la salud</a:t>
            </a:r>
            <a:r>
              <a:rPr b="0" lang="es-ES_tradnl" sz="900" spc="-1" strike="noStrike">
                <a:solidFill>
                  <a:srgbClr val="003366"/>
                </a:solidFill>
                <a:latin typeface="Arial"/>
              </a:rPr>
              <a:t> (Comité de Estudios de Anticipación ed.). </a:t>
            </a:r>
            <a:r>
              <a:rPr b="0" lang="es-ES" sz="900" spc="-1" strike="noStrike">
                <a:solidFill>
                  <a:srgbClr val="003366"/>
                </a:solidFill>
                <a:latin typeface="Arial"/>
              </a:rPr>
              <a:t>Santiago, Chile: Biblioteca del Congreso Nacional de Chile. </a:t>
            </a:r>
            <a:endParaRPr b="0" lang="en-US" sz="9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3366"/>
                </a:solidFill>
                <a:latin typeface="Arial"/>
              </a:rPr>
              <a:t>Barry, A., Osborne, T., &amp; Rose, N. (1996). In Barry A., Osborne T. and Rose N. (Eds.), </a:t>
            </a:r>
            <a:r>
              <a:rPr b="0" i="1" lang="en-US" sz="900" spc="-1" strike="noStrike">
                <a:solidFill>
                  <a:srgbClr val="003366"/>
                </a:solidFill>
                <a:latin typeface="Arial"/>
              </a:rPr>
              <a:t>Foucault and political reason: Liberasm, neo-liberalims and rationalities of government</a:t>
            </a:r>
            <a:r>
              <a:rPr b="0" lang="en-US" sz="900" spc="-1" strike="noStrike">
                <a:solidFill>
                  <a:srgbClr val="003366"/>
                </a:solidFill>
                <a:latin typeface="Arial"/>
              </a:rPr>
              <a:t>. London: University College London.</a:t>
            </a:r>
            <a:r>
              <a:rPr b="0" lang="es-ES" sz="9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3366"/>
                </a:solidFill>
                <a:latin typeface="Arial"/>
              </a:rPr>
              <a:t>Brown, B., Crawford, P. (2003). </a:t>
            </a:r>
            <a:r>
              <a:rPr b="0" i="1" lang="en-US" sz="900" spc="-1" strike="noStrike">
                <a:solidFill>
                  <a:srgbClr val="003366"/>
                </a:solidFill>
                <a:latin typeface="Arial"/>
              </a:rPr>
              <a:t>The clinical governance of the soul:‘deep anagement’ and the self-regulating subject in integrated community mental health teams</a:t>
            </a:r>
            <a:r>
              <a:rPr b="0" lang="en-US" sz="900" spc="-1" strike="noStrike">
                <a:solidFill>
                  <a:srgbClr val="003366"/>
                </a:solidFill>
                <a:latin typeface="Arial"/>
              </a:rPr>
              <a:t>. Social Science &amp; Medicine 56 (2003) 67–81</a:t>
            </a:r>
            <a:endParaRPr b="0" lang="en-US" sz="9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3366"/>
                </a:solidFill>
                <a:latin typeface="Arial"/>
              </a:rPr>
              <a:t>MINSAL. (2006). </a:t>
            </a:r>
            <a:r>
              <a:rPr b="0" i="1" lang="es-ES_tradnl" sz="900" spc="-1" strike="noStrike">
                <a:solidFill>
                  <a:srgbClr val="003366"/>
                </a:solidFill>
                <a:latin typeface="Arial"/>
              </a:rPr>
              <a:t>Plan nacional de salud mental y psiquiatría</a:t>
            </a:r>
            <a:r>
              <a:rPr b="0" lang="es-ES_tradnl" sz="900" spc="-1" strike="noStrike">
                <a:solidFill>
                  <a:srgbClr val="003366"/>
                </a:solidFill>
                <a:latin typeface="Arial"/>
              </a:rPr>
              <a:t> (Gobierno de Chile, Ministerio de Salud ed.). Santiago, Chile:</a:t>
            </a:r>
            <a:endParaRPr b="0" lang="en-US" sz="9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3366"/>
                </a:solidFill>
                <a:latin typeface="Arial"/>
              </a:rPr>
              <a:t>Montenegro, M. (2001). </a:t>
            </a:r>
            <a:r>
              <a:rPr b="0" i="1" lang="es-ES_tradnl" sz="900" spc="-1" strike="noStrike">
                <a:solidFill>
                  <a:srgbClr val="003366"/>
                </a:solidFill>
                <a:latin typeface="Arial"/>
              </a:rPr>
              <a:t>Conocimientos, agentes y articulaciones: Una mirada situada a la intervención social</a:t>
            </a:r>
            <a:r>
              <a:rPr b="0" lang="es-ES_tradnl" sz="900" spc="-1" strike="noStrike">
                <a:solidFill>
                  <a:srgbClr val="003366"/>
                </a:solidFill>
                <a:latin typeface="Arial"/>
              </a:rPr>
              <a:t>. Programa de Doctorat en Psicologia Social. Universitat Autònoma de Barcelona).</a:t>
            </a:r>
            <a:r>
              <a:rPr b="0" lang="es-ES" sz="9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3366"/>
                </a:solidFill>
                <a:latin typeface="Arial"/>
              </a:rPr>
              <a:t>Sandoval, J. (2002). </a:t>
            </a:r>
            <a:r>
              <a:rPr b="0" i="1" lang="es-ES_tradnl" sz="900" spc="-1" strike="noStrike">
                <a:solidFill>
                  <a:srgbClr val="003366"/>
                </a:solidFill>
                <a:latin typeface="Arial"/>
              </a:rPr>
              <a:t>Ciudadanía, "gobierno" de la subjetividad y políticas sociales</a:t>
            </a:r>
            <a:r>
              <a:rPr b="0" lang="es-ES_tradnl" sz="900" spc="-1" strike="noStrike">
                <a:solidFill>
                  <a:srgbClr val="003366"/>
                </a:solidFill>
                <a:latin typeface="Arial"/>
              </a:rPr>
              <a:t>.</a:t>
            </a:r>
            <a:r>
              <a:rPr b="0" i="1" lang="es-ES_tradnl" sz="9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s-ES_tradnl" sz="900" spc="-1" strike="noStrike">
                <a:solidFill>
                  <a:srgbClr val="003366"/>
                </a:solidFill>
                <a:latin typeface="Arial"/>
              </a:rPr>
              <a:t>Última Década,</a:t>
            </a:r>
            <a:r>
              <a:rPr b="0" i="1" lang="es-ES_tradnl" sz="9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s-ES_tradnl" sz="900" spc="-1" strike="noStrike">
                <a:solidFill>
                  <a:srgbClr val="003366"/>
                </a:solidFill>
                <a:latin typeface="Arial"/>
              </a:rPr>
              <a:t>(Número 17), 161-177.</a:t>
            </a:r>
            <a:r>
              <a:rPr b="0" lang="es-ES" sz="9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ntexto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lan Nacional de Salud mental y Psiquiatría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Propósito: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“Contribuir a que las personas, las familias y las comunidades alcancen y mantengan la mayor capacidad posible para interactuar entre sí y con el medio ambiente, de modo de promover el bienestar subjetivo, el desarrollo y uso óptimo de sus potencialidades psicológicas, cognitivas, afectivas y relacionales, el logro de sus metas individuales y colectivas, en concordancia con la justicia y el bien común.”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ntexto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lan Nacional de Salud mental y Psiquiatría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e la institución a la red, del paciente al usuario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ed de servicios: diversidad, igualdad, cooperación, coordinación, efectividad, territorialidad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quipos de Salud Mental y Psiquiatría Ambulatoria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omo articuladores entre los diferentes actores de la red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1523880"/>
            <a:ext cx="8001000" cy="6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6666"/>
                </a:solidFill>
                <a:latin typeface="Arial"/>
              </a:rPr>
              <a:t>Los aportes de las miradas críticas: Del encierro de la locura a la psicologización del ser humano</a:t>
            </a:r>
            <a:r>
              <a:rPr b="1" lang="es-ES" sz="3200" spc="-1" strike="noStrike">
                <a:solidFill>
                  <a:srgbClr val="006666"/>
                </a:solidFill>
                <a:latin typeface="Arial"/>
              </a:rPr>
              <a:t> 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2514600"/>
            <a:ext cx="1676520" cy="82404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Locura como enfermedad mental (Foucault 1976, 1979)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143000" y="3352680"/>
            <a:ext cx="914400" cy="2764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La cínica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3352680"/>
            <a:ext cx="1295280" cy="2764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El sujeto/objeto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752480" y="4648320"/>
            <a:ext cx="990720" cy="27648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Psiquiatría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581280" y="3657600"/>
            <a:ext cx="1676520" cy="45900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Reconfiguración del objeto de la medicina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019920" y="4572000"/>
            <a:ext cx="990360" cy="27648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Psicología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809880" y="4572000"/>
            <a:ext cx="1067040" cy="45900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3366"/>
                </a:solidFill>
                <a:latin typeface="Arial"/>
              </a:rPr>
              <a:t>Técnicas terapeutica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33520" y="5334120"/>
            <a:ext cx="80769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3366"/>
                </a:solidFill>
                <a:latin typeface="Arial"/>
              </a:rPr>
              <a:t>Foucault, M. (1976). </a:t>
            </a:r>
            <a:r>
              <a:rPr b="0" i="1" lang="es-ES" sz="900" spc="-1" strike="noStrike">
                <a:solidFill>
                  <a:srgbClr val="003366"/>
                </a:solidFill>
                <a:latin typeface="Arial"/>
              </a:rPr>
              <a:t>Historia de la locura en la época clásica</a:t>
            </a:r>
            <a:r>
              <a:rPr b="0" lang="es-ES" sz="900" spc="-1" strike="noStrike">
                <a:solidFill>
                  <a:srgbClr val="003366"/>
                </a:solidFill>
                <a:latin typeface="Arial"/>
              </a:rPr>
              <a:t> [Histoire de la folie à l´âge classique] (2ª ed. ed.). México D. F.: Fondo de Cultura Económica.</a:t>
            </a: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s-ES" sz="900" spc="-1" strike="noStrike">
                <a:solidFill>
                  <a:srgbClr val="003366"/>
                </a:solidFill>
                <a:latin typeface="Arial"/>
              </a:rPr>
              <a:t>Foucault, M. (1979). </a:t>
            </a:r>
            <a:r>
              <a:rPr b="0" i="1" lang="es-ES" sz="900" spc="-1" strike="noStrike">
                <a:solidFill>
                  <a:srgbClr val="003366"/>
                </a:solidFill>
                <a:latin typeface="Arial"/>
              </a:rPr>
              <a:t>Nacimiento de la biopolítica</a:t>
            </a:r>
            <a:r>
              <a:rPr b="0" lang="es-ES" sz="900" spc="-1" strike="noStrike">
                <a:solidFill>
                  <a:srgbClr val="003366"/>
                </a:solidFill>
                <a:latin typeface="Arial"/>
              </a:rPr>
              <a:t>. </a:t>
            </a:r>
            <a:r>
              <a:rPr b="0" lang="en-US" sz="900" spc="-1" strike="noStrike">
                <a:solidFill>
                  <a:srgbClr val="003366"/>
                </a:solidFill>
                <a:latin typeface="Arial"/>
              </a:rPr>
              <a:t>(pp. 209-215) </a:t>
            </a:r>
            <a:endParaRPr b="0" lang="en-US" sz="9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3366"/>
                </a:solidFill>
                <a:latin typeface="Arial"/>
              </a:rPr>
              <a:t>Foucault, M. (1982). </a:t>
            </a:r>
            <a:r>
              <a:rPr b="0" i="1" lang="es-ES_tradnl" sz="900" spc="-1" strike="noStrike">
                <a:solidFill>
                  <a:srgbClr val="003366"/>
                </a:solidFill>
                <a:latin typeface="Arial"/>
              </a:rPr>
              <a:t>Vigilar y castigar: Nacimiento de la prisión</a:t>
            </a:r>
            <a:r>
              <a:rPr b="0" lang="es-ES_tradnl" sz="900" spc="-1" strike="noStrike">
                <a:solidFill>
                  <a:srgbClr val="003366"/>
                </a:solidFill>
                <a:latin typeface="Arial"/>
              </a:rPr>
              <a:t> (7ª ed. ed.). </a:t>
            </a:r>
            <a:r>
              <a:rPr b="0" lang="en-US" sz="900" spc="-1" strike="noStrike">
                <a:solidFill>
                  <a:srgbClr val="003366"/>
                </a:solidFill>
                <a:latin typeface="Arial"/>
              </a:rPr>
              <a:t>Madrid: Siglo Veintiuno.</a:t>
            </a:r>
            <a:r>
              <a:rPr b="0" lang="es-ES" sz="9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3366"/>
                </a:solidFill>
                <a:latin typeface="Arial"/>
              </a:rPr>
              <a:t>Rivero, I. (2005). </a:t>
            </a:r>
            <a:r>
              <a:rPr b="0" i="1" lang="es-ES" sz="900" spc="-1" strike="noStrike">
                <a:solidFill>
                  <a:srgbClr val="003366"/>
                </a:solidFill>
                <a:latin typeface="Arial"/>
              </a:rPr>
              <a:t>Ciencia "PSI", subjetividad y gobierno. una aproximación genealógica a la producción de subjetividades "psi" en la modernidad.</a:t>
            </a:r>
            <a:r>
              <a:rPr b="0" lang="es-ES" sz="900" spc="-1" strike="noStrike">
                <a:solidFill>
                  <a:srgbClr val="003366"/>
                </a:solidFill>
                <a:latin typeface="Arial"/>
              </a:rPr>
              <a:t> Departament de Psicología de la Salut i Psicología Social. Unitat de Psicología Social. Facultat de Psicología. Universitat Autònoma de Barcelona.). </a:t>
            </a:r>
            <a:endParaRPr b="0" lang="en-US" sz="9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3366"/>
                </a:solidFill>
                <a:latin typeface="Arial"/>
              </a:rPr>
              <a:t>Rose, N. (1997). </a:t>
            </a:r>
            <a:r>
              <a:rPr b="0" i="1" lang="es-ES" sz="900" spc="-1" strike="noStrike">
                <a:solidFill>
                  <a:srgbClr val="003366"/>
                </a:solidFill>
                <a:latin typeface="Arial"/>
              </a:rPr>
              <a:t>El gobierno de las democracias liberales "avanzadas</a:t>
            </a:r>
            <a:r>
              <a:rPr b="0" lang="es-ES" sz="900" spc="-1" strike="noStrike">
                <a:solidFill>
                  <a:srgbClr val="003366"/>
                </a:solidFill>
                <a:latin typeface="Arial"/>
              </a:rPr>
              <a:t>": Del liberalismo al neoliberalismo.</a:t>
            </a:r>
            <a:r>
              <a:rPr b="0" i="1" lang="es-ES" sz="9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3366"/>
                </a:solidFill>
                <a:latin typeface="Arial"/>
              </a:rPr>
              <a:t>Archipiélago. Cuadernos Crítica De La Cultura, verano (29), 25-40. </a:t>
            </a:r>
            <a:endParaRPr b="0" lang="en-US" sz="9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3366"/>
                </a:solidFill>
                <a:latin typeface="Arial"/>
              </a:rPr>
              <a:t>Rose, N. (1999). </a:t>
            </a:r>
            <a:r>
              <a:rPr b="0" i="1" lang="en-US" sz="900" spc="-1" strike="noStrike">
                <a:solidFill>
                  <a:srgbClr val="003366"/>
                </a:solidFill>
                <a:latin typeface="Arial"/>
              </a:rPr>
              <a:t>Power of freedom. reframing political thought</a:t>
            </a:r>
            <a:r>
              <a:rPr b="0" lang="en-US" sz="900" spc="-1" strike="noStrike">
                <a:solidFill>
                  <a:srgbClr val="003366"/>
                </a:solidFill>
                <a:latin typeface="Arial"/>
              </a:rPr>
              <a:t>. London: Cambridge University Press. </a:t>
            </a:r>
            <a:endParaRPr b="0" lang="en-US" sz="9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roblemas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¿Cómo incorporar la dimensión semiótico material en la metodología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¿Cómo hacer una investigación que de cuenta de la generación de realidad que ocurre en la intervención social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¿Cómo incorporar mi propia visión de la realidad en la investigación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¿Cómo generar un conocimiento situado desde la posición de interventora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6666"/>
                </a:solidFill>
                <a:latin typeface="Arial"/>
              </a:rPr>
              <a:t>Terapia y Poder: Techné y Ethos </a:t>
            </a:r>
            <a:br>
              <a:rPr sz="3200"/>
            </a:br>
            <a:r>
              <a:rPr b="1" lang="es-ES" sz="3200" spc="-1" strike="noStrike">
                <a:solidFill>
                  <a:srgbClr val="006666"/>
                </a:solidFill>
                <a:latin typeface="Arial"/>
              </a:rPr>
              <a:t>(Rose 2007)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38080" y="2549160"/>
            <a:ext cx="7693200" cy="35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n lugar de ver las prácticas actuales de psicoterapia como una aplicación o desaplicación de la teoría terapéutica, mi punto de partida es contemplar la realidad de las prácticas terapéuticas actualmente existentes tal como funcionan”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1218960"/>
            <a:ext cx="67057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6666"/>
                </a:solidFill>
                <a:latin typeface="Arial"/>
              </a:rPr>
              <a:t>Objetivos de la investigación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3366"/>
                </a:solidFill>
                <a:latin typeface="Arial"/>
              </a:rPr>
              <a:t>Describir las prácticas de los Equipos de Salud Mental y Psiquiatría Ambulatorio (ESMPA).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3366"/>
                </a:solidFill>
                <a:latin typeface="Arial"/>
              </a:rPr>
              <a:t>Establecer y analizar los tipos de subjetividades que se elaboran a partir de estas prácticas, tanto de los profesionales interventores, como de los sujetos objetos de sus intervenciones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3366"/>
                </a:solidFill>
                <a:latin typeface="Arial"/>
              </a:rPr>
              <a:t>Establecer relaciones entre los procesos de gubernamentalidad neoliberal, la configuración de estas prácticas y las subjetividades que se generan a partir de las prácticas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3366"/>
                </a:solidFill>
                <a:latin typeface="Arial"/>
              </a:rPr>
              <a:t>Establecer efectos y posibilidades de los procesos de subjetivación y de los procesos de gubernamentalidad que se relacionan con las prácticas de los equipos de salud mental y psiquiatría ambulatoria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imena</cp:lastModifiedBy>
  <dcterms:modified xsi:type="dcterms:W3CDTF">2009-07-27T22:14:06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