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196E-5102-4F7F-9237-9D739FDAD1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bajo, Academia de West Point, desde donde se gradúa la élite del Ejército de Estados Unidos, y que sirvió para desarrollar asesoría a los ejércitos nacionales de América Latin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FC0E-270A-48DE-BE6B-819BD199B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7DD1-3126-4AB0-AD27-53E9BF295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9086-3FC0-43B2-A600-5273C5D1D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71AA-B2CF-494B-BCB1-26C288DFE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857C1-684D-417A-A5D7-C3F77BA8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147D8-7259-4C88-BB44-EC277E51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C506A-FCD5-4AD5-83E8-0FFEF339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8179F-B481-4AC6-8091-600551F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B2A28-62C9-4B91-A151-801F2D18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5138C-B68A-4547-8DCC-22120CB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2C2B5-0F9A-4993-900C-6BAC7D3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C4FD-962B-4873-961A-D9A2D7CE2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6DBC3-6BCE-4447-94F7-4F4C99B0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5E45F-0C21-4CA8-A301-C62242B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FE293-2938-4DDC-A970-83D18900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B0597-ABBE-482B-B56D-271824F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9AEF2-3541-437B-802F-FEE63AFD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E920-4146-454E-9D0E-0BA80D482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34A6-7F39-4835-821F-9A497472C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6DD3-B7DD-4DA4-A52C-D7990951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E45B-C65E-4303-906A-A56D7B682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969D-44A2-4ED9-8613-581D3EB66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65B2-7B69-4496-8A6F-C88F01AFF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648A-F94A-4B17-B844-76394C3C7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BDDF-F01A-4D1B-8E50-2B7722AE5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941-2437-4703-8E59-8AD752601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237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Verdana"/>
              </a:rPr>
              <a:t>Clase 29: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y sus relaciones con Estados U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340000" y="3141720"/>
            <a:ext cx="5545080" cy="32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ORGANIZACIÓN PANAME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692280"/>
            <a:ext cx="3240000" cy="792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PANAMER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6360" y="1700280"/>
            <a:ext cx="4753080" cy="1224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DO DE  CORDIAL INTELIG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Y ARBIT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CTO A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2413080" cy="580680"/>
          </a:xfrm>
          <a:prstGeom prst="rect">
            <a:avLst/>
          </a:prstGeom>
          <a:solidFill>
            <a:srgbClr val="66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S AMERIC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286080"/>
            <a:ext cx="2413080" cy="580680"/>
          </a:xfrm>
          <a:prstGeom prst="rect">
            <a:avLst/>
          </a:prstGeom>
          <a:solidFill>
            <a:srgbClr val="66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S  ESTADOUNID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45080" y="3141720"/>
            <a:ext cx="4752720" cy="1224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ERENCIA INTERNACION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DOS AMER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xcepto Argentina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4292640"/>
            <a:ext cx="1404720" cy="8240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a de Chapultepec194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5229360"/>
            <a:ext cx="1656000" cy="11944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AR 194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TRINA DE LA DEFENSA HEMISFÉ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5229360"/>
            <a:ext cx="1655640" cy="13107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a de Organización de los Estados Americanos 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0360" y="4365720"/>
            <a:ext cx="1584360" cy="10674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to Americano de soluciones Pacíficas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5877000"/>
            <a:ext cx="1584360" cy="3373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EA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63640" y="4076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00720" y="4292640"/>
            <a:ext cx="3585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365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119664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162864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43280" y="566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6272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O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4936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da en Bogotá en 1948.  Reemplazó a la antigua  Unión  Panamericana fijando dos objetivos primord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692280"/>
            <a:ext cx="3887640" cy="792000"/>
          </a:xfrm>
          <a:prstGeom prst="ellipse">
            <a:avLst/>
          </a:prstGeom>
          <a:solidFill>
            <a:srgbClr val="66006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orgar soluciones pacífic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diferend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628640"/>
            <a:ext cx="3743280" cy="792360"/>
          </a:xfrm>
          <a:prstGeom prst="ellipse">
            <a:avLst/>
          </a:prstGeom>
          <a:solidFill>
            <a:srgbClr val="66006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antizar la segur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765000"/>
            <a:ext cx="287280" cy="172908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924280"/>
            <a:ext cx="8497800" cy="9169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956 ENTRÓ EN FUNCIONAMIENTO, CON SEDE EN COSTA RICA Y CON LA PRESENCIA DE TODOS LOS PAÍSES AMERICANOS, EXCEPTO  CANA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08640"/>
            <a:ext cx="3887640" cy="10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TO DE BOGOT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acto de Soluciones pacíf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508640"/>
            <a:ext cx="4248000" cy="20257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sión de Costa Rica a Nicar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de Golpe de Estado en República Domin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GUATEMALA Y CUBA LA SOLUCIÓN A LOS CONFLICTOS NO TIENE EL MISMO CARÁ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94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1508040" cy="154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l Tratado Interamericano de Asistencia Recípro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36572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forman parte del TIAR: Cuba, México y Argentina (desde 1982, la Guerra de las Malv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627280" y="4437000"/>
            <a:ext cx="2592360" cy="193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24000" y="1052640"/>
            <a:ext cx="85690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tratado actualmente vigente que establece una defensa militar hemisférica para toda Améric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4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ratado establece que, en caso de que un país sea invadido por una potencia extranjera, eso legitimará la acción conjunta de todos los ejércitos de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35772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fue un instrumento desarrollado por Estados Unidos para combatir la influencia de la Unión Soviética en 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278160" cy="46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heel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onsecuencias del T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5950080"/>
            <a:ext cx="7561440" cy="3988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n virtud del TIAR, Costa Rica disolvió su ejército en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348000" y="765000"/>
            <a:ext cx="2808360" cy="3794400"/>
            <a:chOff x="3348000" y="765000"/>
            <a:chExt cx="2808360" cy="37944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3348000" y="765000"/>
              <a:ext cx="2808360" cy="19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348000" y="2708280"/>
              <a:ext cx="2808360" cy="1851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0" name=""/>
          <p:cNvSpPr/>
          <p:nvPr/>
        </p:nvSpPr>
        <p:spPr>
          <a:xfrm>
            <a:off x="179280" y="1557360"/>
            <a:ext cx="2952720" cy="2288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en Estados Unidos de la Doctrina de Seguridad Nacional: el enemigo comunista está en el interior del continente, por lo que hay que detectarlo, neutralizarlo y elimin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1557360"/>
            <a:ext cx="2590920" cy="20142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soría de los ejércitos latinoamericanos en la Doctrina de Seguridad Nacional y en técnicas de Contrainsurgencia (antirrevolucionari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4869000"/>
            <a:ext cx="75610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yo logístico, de inteligencia y en algunos casos, militar, a los golpes de Estado que se desarrollaron en América Latina desde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9"/>
          <p:cNvSpPr/>
          <p:nvPr/>
        </p:nvSpPr>
        <p:spPr>
          <a:xfrm>
            <a:off x="1332000" y="1916280"/>
            <a:ext cx="6697440" cy="45972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REVOLUCIONES EN LATINO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DE 1948: LAS RELACIONES ESTÁN CONDICIONADAS POR LA GUERRA F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24000" y="907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a pobreza, la guerra fría y las políticas de Estados Unidos hacia América Latina favorecieron el desarrollo de los movimientos de 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3789360"/>
            <a:ext cx="2520720" cy="6426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MOR AL AVANCE DEL COMU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habana-1959"/>
          <p:cNvPicPr/>
          <p:nvPr/>
        </p:nvPicPr>
        <p:blipFill>
          <a:blip r:embed="rId1"/>
          <a:stretch/>
        </p:blipFill>
        <p:spPr>
          <a:xfrm>
            <a:off x="2843280" y="4581360"/>
            <a:ext cx="2520720" cy="208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50920" y="2637000"/>
            <a:ext cx="2305080" cy="9169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59 TRIUNFA LA REVOLUCIÓN CU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chamorro"/>
          <p:cNvPicPr/>
          <p:nvPr/>
        </p:nvPicPr>
        <p:blipFill>
          <a:blip r:embed="rId2"/>
          <a:stretch/>
        </p:blipFill>
        <p:spPr>
          <a:xfrm>
            <a:off x="5867280" y="4365720"/>
            <a:ext cx="2845080" cy="1411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1" name="Text Box 14"/>
          <p:cNvSpPr/>
          <p:nvPr/>
        </p:nvSpPr>
        <p:spPr>
          <a:xfrm>
            <a:off x="5435640" y="2637000"/>
            <a:ext cx="352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79 TRIUNFA  EN NICARAGUA LA REVOLUCIÓN  SANDIN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0-web_fidel"/>
          <p:cNvPicPr/>
          <p:nvPr/>
        </p:nvPicPr>
        <p:blipFill>
          <a:blip r:embed="rId3"/>
          <a:stretch/>
        </p:blipFill>
        <p:spPr>
          <a:xfrm>
            <a:off x="468360" y="4437000"/>
            <a:ext cx="1871640" cy="1276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723600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2997360"/>
            <a:ext cx="115236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924280"/>
            <a:ext cx="1008000" cy="86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che"/>
          <p:cNvPicPr/>
          <p:nvPr/>
        </p:nvPicPr>
        <p:blipFill>
          <a:blip r:embed="rId1"/>
          <a:stretch/>
        </p:blipFill>
        <p:spPr>
          <a:xfrm>
            <a:off x="395280" y="260280"/>
            <a:ext cx="2592360" cy="32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3995640" y="1052640"/>
            <a:ext cx="468000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 LOS ´60, EL EJEMPLO DE CUBA Y LA FIGURA DEL “CHE” GUEVARA SE EXPANDEN POR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5651640" y="3284640"/>
            <a:ext cx="1296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995640" y="4005360"/>
            <a:ext cx="4824360" cy="18003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SE MULTIPLICAN LOS GRUPOS DE IZQUIERDA CON IDEAS REVOLUCION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604960" cy="323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6084720" y="1484280"/>
            <a:ext cx="2881440" cy="1313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DOS UNIDOS APOYA 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S ANTICOMU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 1960 ESTADOS UNIDOS  ENFRENTA EL AVANCE DEL COMUN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President%20Kennedy%20L"/>
          <p:cNvPicPr/>
          <p:nvPr/>
        </p:nvPicPr>
        <p:blipFill>
          <a:blip r:embed="rId1"/>
          <a:stretch/>
        </p:blipFill>
        <p:spPr>
          <a:xfrm>
            <a:off x="2700360" y="1197000"/>
            <a:ext cx="3268800" cy="429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4" name="Rectangle 8"/>
          <p:cNvSpPr/>
          <p:nvPr/>
        </p:nvSpPr>
        <p:spPr>
          <a:xfrm>
            <a:off x="250920" y="1484280"/>
            <a:ext cx="2268360" cy="1313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ENNEDY PROPONE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IANZA PARA EL PROG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5661000"/>
            <a:ext cx="5689440" cy="82548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DE UN PROGRAMA DE CONTRAINSU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2781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567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042920" y="6021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0360" y="6093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LIANZA PARA EL PRO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836640"/>
            <a:ext cx="51116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ayuda económica desarrollado por Kennedy, presidente de Estados Unidos para América Latina, que duró entre 1961 y 197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lianza tuvo un fondo de US$ 20.000 millones, administrados por la Fundación Panamericana para el Desarrollo que buscó financ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259272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381636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468360" y="3789360"/>
            <a:ext cx="4248000" cy="1923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forma Agr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gramas de alfabet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desarrollo del Libre Comer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vicios sociales tales como salud y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250920" y="2421000"/>
            <a:ext cx="3889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1955-1962-09"/>
          <p:cNvPicPr/>
          <p:nvPr/>
        </p:nvPicPr>
        <p:blipFill>
          <a:blip r:embed="rId1"/>
          <a:stretch/>
        </p:blipFill>
        <p:spPr>
          <a:xfrm>
            <a:off x="2340000" y="1413000"/>
            <a:ext cx="4289400" cy="36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POLÍTICA DE COEXISTENCIA PACÍFICA, ENTRE OTROS FACTORES PERMITEN QUE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11280" y="5516640"/>
            <a:ext cx="8208720" cy="82548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DÉCADA DE 1970, AMÉRICA LATINA ADQUIERA MAYORES GRADOS DE AUT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708360" y="907920"/>
            <a:ext cx="1311480" cy="439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8560" y="5157000"/>
            <a:ext cx="168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nne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usch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68360" y="260280"/>
            <a:ext cx="828036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EN LA DÉCADA DE 1980, ESTADOS UNIDOS RETOMA EL CONTROL SOBRE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476360" y="1413000"/>
            <a:ext cx="1603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68360" y="3213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mérica latina entra en una profunda crisis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ronald_reagan"/>
          <p:cNvPicPr/>
          <p:nvPr/>
        </p:nvPicPr>
        <p:blipFill>
          <a:blip r:embed="rId2"/>
          <a:stretch/>
        </p:blipFill>
        <p:spPr>
          <a:xfrm>
            <a:off x="4859280" y="1197000"/>
            <a:ext cx="3686400" cy="468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5" name="Rectangle 9"/>
          <p:cNvSpPr/>
          <p:nvPr/>
        </p:nvSpPr>
        <p:spPr>
          <a:xfrm>
            <a:off x="500040" y="23493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Llega al poder Reag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un neoconserv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28800" y="6095880"/>
            <a:ext cx="7603920" cy="45972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MODIFICAN LAS FORMAS DE DO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920" y="1413000"/>
            <a:ext cx="4321080" cy="40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render la importancia de las relaciones con Estados Unidos y su influencia en el devenir histórico de nuestra Región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79 hasta la 287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413000"/>
            <a:ext cx="4105440" cy="40568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aciones entre América Latina y Estados U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ganizaciones Panameric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ensa hemisf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trina de 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DOS UNIDOS HA IMPUESTO NUEVAS FORMAS DE DO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fmi"/>
          <p:cNvPicPr/>
          <p:nvPr/>
        </p:nvPicPr>
        <p:blipFill>
          <a:blip r:embed="rId1"/>
          <a:stretch/>
        </p:blipFill>
        <p:spPr>
          <a:xfrm>
            <a:off x="971640" y="3068640"/>
            <a:ext cx="2735280" cy="210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468360" y="1125360"/>
            <a:ext cx="8459640" cy="10087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Y EN MUCHOS CASOS EE.UU. EJERCE UNA INFLUENCIA INDIRECTA SOBRE AMÉRICA LATINA A TRAVÉS DE ORGANISMOS INTERNACIONALES COM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9935C"/>
          <p:cNvPicPr/>
          <p:nvPr/>
        </p:nvPicPr>
        <p:blipFill>
          <a:blip r:embed="rId2"/>
          <a:stretch/>
        </p:blipFill>
        <p:spPr>
          <a:xfrm>
            <a:off x="3708360" y="3141720"/>
            <a:ext cx="2381400" cy="17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Logo%20OEA%202"/>
          <p:cNvPicPr/>
          <p:nvPr/>
        </p:nvPicPr>
        <p:blipFill>
          <a:blip r:embed="rId3"/>
          <a:stretch/>
        </p:blipFill>
        <p:spPr>
          <a:xfrm>
            <a:off x="6227640" y="299736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908720" y="2421000"/>
            <a:ext cx="932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F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3440" y="2421000"/>
            <a:ext cx="93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8520" y="2421000"/>
            <a:ext cx="10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300640"/>
            <a:ext cx="8385120" cy="119124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financiamiento de las nuevas democracias latinoamericanas busca consolidar los intereses comerciales de Estados Unidos en la Región, y especialmente desarrollar un área de Libre Comercio para la entrada y salida libre de capitales estadounidenses en la Región: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mocratización y Libr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680000" cy="335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83528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4681440" cy="2087640"/>
          </a:xfrm>
          <a:prstGeom prst="rect">
            <a:avLst/>
          </a:prstGeom>
          <a:solidFill>
            <a:srgbClr val="acb8f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N MUNDIAL DE POS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ÉRICA LATINA CONTEMPOR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s 6  y 7  (páginas 225 a 2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89000"/>
            <a:ext cx="8642160" cy="1245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La pr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xima clase se realizará la PRUEBA SH 141. En esta última prueba se evalúan los siguientes 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073480" y="1557360"/>
            <a:ext cx="4070520" cy="3313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39640" y="5229360"/>
            <a:ext cx="813600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¡MUCHA SUERTE EN LA PS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sandino"/>
          <p:cNvPicPr/>
          <p:nvPr/>
        </p:nvPicPr>
        <p:blipFill>
          <a:blip r:embed="rId1"/>
          <a:stretch/>
        </p:blipFill>
        <p:spPr>
          <a:xfrm>
            <a:off x="3203640" y="1413000"/>
            <a:ext cx="1677960" cy="309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2"/>
          <p:cNvSpPr/>
          <p:nvPr/>
        </p:nvSpPr>
        <p:spPr>
          <a:xfrm>
            <a:off x="3564360" y="46530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AN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emiliano-zapata"/>
          <p:cNvPicPr/>
          <p:nvPr/>
        </p:nvPicPr>
        <p:blipFill>
          <a:blip r:embed="rId2"/>
          <a:stretch/>
        </p:blipFill>
        <p:spPr>
          <a:xfrm>
            <a:off x="611280" y="1052640"/>
            <a:ext cx="1985760" cy="263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3"/>
          <p:cNvSpPr/>
          <p:nvPr/>
        </p:nvSpPr>
        <p:spPr>
          <a:xfrm>
            <a:off x="111060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ZA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submarco"/>
          <p:cNvPicPr/>
          <p:nvPr/>
        </p:nvPicPr>
        <p:blipFill>
          <a:blip r:embed="rId3"/>
          <a:stretch/>
        </p:blipFill>
        <p:spPr>
          <a:xfrm>
            <a:off x="5724360" y="1628640"/>
            <a:ext cx="205740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6287040" y="4869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AR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026000" y="5373720"/>
            <a:ext cx="67233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¿POR QUÉ AMERICA LATINA HA SIDO TIERRA PROPI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PARA REVOLUCIONARIOS Y REVOLUCI0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MÉRICA LATINA Y SUS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O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94440" y="1197000"/>
            <a:ext cx="75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SIGLO XIX SE HACE EVIDENT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LUENCIA DE EE.UU. EN AMÉRICA 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89440" y="2349360"/>
            <a:ext cx="8325360" cy="1594800"/>
            <a:chOff x="289440" y="2349360"/>
            <a:chExt cx="8325360" cy="1594800"/>
          </a:xfrm>
        </p:grpSpPr>
        <p:sp>
          <p:nvSpPr>
            <p:cNvPr id="111" name="AutoShape 4"/>
            <p:cNvSpPr/>
            <p:nvPr/>
          </p:nvSpPr>
          <p:spPr>
            <a:xfrm>
              <a:off x="3492360" y="2349360"/>
              <a:ext cx="187344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289440" y="2997000"/>
              <a:ext cx="8325360" cy="9471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Century Gothic"/>
                </a:rPr>
                <a:t>LUEGO DE LA PRIMERA GUERRA MUNDI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Century Gothic"/>
                </a:rPr>
                <a:t>ESTA INFLUENCIA SE PROFUNDIZ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1116000" y="4076640"/>
            <a:ext cx="6792840" cy="1739520"/>
            <a:chOff x="1116000" y="4076640"/>
            <a:chExt cx="6792840" cy="1739520"/>
          </a:xfrm>
        </p:grpSpPr>
        <p:sp>
          <p:nvSpPr>
            <p:cNvPr id="114" name="AutoShape 6"/>
            <p:cNvSpPr/>
            <p:nvPr/>
          </p:nvSpPr>
          <p:spPr>
            <a:xfrm>
              <a:off x="3420720" y="4076640"/>
              <a:ext cx="1873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1116000" y="4869000"/>
              <a:ext cx="6792840" cy="947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EE.UU. SE CONVIERTE EN L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PRINCIPAL POTENCIA MUND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laciones entre Estados Unidos y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492280"/>
            <a:ext cx="82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     1940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28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laciones entre América Latina y Estados Unidos han estado marcadas por la cooperación y el confli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923280" y="908280"/>
            <a:ext cx="360360" cy="42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779640" y="357300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271280" y="202428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3284640"/>
            <a:ext cx="403236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IAR y Regímene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3213000"/>
            <a:ext cx="1728720" cy="9169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ocracia y Libr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365720"/>
            <a:ext cx="1727280" cy="642600"/>
          </a:xfrm>
          <a:prstGeom prst="rect">
            <a:avLst/>
          </a:prstGeom>
          <a:solidFill>
            <a:srgbClr val="ec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anza para el Pro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429000"/>
            <a:ext cx="1403280" cy="22251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strategia d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“buen vecino”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mo respuesta a la política d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ran garro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 1900 y 1925 (ej. Enmienda Plat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700200" y="2474640"/>
            <a:ext cx="360360" cy="1258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2760 h 1258920"/>
              <a:gd name="textAreaBottom" fmla="*/ 12261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AS RELACIONES HAN PASADO POR DIVERSA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4284720" y="1197000"/>
            <a:ext cx="1079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00000" y="1844640"/>
            <a:ext cx="7488360" cy="9471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STA 1930 SE CARACTERIZARON POR LA POLÍTICA DEL GRAN GARR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us-soldiers"/>
          <p:cNvPicPr/>
          <p:nvPr/>
        </p:nvPicPr>
        <p:blipFill>
          <a:blip r:embed="rId1"/>
          <a:stretch/>
        </p:blipFill>
        <p:spPr>
          <a:xfrm>
            <a:off x="900000" y="2852640"/>
            <a:ext cx="228600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492360" y="3141720"/>
            <a:ext cx="4932360" cy="2288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ENCIÓN MIL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CIA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SIONES Y PERMISOS EXCL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71640" y="865080"/>
            <a:ext cx="27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TRE 1933/1938: LA ESTRATEGIA DEL “BUEN VECI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Franklin%20D"/>
          <p:cNvPicPr/>
          <p:nvPr/>
        </p:nvPicPr>
        <p:blipFill>
          <a:blip r:embed="rId1"/>
          <a:stretch/>
        </p:blipFill>
        <p:spPr>
          <a:xfrm>
            <a:off x="395280" y="1125360"/>
            <a:ext cx="270036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Text Box 7"/>
          <p:cNvSpPr/>
          <p:nvPr/>
        </p:nvSpPr>
        <p:spPr>
          <a:xfrm>
            <a:off x="3348000" y="1557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LEGADA AL PODER DE ROOSEVELT (1933- 194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ISIS DE 19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NDA GUERRA MUND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941720"/>
            <a:ext cx="1873080" cy="642600"/>
          </a:xfrm>
          <a:prstGeom prst="rect">
            <a:avLst/>
          </a:prstGeom>
          <a:solidFill>
            <a:srgbClr val="66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jemplos de est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9520" y="4184640"/>
            <a:ext cx="52261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ro de tropas de Haití y reconocimiento a la Independencia de este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5013360"/>
            <a:ext cx="53276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ogación de la Enmienda Pl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516640"/>
            <a:ext cx="53290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 a nacionalización de petroleras mexicanas, Estados Unidos exige indemnización por las expropi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56000" y="4508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5300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A PARTIR DE 1939 AMÉRICA LATINA SUFRE LOS EFECTOS DE LA SEGUND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197000"/>
            <a:ext cx="3456000" cy="3254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mentó la presencia de Estados Unidos en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s el ataque japonés en Pearl Harbor, solicita a todos los Estados americanos a romper relaciones con el Eje. Chile se mantiene neutral hasta 1943. Argentina sólo rompe son el eje  en 1944,  Estados Unidos considera a esta nación como aliada del fas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941720"/>
            <a:ext cx="5616360" cy="9169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EGO DE LA SEGUNDA GUERRA TODOS LOS PAÍSES  LATINOAMERICANOS PASAN A FORMAR PARTE DE LAS NACIONES UN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4176720" cy="340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86480" y="45813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1-03T02:55:48Z</dcterms:modified>
  <cp:revision>148</cp:revision>
  <dc:subject/>
  <dc:title>Diapositiva 1</dc:title>
</cp:coreProperties>
</file>