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FFC1-ACF2-41EB-A571-CA4FB3BC1CF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bajo: Massera, Videla y Agosti, protagonistas de las dictaduras argentinas (1976- 1983); Pinochet con Hugo Banzer (dictador de Bolivia, 1971- 1978). Arriba, Alfredo Stroessner, dictador de Paragu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ágenes: Asunción al mando presidencial de Aylwin (Chile) y Alfonsín (Argentina, 1984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B569-F8A2-4BD6-AA1D-A5C4B241D0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 PARTIR DE LA PREGUNTA QUE SE PLANTEA EN ESTA DIAPO, SE DEBERÍA TRATAR EL CONCEPTO DE LATINOAMÉ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; abajo, Todos estos presidentes se caracterizaron por crear y financiar movimientos sindicales en apoyo de su gest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039B-DACE-4EA5-9540-143A1F539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1EC4-9456-4442-8883-FD906F6E9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99AD-1F0C-4580-88C4-8D3D6321E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A9E4-44A7-4F71-B16C-E66FE008E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C6DC7-8F8B-4B12-8C37-BD99E6F1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4F977-0607-4402-BAA3-90A56FD9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BFE7F-A1D7-4430-9DC5-5AF9C9CF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84887-E64D-4873-B01F-77FEC626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834BD-7825-46F8-A7BF-5A7568A0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301C9-785E-433A-8E6B-61DDCA7A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F695A-9FBE-471F-8777-EC996C52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39D2-9D6F-42D5-9ED1-FA2FD9398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34AD3-2DA8-451B-B48B-93329025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5648B-D23A-42F2-B29C-6F79C58E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351CF-F388-48A6-A2D6-D6F5E27B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FA179-4D0E-4298-A678-BB67F9E0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CA471-D292-4830-BB04-B6857516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C486-8B86-4E40-BB0B-DA816B16E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CDE4-9993-4916-99D8-9704BD41D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2EF1-E274-48CE-B000-D674A4AD1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0596-E0E2-4D7E-870A-8C80ED9D3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D455-0B52-4F81-88A3-B462949AA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E65F6-92FA-4FBA-84A4-75EDEBD53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3106-7181-466D-ABCB-A3529CC5A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A746-481F-49CA-9D89-2644B9729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0B11-F8C1-4C37-84EE-0CF4BCDBC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345440" cy="2232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ffff"/>
                </a:solidFill>
                <a:latin typeface="Verdana"/>
              </a:rPr>
              <a:t>Clase HU 27:</a:t>
            </a:r>
            <a:br>
              <a:rPr sz="4000"/>
            </a:br>
            <a:r>
              <a:rPr b="0" i="1" lang="es-ES_tradnl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4000" spc="-1" strike="noStrike">
                <a:solidFill>
                  <a:srgbClr val="ffffff"/>
                </a:solidFill>
                <a:latin typeface="Verdana"/>
              </a:rPr>
              <a:t>América Latina </a:t>
            </a:r>
            <a:br>
              <a:rPr sz="4000"/>
            </a:br>
            <a:r>
              <a:rPr b="1" i="1" lang="es-ES" sz="4000" spc="-1" strike="noStrike">
                <a:solidFill>
                  <a:srgbClr val="ffffff"/>
                </a:solidFill>
                <a:latin typeface="Verdana"/>
              </a:rPr>
              <a:t>Contempo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059280" y="3213000"/>
            <a:ext cx="4427280" cy="319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FACTORES QUE PROPICIARON LA APARICIÓN DEL POPU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1052640"/>
            <a:ext cx="453708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os económicos, políticos y sociales derivados de la Crisis de 192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3573360"/>
            <a:ext cx="4537080" cy="3373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raciones campo-ciu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1916280"/>
            <a:ext cx="4537080" cy="1434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existencia en la Región de grupos sociales antagónico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ONSOLIDA UNA BURGUESÍA INDUSTRIAL y LAS CLASES OBRERAS SE HACEN MÁS FUE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4294080"/>
            <a:ext cx="4537080" cy="3373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gimiento de líderes carismát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4941720"/>
            <a:ext cx="453708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atisfacción de aspiraciones sociales dentro de la institucionalidad política tradi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64000" y="1125360"/>
            <a:ext cx="3333960" cy="3333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5364000" y="465300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ERÓN EN ARGENTINA FUE UNO DE SUS PRINCIPALES REPRESENT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6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CARACTERÍSTICAS DEL POPU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3213000"/>
            <a:ext cx="3995640" cy="865440"/>
          </a:xfrm>
          <a:prstGeom prst="ellipse">
            <a:avLst/>
          </a:prstGeom>
          <a:solidFill>
            <a:srgbClr val="dfd5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curso nacionalis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eneralmente anti-estadounid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2205000"/>
            <a:ext cx="3168720" cy="432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 industrializ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6000" y="2708280"/>
            <a:ext cx="3168360" cy="360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udil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16360" y="1484280"/>
            <a:ext cx="316836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nt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eses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197000"/>
            <a:ext cx="3168720" cy="360360"/>
          </a:xfrm>
          <a:prstGeom prst="ellipse">
            <a:avLst/>
          </a:prstGeom>
          <a:solidFill>
            <a:srgbClr val="edd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miautor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4437000"/>
            <a:ext cx="3313080" cy="792360"/>
          </a:xfrm>
          <a:prstGeom prst="ellipse">
            <a:avLst/>
          </a:prstGeom>
          <a:solidFill>
            <a:srgbClr val="ddc1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ceris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i socialismo ni capitalism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5373720"/>
            <a:ext cx="3311280" cy="836640"/>
          </a:xfrm>
          <a:prstGeom prst="ellipse">
            <a:avLst/>
          </a:prstGeom>
          <a:solidFill>
            <a:srgbClr val="ec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 discurso maximalist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y que cambiarlo tod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35280" y="5013360"/>
            <a:ext cx="5508720" cy="1079640"/>
          </a:xfrm>
          <a:prstGeom prst="ellipse">
            <a:avLst/>
          </a:prstGeom>
          <a:solidFill>
            <a:srgbClr val="ec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poyarse en el movimiento sindical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strumentalizar sus demandas políticas y económ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4005360"/>
            <a:ext cx="3168720" cy="431640"/>
          </a:xfrm>
          <a:prstGeom prst="ellipse">
            <a:avLst/>
          </a:prstGeom>
          <a:solidFill>
            <a:srgbClr val="d7e1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ientelismo pol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2719440" cy="3168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000"/>
                            </p:stCondLst>
                            <p:childTnLst>
                              <p:par>
                                <p:cTn id="4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9000"/>
                            </p:stCondLst>
                            <p:childTnLst>
                              <p:par>
                                <p:cTn id="4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0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4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1"/>
          <p:cNvGrpSpPr/>
          <p:nvPr/>
        </p:nvGrpSpPr>
        <p:grpSpPr>
          <a:xfrm>
            <a:off x="235800" y="4076640"/>
            <a:ext cx="2303640" cy="2567880"/>
            <a:chOff x="235800" y="4076640"/>
            <a:chExt cx="2303640" cy="2567880"/>
          </a:xfrm>
        </p:grpSpPr>
        <p:pic>
          <p:nvPicPr>
            <p:cNvPr id="200" name="Picture 9" descr="castello_branco-2"/>
            <p:cNvPicPr/>
            <p:nvPr/>
          </p:nvPicPr>
          <p:blipFill>
            <a:blip r:embed="rId1"/>
            <a:stretch/>
          </p:blipFill>
          <p:spPr>
            <a:xfrm>
              <a:off x="619200" y="4076640"/>
              <a:ext cx="148752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10"/>
            <p:cNvSpPr/>
            <p:nvPr/>
          </p:nvSpPr>
          <p:spPr>
            <a:xfrm>
              <a:off x="235800" y="6124320"/>
              <a:ext cx="2303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1964 Brasil. Liderada p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umberto Castel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"/>
          <p:cNvGrpSpPr/>
          <p:nvPr/>
        </p:nvGrpSpPr>
        <p:grpSpPr>
          <a:xfrm>
            <a:off x="2864520" y="3933720"/>
            <a:ext cx="2637360" cy="2752200"/>
            <a:chOff x="2864520" y="3933720"/>
            <a:chExt cx="2637360" cy="2752200"/>
          </a:xfrm>
        </p:grpSpPr>
        <p:pic>
          <p:nvPicPr>
            <p:cNvPr id="203" name="Picture 12" descr="ongania"/>
            <p:cNvPicPr/>
            <p:nvPr/>
          </p:nvPicPr>
          <p:blipFill>
            <a:blip r:embed="rId2"/>
            <a:stretch/>
          </p:blipFill>
          <p:spPr>
            <a:xfrm>
              <a:off x="3290760" y="3933720"/>
              <a:ext cx="16380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Rectangle 13"/>
            <p:cNvSpPr/>
            <p:nvPr/>
          </p:nvSpPr>
          <p:spPr>
            <a:xfrm>
              <a:off x="2864520" y="6165720"/>
              <a:ext cx="263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1966 Argentina. Liderada p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Juan Carlos Onganía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0" y="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PERÍODO 1960-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620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ste período los avances democráticos fueron limitados en la Región produciéndose un gran retroce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2276640"/>
            <a:ext cx="3816360" cy="11912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otros se impone una serie de regímenes militares  con un carácter anticomunista, regímene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burocráticos autoritario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8320" y="2278080"/>
            <a:ext cx="367200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países los regímenes dictatoriales alternaron con períodos democrá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71760" y="1125360"/>
            <a:ext cx="5184720" cy="909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CRISIS ECONÓMICA REPER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LA POLÍ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6246000" y="4076640"/>
            <a:ext cx="2242800" cy="2607840"/>
            <a:chOff x="6246000" y="4076640"/>
            <a:chExt cx="2242800" cy="2607840"/>
          </a:xfrm>
        </p:grpSpPr>
        <p:pic>
          <p:nvPicPr>
            <p:cNvPr id="211" name="Picture 4" descr="1119385285_0"/>
            <p:cNvPicPr/>
            <p:nvPr/>
          </p:nvPicPr>
          <p:blipFill>
            <a:blip r:embed="rId3"/>
            <a:stretch/>
          </p:blipFill>
          <p:spPr>
            <a:xfrm>
              <a:off x="6540120" y="4076640"/>
              <a:ext cx="18478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5"/>
            <p:cNvSpPr/>
            <p:nvPr/>
          </p:nvSpPr>
          <p:spPr>
            <a:xfrm>
              <a:off x="6246000" y="6164280"/>
              <a:ext cx="224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1973 Chile. Liderada p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ugusto Pinochet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H="1">
            <a:off x="2758680" y="1990800"/>
            <a:ext cx="865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72120" y="1990800"/>
            <a:ext cx="86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90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LA DEMOCRACIA POP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2303640" cy="28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924360" y="3860640"/>
            <a:ext cx="3673440" cy="268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548280" y="620640"/>
            <a:ext cx="7494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égimen político desarrollado en Cuba desde 1961 hasta nuestros dí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aracteriza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1773360"/>
            <a:ext cx="2346120" cy="119124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identificación del Partid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omunista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con 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48000" y="1773360"/>
            <a:ext cx="2376360" cy="201420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égimen de Partido Únic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a oposición política está al margen de la ley. No hay competencia de part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1773360"/>
            <a:ext cx="2879640" cy="201420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y elecciones para todas las instancias del pod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especialmente para la Asamblea Popular (Parlamento), pero sin competencia entre propuestas disti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916360" y="1341360"/>
            <a:ext cx="792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5600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19640" y="134136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Las dictaduras militares de Seguridad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765000"/>
            <a:ext cx="61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 1964 y 1984 casi todos los países de la Región estaban dirigidos por regímenes milit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4286160" cy="28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4104000" cy="28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020000" y="692280"/>
            <a:ext cx="1670040" cy="25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395280" y="162864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s dictaduras se dieron en toda América Latina, salvo: México (por la presencia del PRI), Cuba (comunismo) y Costa Rica (única democracia que sobrevivi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6"/>
          <p:cNvSpPr/>
          <p:nvPr/>
        </p:nvSpPr>
        <p:spPr>
          <a:xfrm>
            <a:off x="395280" y="1052640"/>
            <a:ext cx="31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9"/>
          <p:cNvGrpSpPr/>
          <p:nvPr/>
        </p:nvGrpSpPr>
        <p:grpSpPr>
          <a:xfrm>
            <a:off x="1835280" y="2060640"/>
            <a:ext cx="5113080" cy="4076280"/>
            <a:chOff x="1835280" y="2060640"/>
            <a:chExt cx="5113080" cy="4076280"/>
          </a:xfrm>
        </p:grpSpPr>
        <p:pic>
          <p:nvPicPr>
            <p:cNvPr id="233" name="Picture 7" descr="madres%20de%20mayo"/>
            <p:cNvPicPr/>
            <p:nvPr/>
          </p:nvPicPr>
          <p:blipFill>
            <a:blip r:embed="rId4"/>
            <a:stretch/>
          </p:blipFill>
          <p:spPr>
            <a:xfrm>
              <a:off x="1835280" y="2060640"/>
              <a:ext cx="5113080" cy="34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8"/>
            <p:cNvSpPr/>
            <p:nvPr/>
          </p:nvSpPr>
          <p:spPr>
            <a:xfrm>
              <a:off x="2124720" y="5494320"/>
              <a:ext cx="457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dres de Plaza de Mayo”, movi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de defensa de los DD.HH. en Argenti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CON LAS DICTADURAS DE SEGURIDAD NAC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836640"/>
            <a:ext cx="360036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DEBILITA EL MOVIMIENTO OBR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836640"/>
            <a:ext cx="456264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REPRIME A LA POBLACIÓN BAJO LA LÓGICA DE LA DOCTRINA DE SEGURIDAD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844720" y="547560"/>
            <a:ext cx="1224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48360" y="547560"/>
            <a:ext cx="1081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Características comunes de las dictaduras latinoamericanas de Seguridad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3645000"/>
            <a:ext cx="280836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dea de refundación de la sociedad, la economía y la polí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2206440" cy="224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919240" cy="314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9280" y="907920"/>
            <a:ext cx="360072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ponden a una etapa de alta agitación política, movilización de masas y de crisis económ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2276640"/>
            <a:ext cx="273672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oyo logístico, de inteligencia y asesoría de Estados Un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8720" y="1052640"/>
            <a:ext cx="325260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oyo de los grupos económicos dominantes en cada paí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2205000"/>
            <a:ext cx="2989080" cy="10674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ercicio del gobierno mediante equipos técnicos civiles altamente especializ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27280" y="5300640"/>
            <a:ext cx="3276720" cy="10674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rsecución a la oposición, especialmente de Izquierda. Existen violaciones a los Derechos Huma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3203280" y="17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364000" y="177336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8764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987640" y="414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08720" y="256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755640" y="260280"/>
            <a:ext cx="7632720" cy="137376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A CRISIS ECONÓMICA DEBILITA LOS GOBIERNOS MILIT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539640" y="1989000"/>
            <a:ext cx="7848720" cy="8254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1984 COMIENZA A RESTAURARSE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alfonsin"/>
          <p:cNvPicPr/>
          <p:nvPr/>
        </p:nvPicPr>
        <p:blipFill>
          <a:blip r:embed="rId1"/>
          <a:stretch/>
        </p:blipFill>
        <p:spPr>
          <a:xfrm>
            <a:off x="1403280" y="3429000"/>
            <a:ext cx="1731960" cy="230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8" name="Text Box 9"/>
          <p:cNvSpPr/>
          <p:nvPr/>
        </p:nvSpPr>
        <p:spPr>
          <a:xfrm>
            <a:off x="1352160" y="5877000"/>
            <a:ext cx="17946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83, Alfonsí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1" descr="hsta_sarney"/>
          <p:cNvPicPr/>
          <p:nvPr/>
        </p:nvPicPr>
        <p:blipFill>
          <a:blip r:embed="rId2"/>
          <a:stretch/>
        </p:blipFill>
        <p:spPr>
          <a:xfrm>
            <a:off x="3635280" y="3429000"/>
            <a:ext cx="1652760" cy="213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60" name="Text Box 12"/>
          <p:cNvSpPr/>
          <p:nvPr/>
        </p:nvSpPr>
        <p:spPr>
          <a:xfrm>
            <a:off x="3657240" y="5661000"/>
            <a:ext cx="16390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85, Sar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4" descr="filename"/>
          <p:cNvPicPr/>
          <p:nvPr/>
        </p:nvPicPr>
        <p:blipFill>
          <a:blip r:embed="rId3"/>
          <a:stretch/>
        </p:blipFill>
        <p:spPr>
          <a:xfrm>
            <a:off x="5940360" y="3429000"/>
            <a:ext cx="2559240" cy="165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62" name="Text Box 15"/>
          <p:cNvSpPr/>
          <p:nvPr/>
        </p:nvSpPr>
        <p:spPr>
          <a:xfrm>
            <a:off x="6031440" y="5229360"/>
            <a:ext cx="21895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85, Sanguinett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0072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Redemocratización de la Reg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92280"/>
            <a:ext cx="611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rgen regímenes políticos que se caracterizan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508720" y="3716280"/>
            <a:ext cx="3311280" cy="2698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732720" y="765000"/>
            <a:ext cx="1796760" cy="2737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4000" y="5445000"/>
            <a:ext cx="45352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formas económicas neoliberales en la mayoría de los regímenes, aunque con fuerte oposición de los sindic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4000" y="1557360"/>
            <a:ext cx="45352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reestablecimiento de las elecciones,  la competencia de partidos y el respeto a los derechos co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4365720"/>
            <a:ext cx="453528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rte presencia de los militares en la pol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000" y="2997360"/>
            <a:ext cx="45352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juicios a los militares por violaciones a los Derechos Humanos de la etapa 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0" y="0"/>
            <a:ext cx="673272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 PESAR DEL CRECIMIENTO ECONÓMICO  Y DE LAS REFORMAS NEOLIB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>
            <a:off x="1763640" y="1484280"/>
            <a:ext cx="647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50920" y="2205000"/>
            <a:ext cx="3564000" cy="3080160"/>
          </a:xfrm>
          <a:prstGeom prst="rect">
            <a:avLst/>
          </a:prstGeom>
          <a:solidFill>
            <a:srgbClr val="edd8f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ERCA DEL 46% DE LA POBLACIÓN LATINOAMERICANA VIVE EN CONDICIONES DE POB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2586240" cy="3816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292720" y="4205160"/>
            <a:ext cx="3851280" cy="2652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6816600" y="0"/>
            <a:ext cx="232740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27640" y="1268280"/>
            <a:ext cx="4321080" cy="504036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entificar las características constitutivas de cada fase de la historia americana del siglo 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ividualizar y problematizar el rol de las revoluciones y las reformas; los gobiernos autoritarios y los ciclos de redemocratización, comprendiendo la importancia de estos procesos en el diseño de la realidad latinoamericana a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tu libro estos  contenidos están  desde la página 252 hasta la 26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268280"/>
            <a:ext cx="4105080" cy="50317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volución política latinoamerica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Período 1930- 19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íodo 1960- 19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ceptos cla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pul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litarismo naciona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cra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ctad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guridad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Verdana"/>
              </a:rPr>
              <a:t>Realicemos la gu</a:t>
            </a:r>
            <a:r>
              <a:rPr b="1" i="1" lang="es-ES_tradnl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ía HU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4656240" cy="5761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2050920" y="692280"/>
          <a:ext cx="4176720" cy="5754600"/>
        </p:xfrm>
        <a:graphic>
          <a:graphicData uri="http://schemas.openxmlformats.org/drawingml/2006/table">
            <a:tbl>
              <a:tblPr/>
              <a:tblGrid>
                <a:gridCol w="865440"/>
                <a:gridCol w="1120680"/>
                <a:gridCol w="21906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nt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1619280" y="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EVISEMOS LA GUÍA HU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8532720" y="5734080"/>
            <a:ext cx="432000" cy="719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52">
                <a:moveTo>
                  <a:pt x="0" y="0"/>
                </a:moveTo>
                <a:lnTo>
                  <a:pt x="21600" y="0"/>
                </a:lnTo>
                <a:lnTo>
                  <a:pt x="21600" y="35952"/>
                </a:lnTo>
                <a:lnTo>
                  <a:pt x="0" y="35952"/>
                </a:lnTo>
                <a:close/>
              </a:path>
              <a:path fill="lightenLess" w="21600" h="359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52">
                <a:moveTo>
                  <a:pt x="21600" y="0"/>
                </a:moveTo>
                <a:lnTo>
                  <a:pt x="21600" y="35952"/>
                </a:lnTo>
                <a:lnTo>
                  <a:pt x="20200" y="34552"/>
                </a:lnTo>
                <a:lnTo>
                  <a:pt x="20200" y="1400"/>
                </a:lnTo>
                <a:close/>
              </a:path>
              <a:path fill="darkenLess" w="21600" h="35952">
                <a:moveTo>
                  <a:pt x="21600" y="35952"/>
                </a:moveTo>
                <a:lnTo>
                  <a:pt x="0" y="35952"/>
                </a:lnTo>
                <a:lnTo>
                  <a:pt x="1400" y="34552"/>
                </a:lnTo>
                <a:lnTo>
                  <a:pt x="20200" y="34552"/>
                </a:lnTo>
                <a:close/>
              </a:path>
              <a:path fill="lighten" w="21600" h="35952">
                <a:moveTo>
                  <a:pt x="0" y="359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52"/>
                </a:lnTo>
                <a:close/>
              </a:path>
              <a:path fill="darken" w="21600" h="35952">
                <a:moveTo>
                  <a:pt x="10800" y="11013"/>
                </a:moveTo>
                <a:lnTo>
                  <a:pt x="13376" y="13624"/>
                </a:lnTo>
                <a:lnTo>
                  <a:pt x="13376" y="11883"/>
                </a:lnTo>
                <a:lnTo>
                  <a:pt x="15152" y="11883"/>
                </a:lnTo>
                <a:lnTo>
                  <a:pt x="15152" y="15400"/>
                </a:lnTo>
                <a:lnTo>
                  <a:pt x="17763" y="17976"/>
                </a:lnTo>
                <a:lnTo>
                  <a:pt x="16109" y="17976"/>
                </a:lnTo>
                <a:lnTo>
                  <a:pt x="16109" y="25165"/>
                </a:lnTo>
                <a:lnTo>
                  <a:pt x="5491" y="25165"/>
                </a:lnTo>
                <a:lnTo>
                  <a:pt x="5491" y="17976"/>
                </a:lnTo>
                <a:lnTo>
                  <a:pt x="3837" y="17976"/>
                </a:lnTo>
                <a:close/>
              </a:path>
              <a:path fill="darkenLess" w="21600" h="35952">
                <a:moveTo>
                  <a:pt x="13376" y="13624"/>
                </a:moveTo>
                <a:lnTo>
                  <a:pt x="13376" y="11883"/>
                </a:lnTo>
                <a:lnTo>
                  <a:pt x="15152" y="11883"/>
                </a:lnTo>
                <a:lnTo>
                  <a:pt x="15152" y="15400"/>
                </a:lnTo>
                <a:close/>
              </a:path>
              <a:path fill="darkenLess" w="21600" h="35952">
                <a:moveTo>
                  <a:pt x="9877" y="21475"/>
                </a:moveTo>
                <a:lnTo>
                  <a:pt x="11723" y="21475"/>
                </a:lnTo>
                <a:lnTo>
                  <a:pt x="11723" y="25165"/>
                </a:lnTo>
                <a:lnTo>
                  <a:pt x="16109" y="25165"/>
                </a:lnTo>
                <a:lnTo>
                  <a:pt x="16109" y="17976"/>
                </a:lnTo>
                <a:lnTo>
                  <a:pt x="5491" y="17976"/>
                </a:lnTo>
                <a:lnTo>
                  <a:pt x="5491" y="25165"/>
                </a:lnTo>
                <a:lnTo>
                  <a:pt x="9877" y="2516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1052640"/>
            <a:ext cx="8208720" cy="13741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MÉRICA LATINA CONTEMPORÁNEA: EVOLUCIÓN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a estos contenidos con la ayuda del tomo II de CEPECH, capítulo 7  (páginas 267 a 27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55640" y="2509920"/>
            <a:ext cx="7775640" cy="43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8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258920" y="0"/>
            <a:ext cx="7561080" cy="6858000"/>
            <a:chOff x="1258920" y="0"/>
            <a:chExt cx="7561080" cy="6858000"/>
          </a:xfrm>
        </p:grpSpPr>
        <p:pic>
          <p:nvPicPr>
            <p:cNvPr id="101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1835280" y="0"/>
              <a:ext cx="69847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258920" y="189000"/>
              <a:ext cx="7235640" cy="64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Para turistas, gente curios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s un sitio exótico para visitar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s solo un lugar económico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pero inadecuado para habitar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Les ofrecen Latinoaméric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l Carnaval de Río y las ruinas Aztecas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gente sucia vagando en las calles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dispuesta a venderse por algunos USA dólares.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Nadie en el resto del planeta toma enserio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a este inmenso pueblo lleno de tristeza.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Se sonríen cuando ven que tiene veintitantas banderitas 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cada cual mas orgullosa de su soberaní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que tonterí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dividir es debilidad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Somos un pueblito tan simpático que todos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nos ayudan si se trata de un conflicto armar.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Pero esa misma cantidad de oro la podrían dar 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para encontrar la solución definitiva al hambre</a:t>
              </a:r>
              <a:br>
                <a:rPr sz="2000"/>
              </a:b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Latinoamérica es grande </a:t>
              </a:r>
              <a:br>
                <a:rPr sz="2000"/>
              </a:b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debe aprender a decidir…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9"/>
          <p:cNvSpPr/>
          <p:nvPr/>
        </p:nvSpPr>
        <p:spPr>
          <a:xfrm>
            <a:off x="1783080" y="189000"/>
            <a:ext cx="576324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¿QUÉ ES SER LATINOAMERICA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43640" y="907920"/>
            <a:ext cx="1666800" cy="2283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340000" y="3357720"/>
            <a:ext cx="2176560" cy="230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700360" y="1052640"/>
            <a:ext cx="1843200" cy="2338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500720" y="3284640"/>
            <a:ext cx="2016000" cy="2482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516720" y="4221000"/>
            <a:ext cx="1882800" cy="237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Photograph taken from http://www.rigobertamenchu.org/"/>
          <p:cNvPicPr/>
          <p:nvPr/>
        </p:nvPicPr>
        <p:blipFill>
          <a:blip r:embed="rId6"/>
          <a:stretch/>
        </p:blipFill>
        <p:spPr>
          <a:xfrm>
            <a:off x="4572000" y="1413000"/>
            <a:ext cx="1871640" cy="187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95280" y="148428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826920" y="3500280"/>
            <a:ext cx="1760760" cy="2521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6516720" y="2637000"/>
            <a:ext cx="1871640" cy="172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189000"/>
            <a:ext cx="828036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¿Cómo se define Latinoamérica?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981000"/>
            <a:ext cx="2158920" cy="432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gráfic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70028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nde todos los países al sur del Río Grande = 33 países y 5 dependencias europ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3141720"/>
            <a:ext cx="2158920" cy="4316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ltur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78936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el territorio que está conformado por  21 países y 5 dependencias europeas (se excluyen los que no son de habla hispa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51280" y="836640"/>
            <a:ext cx="47656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LA EVOLUCIÓN POLÍTICA EN AMÉ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227664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32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436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770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492280"/>
            <a:ext cx="82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930       1940                1950             1960               1970              1980                1990              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981000"/>
            <a:ext cx="813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os son los principales regímenes políticos que se han desarrollado en el siglo XX latinoameric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2304000" y="1664280"/>
            <a:ext cx="503280" cy="3457800"/>
          </a:xfrm>
          <a:custGeom>
            <a:avLst/>
            <a:gdLst>
              <a:gd name="textAreaLeft" fmla="*/ 321480 w 503280"/>
              <a:gd name="textAreaRight" fmla="*/ 503640 w 503280"/>
              <a:gd name="textAreaTop" fmla="*/ 90000 h 3457800"/>
              <a:gd name="textAreaBottom" fmla="*/ 3367800 h 34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5112360" y="2313720"/>
            <a:ext cx="503280" cy="2158920"/>
          </a:xfrm>
          <a:custGeom>
            <a:avLst/>
            <a:gdLst>
              <a:gd name="textAreaLeft" fmla="*/ 321480 w 503280"/>
              <a:gd name="textAreaRight" fmla="*/ 503640 w 50328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7056360" y="2529000"/>
            <a:ext cx="503280" cy="1728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2276640"/>
            <a:ext cx="0" cy="1873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5616360" y="2384280"/>
            <a:ext cx="503280" cy="4608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3716280"/>
            <a:ext cx="1295640" cy="9169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ilitarismo y Popu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716280"/>
            <a:ext cx="1584360" cy="9169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ctaduras de Seguridad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3716280"/>
            <a:ext cx="2160720" cy="368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democrat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4941720"/>
            <a:ext cx="3240360" cy="368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mocracia Popular (Cu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2016000" y="4184280"/>
            <a:ext cx="358920" cy="2737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5076720" y="4005000"/>
            <a:ext cx="358920" cy="30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5805360"/>
            <a:ext cx="2953080" cy="7855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imer Período Pol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30-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5805360"/>
            <a:ext cx="2521080" cy="7855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gundo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60-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PERÍODO 1930-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1700280"/>
            <a:ext cx="309564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Electoral y ampliación del sufrag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2924280"/>
            <a:ext cx="3384720" cy="14770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ciente Urb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poración de la Muj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iminación del  analfabetismo como requisito para sufra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620640"/>
            <a:ext cx="3097080" cy="863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isis del Sis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ligárquico (1900-19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5084640"/>
            <a:ext cx="3311280" cy="7855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ientos Populist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dos marxist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72360" y="1123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00720" y="2347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92720" y="249228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s que posibilitaron este proces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3851280" y="5373360"/>
            <a:ext cx="720720" cy="360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76720" y="11955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voreció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83664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ERÍODO DE REFO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4797360"/>
            <a:ext cx="3492360" cy="119124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SOLIDAN LOS SECTORES MEDIOS Y SE FORTALECE EL MOVIMIENTO OBR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001"/>
          <p:cNvPicPr/>
          <p:nvPr/>
        </p:nvPicPr>
        <p:blipFill>
          <a:blip r:embed="rId1"/>
          <a:stretch/>
        </p:blipFill>
        <p:spPr>
          <a:xfrm>
            <a:off x="324000" y="1700280"/>
            <a:ext cx="4392360" cy="3195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24360" y="981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924360" y="1125360"/>
          <a:ext cx="4789440" cy="4518360"/>
        </p:xfrm>
        <a:graphic>
          <a:graphicData uri="http://schemas.openxmlformats.org/drawingml/2006/table">
            <a:tbl>
              <a:tblPr/>
              <a:tblGrid>
                <a:gridCol w="2133720"/>
                <a:gridCol w="265572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Democracia Electoral Periód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hile, Argentina, Brasil, Uruguay y Costa Ric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Democracias Dirigistas (competencia restringi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éxico (PRI), Colombia (P. Liberal),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ilitar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ran parte de Centroamérica y el Caribe.  Paraguay desde 1954, Bolivia desde 193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opul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éxico (Cárdenas), Brasil (Vargas), Argentina (Perón), Chile (Ibáñez del Campo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Síntesis de Regímenes Políticos  Latinoamericanos entre 1930-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2925720"/>
            <a:ext cx="309564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de regímenes autoritarios y militari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42100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o favorece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680" y="4438800"/>
            <a:ext cx="313884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dos de Ultraderech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litar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1581480" y="3826440"/>
            <a:ext cx="720720" cy="360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1125360"/>
            <a:ext cx="3456000" cy="11912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de 1930 a 1950 hubo desarrollo de partidos de orientación marxista (socialistas y comunistas), Ej.:C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6560" y="2349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Regímenes Popul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2214720" cy="29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651640" y="2852640"/>
            <a:ext cx="3168360" cy="2109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276720" y="2852640"/>
            <a:ext cx="2082600" cy="280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250920" y="62064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gímenes que pretendieron constituirse en una alianza de clases antagónicas (trabajadores, burguesía) para superar el Estado Oligárquico de comienzos de siglo 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27640" y="692280"/>
            <a:ext cx="237492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apa de transición Económica 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43280" y="1989000"/>
            <a:ext cx="2735280" cy="792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apa de Predomi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rí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1640" y="1989000"/>
            <a:ext cx="2592360" cy="793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apa de Predomi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182920" y="141300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38920" y="141300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08720" y="5445000"/>
            <a:ext cx="34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 ejemplos: Velasco Alvarado, en Perú (1968- 1975).Carlos Ibáñez del Campo, en Chile (1952- 195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5589720"/>
            <a:ext cx="230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Juan Domingo Perón,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presidente electo de Argentina entre 1946 y 1952, reelecto entre 1952 y 1955 (fue derrocado por un golpe de Estado) y vuelto a elegir en 1973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5621400"/>
            <a:ext cx="2233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etulio Vargas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, cuatro veces presidente de Brasil, electo en 1930- 1934 (como jefe de Junta Militar), 1934- 1937 (como presidente constitucional), 1937- 1945 (nuevamente como jefe de junta de gobierno) y 1950- 1954 (como presidente electo), fundador del Estado Novo en 19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29760" y="5011560"/>
            <a:ext cx="282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Lázaro Cárdenas, presidente de México entre 1934- 194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WinuE</cp:lastModifiedBy>
  <dcterms:modified xsi:type="dcterms:W3CDTF">2008-10-14T20:37:07Z</dcterms:modified>
  <cp:revision>140</cp:revision>
  <dc:subject/>
  <dc:title>Diapositiva 1</dc:title>
</cp:coreProperties>
</file>