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3AB5-F10E-4BB6-8FA4-7FD5C2F162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bajo: Massera, Videla y Agosti, protagonistas de las dictaduras argentinas (1976- 1983); Pinochet con Hugo Banzer (dictador de Bolivia, 1971- 1978). Arriba, Alfredo Stroessner, dictador de Paragu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sunción al mando presidencial de Aylwin (Chile) y Alfonsín (Argentina, 198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449-CAA1-4B0F-8C6A-1C9A9493FC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PARTIR DE LA PREGUNTA QUE SE PLANTEA EN ESTA DIAPO, SE DEBERÍA TRATAR EL CONCEPTO DE LATINOAMÉ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; abajo, Todos estos presidentes se caracterizaron por crear y financiar movimientos sindicales en apoyo de su gest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F973-AF10-4529-B056-6704A1EE2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3205-6D58-4388-AE75-414D9AAD3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9447-A7D6-4EE7-BCF2-9B859C40C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24E3-2DB8-4F66-B517-03AF802CC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B0B48-DAF4-419C-A134-53A99679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855E2-C3AF-4142-93E6-465972A8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55DBF-FDD9-4868-9300-731F7871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E2CE6-CB9F-420E-8AB8-A10050F3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3E71D-2A39-4C8C-8675-ADCDB980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3BE11-47EB-46BE-95BF-5FA7D2F0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34104-D44B-4DAA-A53F-E2CFF70F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55DB-B8A9-4D05-B083-D3D0025B9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1EDB9-ADF0-45D6-BB27-D1549F5A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F4F9B-C32B-4C42-981A-EDD7F8D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863A-2960-4F82-B77F-B749A71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716C4-7A2C-4300-A771-CDBE9BE6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97BD0-6BEE-4131-976A-E71F175D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798F-3899-4FB0-BB3E-758E10478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0CEA-A6A6-4151-8FDF-EA68BD347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9B06-CE24-4771-831F-D73EDA06A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A19B-B997-43F8-8FFF-D7FD6F248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9004-DDC3-4E8D-BEEB-DDDEBCA73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F5FA-912E-49A6-AE53-6D4D6A7F5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39C4-87D8-4B8B-B298-1E459C77C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210A-DFD6-4DDA-A876-57BB108F7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1882-66A3-4BB2-AFC5-A41DA0E3E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232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Verdana"/>
              </a:rPr>
              <a:t>Clase HU 27: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Verdana"/>
              </a:rPr>
              <a:t>América Latina 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Verdana"/>
              </a:rPr>
              <a:t>Contempo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59280" y="3213000"/>
            <a:ext cx="4427280" cy="31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FACTORES QUE PROPICIARON LA APARICIÓN DEL POPU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052640"/>
            <a:ext cx="453708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os económicos, políticos y sociales derivados de la Crisis de 19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3573360"/>
            <a:ext cx="4537080" cy="3373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ciones campo-ciu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916280"/>
            <a:ext cx="4537080" cy="1434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existencia en la Región de grupos sociales antagónico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OLIDA UNA BURGUESÍA INDUSTRIAL y LAS CLASES OBRERAS SE HACEN MÁS FUE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4294080"/>
            <a:ext cx="4537080" cy="3373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gimiento de líderes caris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4941720"/>
            <a:ext cx="453708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atisfacción de aspiraciones sociales dentro de la institucionalidad política tradi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64000" y="1125360"/>
            <a:ext cx="3333960" cy="333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364000" y="465300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ÓN EN ARGENTINA FUE UNO DE SUS PRINCIPALES REPRESEN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ARACTERÍSTICAS DEL POPU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213000"/>
            <a:ext cx="3995640" cy="865440"/>
          </a:xfrm>
          <a:prstGeom prst="ellipse">
            <a:avLst/>
          </a:prstGeom>
          <a:solidFill>
            <a:srgbClr val="dfd5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curso nacionalis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neralmente anti-estadounid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205000"/>
            <a:ext cx="316872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industriali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2708280"/>
            <a:ext cx="316836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dil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1484280"/>
            <a:ext cx="316836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n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e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197000"/>
            <a:ext cx="3168720" cy="360360"/>
          </a:xfrm>
          <a:prstGeom prst="ellipse">
            <a:avLst/>
          </a:prstGeom>
          <a:solidFill>
            <a:srgbClr val="edd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miautor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4437000"/>
            <a:ext cx="3313080" cy="792360"/>
          </a:xfrm>
          <a:prstGeom prst="ellipse">
            <a:avLst/>
          </a:prstGeom>
          <a:solidFill>
            <a:srgbClr val="ddc1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ceris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i socialismo ni capital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5373720"/>
            <a:ext cx="3311280" cy="836640"/>
          </a:xfrm>
          <a:prstGeom prst="ellipse">
            <a:avLst/>
          </a:prstGeom>
          <a:solidFill>
            <a:srgbClr val="ec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discurso maximalist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y que cambiarlo tod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5013360"/>
            <a:ext cx="5508720" cy="1079640"/>
          </a:xfrm>
          <a:prstGeom prst="ellipse">
            <a:avLst/>
          </a:prstGeom>
          <a:solidFill>
            <a:srgbClr val="ec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oyarse en el movimiento sindical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strumentalizar sus demandas políticas y econó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005360"/>
            <a:ext cx="3168720" cy="431640"/>
          </a:xfrm>
          <a:prstGeom prst="ellipse">
            <a:avLst/>
          </a:prstGeom>
          <a:solidFill>
            <a:srgbClr val="d7e1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ientelismo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719440" cy="316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1"/>
          <p:cNvGrpSpPr/>
          <p:nvPr/>
        </p:nvGrpSpPr>
        <p:grpSpPr>
          <a:xfrm>
            <a:off x="235800" y="4076640"/>
            <a:ext cx="2303640" cy="2567880"/>
            <a:chOff x="235800" y="4076640"/>
            <a:chExt cx="2303640" cy="2567880"/>
          </a:xfrm>
        </p:grpSpPr>
        <p:pic>
          <p:nvPicPr>
            <p:cNvPr id="200" name="Picture 9" descr="castello_branco-2"/>
            <p:cNvPicPr/>
            <p:nvPr/>
          </p:nvPicPr>
          <p:blipFill>
            <a:blip r:embed="rId1"/>
            <a:stretch/>
          </p:blipFill>
          <p:spPr>
            <a:xfrm>
              <a:off x="619200" y="4076640"/>
              <a:ext cx="148752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0"/>
            <p:cNvSpPr/>
            <p:nvPr/>
          </p:nvSpPr>
          <p:spPr>
            <a:xfrm>
              <a:off x="235800" y="6124320"/>
              <a:ext cx="230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64 Brasil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umberto Caste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2864520" y="3933720"/>
            <a:ext cx="2637360" cy="2752200"/>
            <a:chOff x="2864520" y="3933720"/>
            <a:chExt cx="2637360" cy="2752200"/>
          </a:xfrm>
        </p:grpSpPr>
        <p:pic>
          <p:nvPicPr>
            <p:cNvPr id="203" name="Picture 12" descr="ongania"/>
            <p:cNvPicPr/>
            <p:nvPr/>
          </p:nvPicPr>
          <p:blipFill>
            <a:blip r:embed="rId2"/>
            <a:stretch/>
          </p:blipFill>
          <p:spPr>
            <a:xfrm>
              <a:off x="3290760" y="3933720"/>
              <a:ext cx="16380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13"/>
            <p:cNvSpPr/>
            <p:nvPr/>
          </p:nvSpPr>
          <p:spPr>
            <a:xfrm>
              <a:off x="2864520" y="6165720"/>
              <a:ext cx="263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66 Argentina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Juan Carlos Onganía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PERÍODO 1960-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620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e período los avances democráticos fueron limitados en la Región produciéndose un gran retroc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227664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otros se impone una serie de regímenes militares  con un carácter anticomunista, regímen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burocráticos autoritari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8320" y="2278080"/>
            <a:ext cx="367200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países los regímenes dictatoriales alternaron con períodos democr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71760" y="1125360"/>
            <a:ext cx="5184720" cy="909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CRISIS ECONÓMICA REPER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LA 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6246000" y="4076640"/>
            <a:ext cx="2242800" cy="2607840"/>
            <a:chOff x="6246000" y="4076640"/>
            <a:chExt cx="2242800" cy="2607840"/>
          </a:xfrm>
        </p:grpSpPr>
        <p:pic>
          <p:nvPicPr>
            <p:cNvPr id="211" name="Picture 4" descr="1119385285_0"/>
            <p:cNvPicPr/>
            <p:nvPr/>
          </p:nvPicPr>
          <p:blipFill>
            <a:blip r:embed="rId3"/>
            <a:stretch/>
          </p:blipFill>
          <p:spPr>
            <a:xfrm>
              <a:off x="6540120" y="4076640"/>
              <a:ext cx="18478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5"/>
            <p:cNvSpPr/>
            <p:nvPr/>
          </p:nvSpPr>
          <p:spPr>
            <a:xfrm>
              <a:off x="6246000" y="6164280"/>
              <a:ext cx="224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73 Chile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gusto Pinochet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H="1">
            <a:off x="2758680" y="199080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72120" y="199080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DEMOCRACIA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230364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3673440" cy="268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48280" y="620640"/>
            <a:ext cx="749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égimen político desarrollado en Cuba desde 1961 hasta nuestros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aracteriz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773360"/>
            <a:ext cx="2346120" cy="1191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identificación del Parti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munist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con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1773360"/>
            <a:ext cx="2376360" cy="20142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égimen de Partido Únic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oposición política está al margen de la ley. No hay competencia de par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1773360"/>
            <a:ext cx="2879640" cy="20142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y elecciones para todas las instancias del pod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specialmente para la Asamblea Popular (Parlamento), pero sin competencia entre propuestas disti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916360" y="1341360"/>
            <a:ext cx="792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134136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s dictaduras militares de Seguridad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76500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 1964 y 1984 casi todos los países de la Región estaban dirigidos por regímenes milit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428616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10400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020000" y="692280"/>
            <a:ext cx="1670040" cy="25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395280" y="162864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dictaduras se dieron en toda América Latina, salvo: México (por la presencia del PRI), Cuba (comunismo) y Costa Rica (única democracia que sobrevivi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395280" y="105264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9"/>
          <p:cNvGrpSpPr/>
          <p:nvPr/>
        </p:nvGrpSpPr>
        <p:grpSpPr>
          <a:xfrm>
            <a:off x="1835280" y="2060640"/>
            <a:ext cx="5113080" cy="4076280"/>
            <a:chOff x="1835280" y="2060640"/>
            <a:chExt cx="5113080" cy="4076280"/>
          </a:xfrm>
        </p:grpSpPr>
        <p:pic>
          <p:nvPicPr>
            <p:cNvPr id="233" name="Picture 7" descr="madres%20de%20mayo"/>
            <p:cNvPicPr/>
            <p:nvPr/>
          </p:nvPicPr>
          <p:blipFill>
            <a:blip r:embed="rId4"/>
            <a:stretch/>
          </p:blipFill>
          <p:spPr>
            <a:xfrm>
              <a:off x="1835280" y="2060640"/>
              <a:ext cx="5113080" cy="34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8"/>
            <p:cNvSpPr/>
            <p:nvPr/>
          </p:nvSpPr>
          <p:spPr>
            <a:xfrm>
              <a:off x="2124720" y="5494320"/>
              <a:ext cx="457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dres de Plaza de Mayo”, mov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 defensa de los DD.HH. en Argenti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CON LAS DICTADURAS DE SEGURIDAD N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836640"/>
            <a:ext cx="3600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DEBILITA EL MOVIMIENTO O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836640"/>
            <a:ext cx="4562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REPRIME A LA POBLACIÓN BAJO LA LÓGICA DE LA DOCTRINA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44720" y="547560"/>
            <a:ext cx="1224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8360" y="547560"/>
            <a:ext cx="1081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Características comunes de las dictaduras latinoamericanas de Seguridad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3645000"/>
            <a:ext cx="280836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dea de refundación de la sociedad, la economía y la polí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206440" cy="22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919240" cy="314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9280" y="907920"/>
            <a:ext cx="360072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onden a una etapa de alta agitación política, movilización de masas y de crisis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2276640"/>
            <a:ext cx="273672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yo logístico, de inteligencia y asesoría de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1052640"/>
            <a:ext cx="32526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yo de los grupos económicos dominantes en cada pa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2205000"/>
            <a:ext cx="298908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rcicio del gobierno mediante equipos técnicos civiles altamente especia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5300640"/>
            <a:ext cx="327672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secución a la oposición, especialmente de Izquierda. Existen violaciones a los Derechos Hum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3203280" y="17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64000" y="1773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8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0872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755640" y="260280"/>
            <a:ext cx="7632720" cy="13737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RISIS ECONÓMICA DEBILITA LOS GOBIERNOS MILIT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39640" y="1989000"/>
            <a:ext cx="7848720" cy="8254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1984 COMIENZA A RESTAURARSE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alfonsin"/>
          <p:cNvPicPr/>
          <p:nvPr/>
        </p:nvPicPr>
        <p:blipFill>
          <a:blip r:embed="rId1"/>
          <a:stretch/>
        </p:blipFill>
        <p:spPr>
          <a:xfrm>
            <a:off x="1403280" y="3429000"/>
            <a:ext cx="1731960" cy="23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9"/>
          <p:cNvSpPr/>
          <p:nvPr/>
        </p:nvSpPr>
        <p:spPr>
          <a:xfrm>
            <a:off x="1352160" y="5877000"/>
            <a:ext cx="1794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3, Alfons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hsta_sarney"/>
          <p:cNvPicPr/>
          <p:nvPr/>
        </p:nvPicPr>
        <p:blipFill>
          <a:blip r:embed="rId2"/>
          <a:stretch/>
        </p:blipFill>
        <p:spPr>
          <a:xfrm>
            <a:off x="3635280" y="3429000"/>
            <a:ext cx="1652760" cy="213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0" name="Text Box 12"/>
          <p:cNvSpPr/>
          <p:nvPr/>
        </p:nvSpPr>
        <p:spPr>
          <a:xfrm>
            <a:off x="3657240" y="5661000"/>
            <a:ext cx="16390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5, Sar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filename"/>
          <p:cNvPicPr/>
          <p:nvPr/>
        </p:nvPicPr>
        <p:blipFill>
          <a:blip r:embed="rId3"/>
          <a:stretch/>
        </p:blipFill>
        <p:spPr>
          <a:xfrm>
            <a:off x="5940360" y="3429000"/>
            <a:ext cx="2559240" cy="165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2" name="Text Box 15"/>
          <p:cNvSpPr/>
          <p:nvPr/>
        </p:nvSpPr>
        <p:spPr>
          <a:xfrm>
            <a:off x="6031440" y="5229360"/>
            <a:ext cx="2189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5, Sanguinet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democratización de la Reg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rgen regímenes políticos que se caracterizan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508720" y="3716280"/>
            <a:ext cx="3311280" cy="269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732720" y="765000"/>
            <a:ext cx="1796760" cy="2737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544500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s económicas neoliberales en la mayoría de los regímenes, aunque con fuerte oposición de los sindic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55736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establecimiento de las elecciones,  la competencia de partidos y el respeto a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365720"/>
            <a:ext cx="45352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te presencia de los militares en la p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299736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juicios a los militares por violaciones a los Derechos Humanos de la etapa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0" y="0"/>
            <a:ext cx="673272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 PESAR DEL CRECIMIENTO ECONÓMICO  Y DE LAS REFORMAS NEOLIB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1763640" y="148428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50920" y="2205000"/>
            <a:ext cx="3564000" cy="308016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RCA DEL 46% DE LA POBLACIÓN LATINOAMERICANA VIVE EN CONDICIONES DE POB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2586240" cy="3816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292720" y="4205160"/>
            <a:ext cx="3851280" cy="265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816600" y="0"/>
            <a:ext cx="232740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car las características constitutivas de cada fase de la historia americana del siglo 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ividualizar y problematizar el rol de las revoluciones y las reformas; los gobiernos autoritarios y los ciclos de redemocratización, comprendiendo la importancia de estos procesos en el diseño de la realidad latinoamericana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252 hasta la 26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olución política latinoameric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eríodo 1930- 19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íodo 1960-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ul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itarismo nacion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ctad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guridad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656240" cy="5761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n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1619280" y="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8532720" y="573408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  <a:path fill="darken" w="21600" h="35952">
                <a:moveTo>
                  <a:pt x="10800" y="11013"/>
                </a:moveTo>
                <a:lnTo>
                  <a:pt x="13376" y="13624"/>
                </a:lnTo>
                <a:lnTo>
                  <a:pt x="13376" y="11883"/>
                </a:lnTo>
                <a:lnTo>
                  <a:pt x="15152" y="11883"/>
                </a:lnTo>
                <a:lnTo>
                  <a:pt x="15152" y="15400"/>
                </a:lnTo>
                <a:lnTo>
                  <a:pt x="17763" y="17976"/>
                </a:lnTo>
                <a:lnTo>
                  <a:pt x="16109" y="17976"/>
                </a:lnTo>
                <a:lnTo>
                  <a:pt x="16109" y="25165"/>
                </a:lnTo>
                <a:lnTo>
                  <a:pt x="5491" y="25165"/>
                </a:lnTo>
                <a:lnTo>
                  <a:pt x="5491" y="17976"/>
                </a:lnTo>
                <a:lnTo>
                  <a:pt x="3837" y="17976"/>
                </a:lnTo>
                <a:close/>
              </a:path>
              <a:path fill="darkenLess" w="21600" h="35952">
                <a:moveTo>
                  <a:pt x="13376" y="13624"/>
                </a:moveTo>
                <a:lnTo>
                  <a:pt x="13376" y="11883"/>
                </a:lnTo>
                <a:lnTo>
                  <a:pt x="15152" y="11883"/>
                </a:lnTo>
                <a:lnTo>
                  <a:pt x="15152" y="15400"/>
                </a:lnTo>
                <a:close/>
              </a:path>
              <a:path fill="darkenLess" w="21600" h="35952">
                <a:moveTo>
                  <a:pt x="9877" y="21475"/>
                </a:moveTo>
                <a:lnTo>
                  <a:pt x="11723" y="21475"/>
                </a:lnTo>
                <a:lnTo>
                  <a:pt x="11723" y="25165"/>
                </a:lnTo>
                <a:lnTo>
                  <a:pt x="16109" y="25165"/>
                </a:lnTo>
                <a:lnTo>
                  <a:pt x="16109" y="17976"/>
                </a:lnTo>
                <a:lnTo>
                  <a:pt x="5491" y="17976"/>
                </a:lnTo>
                <a:lnTo>
                  <a:pt x="5491" y="25165"/>
                </a:lnTo>
                <a:lnTo>
                  <a:pt x="9877" y="2516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1052640"/>
            <a:ext cx="8208720" cy="13741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MÉRICA LATINA CONTEMPORÁNEA: EVOLU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 7  (páginas 267 a 27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55640" y="2509920"/>
            <a:ext cx="7775640" cy="43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258920" y="0"/>
            <a:ext cx="7561080" cy="6858000"/>
            <a:chOff x="1258920" y="0"/>
            <a:chExt cx="7561080" cy="6858000"/>
          </a:xfrm>
        </p:grpSpPr>
        <p:pic>
          <p:nvPicPr>
            <p:cNvPr id="101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835280" y="0"/>
              <a:ext cx="6984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258920" y="189000"/>
              <a:ext cx="7235640" cy="64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ara turistas, gente curios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 un sitio exótico para visitar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 solo un lugar económico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ero inadecuado para habitar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es ofrecen Latinoaméric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l Carnaval de Río y las ruinas Azteca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gente sucia vagando en las calle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ispuesta a venderse por algunos USA dólares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adie en el resto del planeta toma enserio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 este inmenso pueblo lleno de tristeza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e sonríen cuando ven que tiene veintitantas banderitas 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da cual mas orgullosa de su soberaní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que tonterí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ividir es debilidad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mos un pueblito tan simpático que todo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os ayudan si se trata de un conflicto armar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ero esa misma cantidad de oro la podrían dar 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ara encontrar la solución definitiva al hambre</a:t>
              </a:r>
              <a:br>
                <a:rPr sz="2000"/>
              </a:b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Latinoamérica es grande </a:t>
              </a:r>
              <a:br>
                <a:rPr sz="2000"/>
              </a:b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debe aprender a decidir…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9"/>
          <p:cNvSpPr/>
          <p:nvPr/>
        </p:nvSpPr>
        <p:spPr>
          <a:xfrm>
            <a:off x="1783080" y="189000"/>
            <a:ext cx="576324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¿QUÉ ES SER LATINOAMERIC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1666800" cy="228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40000" y="3357720"/>
            <a:ext cx="2176560" cy="230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700360" y="1052640"/>
            <a:ext cx="1843200" cy="2338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2016000" cy="248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516720" y="422100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graph taken from http://www.rigobertamenchu.org/"/>
          <p:cNvPicPr/>
          <p:nvPr/>
        </p:nvPicPr>
        <p:blipFill>
          <a:blip r:embed="rId6"/>
          <a:stretch/>
        </p:blipFill>
        <p:spPr>
          <a:xfrm>
            <a:off x="4572000" y="141300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95280" y="148428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826920" y="3500280"/>
            <a:ext cx="176076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6516720" y="263700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89000"/>
            <a:ext cx="8280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¿Cómo se define Latinoamérica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981000"/>
            <a:ext cx="215892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gráf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70028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nde todos los países al sur del Río Grande = 33 países y 5 depend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141720"/>
            <a:ext cx="2158920" cy="43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ltur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789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territorio que está conformado por  21 países y 5 dependencias europeas (se excluyen los que no son de habla hispa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836640"/>
            <a:ext cx="4765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EVOLUCIÓN POLÍTICA EN AMÉ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27664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492280"/>
            <a:ext cx="82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930       1940                1950             1960               1970              1980                1990              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981000"/>
            <a:ext cx="813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s son los principales regímenes políticos que se han desarrollado en el siglo XX latinoamer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304000" y="1664280"/>
            <a:ext cx="503280" cy="3457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90000 h 3457800"/>
              <a:gd name="textAreaBottom" fmla="*/ 3367800 h 34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112360" y="2313720"/>
            <a:ext cx="503280" cy="2158920"/>
          </a:xfrm>
          <a:custGeom>
            <a:avLst/>
            <a:gdLst>
              <a:gd name="textAreaLeft" fmla="*/ 321480 w 503280"/>
              <a:gd name="textAreaRight" fmla="*/ 503640 w 5032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056360" y="2529000"/>
            <a:ext cx="503280" cy="1728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276640"/>
            <a:ext cx="0" cy="187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616360" y="2384280"/>
            <a:ext cx="503280" cy="46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716280"/>
            <a:ext cx="1295640" cy="916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litarismo y Popu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16280"/>
            <a:ext cx="1584360" cy="916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ctaduras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3716280"/>
            <a:ext cx="216072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democra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4941720"/>
            <a:ext cx="324036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ocracia Popular (Cu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016000" y="4184280"/>
            <a:ext cx="358920" cy="2737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5076720" y="4005000"/>
            <a:ext cx="358920" cy="30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805360"/>
            <a:ext cx="2953080" cy="785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imer Período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30-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5805360"/>
            <a:ext cx="2521080" cy="785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gundo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60-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PERÍODO 1930-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700280"/>
            <a:ext cx="30956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Electoral y ampliación del sufrag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2924280"/>
            <a:ext cx="3384720" cy="14770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ciente Urb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de la Muj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minación del  analfabetismo como requisito para sufr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620640"/>
            <a:ext cx="3097080" cy="863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sis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ligárquico (1900-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5084640"/>
            <a:ext cx="3311280" cy="7855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ientos Populis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s marxis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1123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234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24922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s que posibilitaron este proce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851280" y="537336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11955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eció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836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ÍODO DE REFO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4797360"/>
            <a:ext cx="3492360" cy="1191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OLIDAN LOS SECTORES MEDIOS Y SE FORTALECE EL MOVIMIENTO O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001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319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981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924360" y="1125360"/>
          <a:ext cx="4789440" cy="4518360"/>
        </p:xfrm>
        <a:graphic>
          <a:graphicData uri="http://schemas.openxmlformats.org/drawingml/2006/table">
            <a:tbl>
              <a:tblPr/>
              <a:tblGrid>
                <a:gridCol w="2133720"/>
                <a:gridCol w="265572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mocracia Electoral Perió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ile, Argentina, Brasil, Uruguay y Costa R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mocracias Dirigistas (competencia restringi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éxico (PRI), Colombia (P. Liberal),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litar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ran parte de Centroamérica y el Caribe.  Paraguay desde 1954, Bolivia desde 19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opul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éxico (Cárdenas), Brasil (Vargas), Argentina (Perón), Chile (Ibáñez del Campo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íntesis de Regímenes Políticos  Latinoamericanos entre 193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925720"/>
            <a:ext cx="30956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regímenes autoritarios y militar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4210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o favorec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680" y="4438800"/>
            <a:ext cx="313884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dos de Ultraderech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itar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581480" y="382644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125360"/>
            <a:ext cx="345600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de 1930 a 1950 hubo desarrollo de partidos de orientación marxista (socialistas y comunistas), Ej.: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6560" y="23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gímenes Popu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21472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3168360" cy="2109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2082600" cy="28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250920" y="62064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ímenes que pretendieron constituirse en una alianza de clases antagónicas (trabajadores, burguesía) para superar el Estado Oligárquico de comienzos de siglo 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7640" y="692280"/>
            <a:ext cx="23749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pa de transición Económica 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43280" y="1989000"/>
            <a:ext cx="2735280" cy="792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1640" y="1989000"/>
            <a:ext cx="2592360" cy="793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2920" y="141300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38920" y="141300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544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 ejemplos: Velasco Alvarado, en Perú (1968- 1975).Carlos Ibáñez del Campo, en Chile (1952- 195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5897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an Domingo Perón,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presidente electo de Argentina entre 1946 y 1952, reelecto entre 1952 y 1955 (fue derrocado por un golpe de Estado) y vuelto a elegir en 197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5621400"/>
            <a:ext cx="2233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etulio Vargas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, cuatro veces presidente de Brasil, electo en 1930- 1934 (como jefe de Junta Militar), 1934- 1937 (como presidente constitucional), 1937- 1945 (nuevamente como jefe de junta de gobierno) y 1950- 1954 (como presidente electo), fundador del Estado Novo en 19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9760" y="5011560"/>
            <a:ext cx="282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ázaro Cárdenas, presidente de México entre 1934- 19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10-14T20:37:07Z</dcterms:modified>
  <cp:revision>140</cp:revision>
  <dc:subject/>
  <dc:title>Diapositiva 1</dc:title>
</cp:coreProperties>
</file>