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3DF5-B68E-43D6-A5F2-DF2E9494E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AFD-E07D-4086-A7CC-680A88E823B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imagen muestra el Salón de Promoción al Comercio que se encuentra ubicado en la ciudad de Hirosh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A8E-C62E-4DBE-8F6A-1A8D3FD713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izquierda, Mac Arthur e Hirohito; derecha: Yoshida Shigeru, Primer Ministro japonés entre 1946 y 1954. Abajo: industria automotriz nipona, base del desarrollo que convirtió a Japón en una de las potencias industriales del mundo; derecha: Hayato Ikeda, Primer Ministro japonés entre 1960 y 1964; durante su gobierno se inició la época de crecimiento económico que permitió la expansión industrial japon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AA8-EC8C-431B-A2E4-56708776B0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izquierda a derecha, Conferencia de Bandung (1956), en la que se fundó el Movimiento de Países No Alineados; símbolo de la XIII Cumbre del Movimiento No Alineados (MNOAL), de 2003; IV Cumbre del MNOAL, con presencia de Ernesto Guevara, como representante de Cu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F950-2564-4D7B-91D3-3EA75902DE4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B03-35AE-41D1-AC7C-74F9617815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0C9-C20A-4B27-B6EB-15331DB716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F2CB-B2D9-481A-B126-F29519D7080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Lech Walesa,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fundador del sindicato Solidaridad y primer presidente democrático de Polonia tras la caída del comunismo  (primer jefe de gobierno no comunista en Polonia) ;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erenc Gyurcsany, Primer Ministro de Hungría reelecto en 1989, tras la disolución del PC de ese país. Abajo: Movilización popular en Berlín, antes de la caída del Muro. Rumania, Campaña política, uno de los pocos ejemplos  a favor del comunismo  tras la caída del mu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4D2-0AFC-4508-A1EB-EA2334DC0AF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los dos máximos exponentes del neoliberalismo, ambos Premios Nobel de Economía:  Friedrich von Hayek y  Milton 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BE01-33FA-4BBF-A6D8-1C390ABC858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A21-AE08-4246-886F-6ECC773CDF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576-97D8-4EAE-8DBD-790C877526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440E-0221-434A-A139-F07A0168A1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corresponden a la Revolución Cultural Ch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4EA-3A1A-4E5C-AECD-7DF4FF4CB45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81B3-E9EF-46DC-BFAE-47C7025A9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416E-29CE-4EE9-9FA6-39435FF4A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273-0193-410D-B143-1676BC603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D260-7DBA-4385-AC6F-D453A9DAD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FA02F-D5C3-4450-9D7B-1D4A764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3D135-08CE-44FA-9926-6E0DB18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3092-1117-4ED2-A897-969E0D8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82CA-DBBE-4670-9E15-BFA4525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BCEB6-A848-47E2-B710-9A4B0E48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7C5C-67F0-40E0-93F7-FCAD531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46442-CAB3-4CCB-B89C-60FF158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8863-F6FF-4887-A26E-1DE908D48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2D5E5-BF87-4470-88E3-D43E6A4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95F7-C70E-412D-AC2E-5DF2048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AC1D-732B-482F-96A9-5078196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84689-B626-437D-B801-17E78CA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DB398-C052-4129-9C0D-3C0ACDD1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899B-9CBF-43AA-BE3C-26E223458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C343-B1DC-46C8-971A-0ECD75C5B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559A-8003-4238-91D0-5D5038465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9284-C408-4762-8BEF-75B187C1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0AE7-8480-4792-B394-94D3D257A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9727-F56D-4C87-9A7F-DDAEC8E1A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DA09-14E1-431C-A4C1-1E928E48B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7742-88C2-4A30-A904-3A3F17B256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1EF1-785C-4C8F-8BD6-4DFEF3DEA12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Clase 26: </a:t>
            </a:r>
            <a:br>
              <a:rPr sz="44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ORDEN MUNDIAL DE POSGUERRA: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E UN  MUNDO BIPOLAR A UNO MULTIPOLAR.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mans_arredor_do_mundo_590"/>
          <p:cNvPicPr/>
          <p:nvPr/>
        </p:nvPicPr>
        <p:blipFill>
          <a:blip r:embed="rId2"/>
          <a:stretch/>
        </p:blipFill>
        <p:spPr>
          <a:xfrm>
            <a:off x="2843280" y="3141720"/>
            <a:ext cx="4681440" cy="351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3095640" cy="58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63640" y="9079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ómo se logró este camb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547640" y="155736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en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788000" y="1557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act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7416720" cy="456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2" name="Picture 7" descr="japononpeq"/>
          <p:cNvPicPr/>
          <p:nvPr/>
        </p:nvPicPr>
        <p:blipFill>
          <a:blip r:embed="rId2"/>
          <a:stretch/>
        </p:blipFill>
        <p:spPr>
          <a:xfrm>
            <a:off x="6732720" y="189000"/>
            <a:ext cx="21589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Factores del desarrollo de Japón, después de la Segunda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ss_japon_aichi_toyota"/>
          <p:cNvPicPr/>
          <p:nvPr/>
        </p:nvPicPr>
        <p:blipFill>
          <a:blip r:embed="rId1"/>
          <a:stretch/>
        </p:blipFill>
        <p:spPr>
          <a:xfrm>
            <a:off x="75564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acarthurehirohito_noticias_1212"/>
          <p:cNvPicPr/>
          <p:nvPr/>
        </p:nvPicPr>
        <p:blipFill>
          <a:blip r:embed="rId2"/>
          <a:stretch/>
        </p:blipFill>
        <p:spPr>
          <a:xfrm>
            <a:off x="755640" y="1052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924360" y="1197000"/>
            <a:ext cx="230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democracia impuesta: Durante la ocupación de Estados Unidos, el emperador Hirohito fue obligado a dejar el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Yoshida"/>
          <p:cNvPicPr/>
          <p:nvPr/>
        </p:nvPicPr>
        <p:blipFill>
          <a:blip r:embed="rId3"/>
          <a:stretch/>
        </p:blipFill>
        <p:spPr>
          <a:xfrm>
            <a:off x="6443640" y="981000"/>
            <a:ext cx="2411280" cy="259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924360" y="3573360"/>
            <a:ext cx="237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nte la década de 1960, se llevó a cabo un fuerte proceso de industrialización con el apoyo financiero de Estados Unidos y la gran capacidad productiva e innovadora japon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ouri58"/>
          <p:cNvPicPr/>
          <p:nvPr/>
        </p:nvPicPr>
        <p:blipFill>
          <a:blip r:embed="rId4"/>
          <a:stretch/>
        </p:blipFill>
        <p:spPr>
          <a:xfrm>
            <a:off x="6443640" y="3645000"/>
            <a:ext cx="23907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OS PAÍSES NO ALIN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8360" y="549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junto de países que rechazaron formar parte de las zonas de influencia de las dos superpo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564000" y="13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ecuencias de la Descolo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468360" y="1413000"/>
            <a:ext cx="208908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6588000" y="1413000"/>
            <a:ext cx="208944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ocolon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2556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5580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92360" y="2060640"/>
            <a:ext cx="540072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ONFERENCIA DE BANDUNG, EN 1956 SE CONSTITUYÓ EN EL GERMEN DEL MOVIMIENTO DE  PAÍSES NO ALIN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328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etende la transición al nuevo orden basado en la cooperación entre las naciones, fundado en la libertad, igualdad y justi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79280" y="4292640"/>
            <a:ext cx="8642520" cy="2151000"/>
            <a:chOff x="179280" y="4292640"/>
            <a:chExt cx="8642520" cy="2151000"/>
          </a:xfrm>
        </p:grpSpPr>
        <p:pic>
          <p:nvPicPr>
            <p:cNvPr id="200" name="Picture 13" descr="Nico"/>
            <p:cNvPicPr/>
            <p:nvPr/>
          </p:nvPicPr>
          <p:blipFill>
            <a:blip r:embed="rId1"/>
            <a:stretch/>
          </p:blipFill>
          <p:spPr>
            <a:xfrm>
              <a:off x="6084720" y="4292640"/>
              <a:ext cx="2737080" cy="2151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1" name="Picture 14" descr="logo"/>
            <p:cNvPicPr/>
            <p:nvPr/>
          </p:nvPicPr>
          <p:blipFill>
            <a:blip r:embed="rId2"/>
            <a:stretch/>
          </p:blipFill>
          <p:spPr>
            <a:xfrm>
              <a:off x="3419640" y="4292640"/>
              <a:ext cx="2592360" cy="2135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2" name="Picture 15" descr=""/>
            <p:cNvPicPr/>
            <p:nvPr/>
          </p:nvPicPr>
          <p:blipFill>
            <a:blip r:embed="rId3"/>
            <a:stretch/>
          </p:blipFill>
          <p:spPr>
            <a:xfrm>
              <a:off x="179280" y="4292640"/>
              <a:ext cx="3241800" cy="21463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203244462_0"/>
          <p:cNvPicPr/>
          <p:nvPr/>
        </p:nvPicPr>
        <p:blipFill>
          <a:blip r:embed="rId1"/>
          <a:stretch/>
        </p:blipFill>
        <p:spPr>
          <a:xfrm>
            <a:off x="468360" y="1125360"/>
            <a:ext cx="1930320" cy="2374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4" name="Picture 3" descr="nasser"/>
          <p:cNvPicPr/>
          <p:nvPr/>
        </p:nvPicPr>
        <p:blipFill>
          <a:blip r:embed="rId2"/>
          <a:stretch/>
        </p:blipFill>
        <p:spPr>
          <a:xfrm>
            <a:off x="6659640" y="1125360"/>
            <a:ext cx="216036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5" name="Picture 4" descr="9196-004-F4D96022"/>
          <p:cNvPicPr/>
          <p:nvPr/>
        </p:nvPicPr>
        <p:blipFill>
          <a:blip r:embed="rId3"/>
          <a:stretch/>
        </p:blipFill>
        <p:spPr>
          <a:xfrm>
            <a:off x="6804000" y="3789360"/>
            <a:ext cx="1874880" cy="21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539640" y="3573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o (Yugoslavi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093080" y="335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sser (Egip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451640" y="609300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nehru_3"/>
          <p:cNvPicPr/>
          <p:nvPr/>
        </p:nvPicPr>
        <p:blipFill>
          <a:blip r:embed="rId4"/>
          <a:stretch/>
        </p:blipFill>
        <p:spPr>
          <a:xfrm>
            <a:off x="395280" y="3933720"/>
            <a:ext cx="1924200" cy="235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Text Box 9"/>
          <p:cNvSpPr/>
          <p:nvPr/>
        </p:nvSpPr>
        <p:spPr>
          <a:xfrm>
            <a:off x="468360" y="638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hru (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OTAGONISTAS DEL MOVIMIENTO DE PAÍSES NO ALIN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noal1"/>
          <p:cNvPicPr/>
          <p:nvPr/>
        </p:nvPicPr>
        <p:blipFill>
          <a:blip r:embed="rId5"/>
          <a:stretch/>
        </p:blipFill>
        <p:spPr>
          <a:xfrm>
            <a:off x="3059280" y="1989000"/>
            <a:ext cx="3168360" cy="3087720"/>
          </a:xfrm>
          <a:prstGeom prst="rect">
            <a:avLst/>
          </a:prstGeom>
          <a:ln w="0">
            <a:noFill/>
          </a:ln>
        </p:spPr>
      </p:pic>
      <p:sp>
        <p:nvSpPr>
          <p:cNvPr id="213" name="Line 13"/>
          <p:cNvSpPr/>
          <p:nvPr/>
        </p:nvSpPr>
        <p:spPr>
          <a:xfrm flipH="1" flipV="1">
            <a:off x="2484000" y="1628640"/>
            <a:ext cx="115092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411280" y="414972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5724360" y="4149720"/>
            <a:ext cx="100836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5508720" y="162864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ERCER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76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ncepto surge en 1950 por el francés Savny para distinguirlo del primer mundo (capitalista) y el segundo mundo (sociali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79280" y="1484280"/>
            <a:ext cx="424836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rdemos algunas 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suficiencia alimen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recursos naturales inferti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gran número de agricultores con baj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dustrialización restringida o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xcesivo desarrollo del sector terc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Situación de subordinación económic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Violentas desigualdade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levado índice de desempleo y trabajo infan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Analfabet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scasa integración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nferme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Ying_Yang_del_mundo[1]"/>
          <p:cNvPicPr/>
          <p:nvPr/>
        </p:nvPicPr>
        <p:blipFill>
          <a:blip r:embed="rId1"/>
          <a:stretch/>
        </p:blipFill>
        <p:spPr>
          <a:xfrm>
            <a:off x="4500720" y="1484280"/>
            <a:ext cx="446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IGA Á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400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fundada en 1945 por Egipto, Iraq, Jordania, Líbano, Arabia Saudí, Siria y Yemen del Norte. Actualmente agrupa a 23 Estados árabes. Entre sus objetivos iniciales estuvo el de lograr la independencia de todas las naciones árabes que eran colon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Map_of_League_of_Arab_States_countries"/>
          <p:cNvPicPr/>
          <p:nvPr/>
        </p:nvPicPr>
        <p:blipFill>
          <a:blip r:embed="rId1"/>
          <a:stretch/>
        </p:blipFill>
        <p:spPr>
          <a:xfrm>
            <a:off x="5940360" y="620640"/>
            <a:ext cx="3203640" cy="258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onflic"/>
          <p:cNvPicPr/>
          <p:nvPr/>
        </p:nvPicPr>
        <p:blipFill>
          <a:blip r:embed="rId2"/>
          <a:stretch/>
        </p:blipFill>
        <p:spPr>
          <a:xfrm>
            <a:off x="324000" y="2708280"/>
            <a:ext cx="5832360" cy="390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5" name="Text Box 6"/>
          <p:cNvSpPr/>
          <p:nvPr/>
        </p:nvSpPr>
        <p:spPr>
          <a:xfrm>
            <a:off x="6156360" y="3789360"/>
            <a:ext cx="28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rincipal conflicto que enfrentó a los países árabes con las potencias occidentales fue la Guerra árabe Israelí, cuyos antecedentes se remontan a  la constitución del estado de Israel e territorio de Palestina con apoyo de 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AÍDA DEL MURO DE BER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916360" y="549360"/>
            <a:ext cx="194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50920" y="3645000"/>
            <a:ext cx="28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reformas pusieron en evidencia que la URSS estaba al borde del colapso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Yuri Andropov"/>
          <p:cNvPicPr/>
          <p:nvPr/>
        </p:nvPicPr>
        <p:blipFill>
          <a:blip r:embed="rId1"/>
          <a:stretch/>
        </p:blipFill>
        <p:spPr>
          <a:xfrm>
            <a:off x="3348000" y="2781360"/>
            <a:ext cx="211788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0" name="Picture 6" descr="Mikhail Gorbachev"/>
          <p:cNvPicPr/>
          <p:nvPr/>
        </p:nvPicPr>
        <p:blipFill>
          <a:blip r:embed="rId2"/>
          <a:stretch/>
        </p:blipFill>
        <p:spPr>
          <a:xfrm>
            <a:off x="6372360" y="3357720"/>
            <a:ext cx="2158920" cy="286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395280" y="1052640"/>
            <a:ext cx="2521080" cy="14655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risis del petróleo (1973) y la decadencia económica de los países socialistas (1973-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788000" y="1052640"/>
            <a:ext cx="2935080" cy="642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icio de un ciclo de reformas en la UR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5943960" y="2852640"/>
            <a:ext cx="146268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estroik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7959960" y="2852640"/>
            <a:ext cx="103104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asno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3569040" y="1916280"/>
            <a:ext cx="1485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rop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2- 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6869160" y="1844640"/>
            <a:ext cx="154944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rbach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5- 199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H="1">
            <a:off x="5074920" y="1700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6227640" y="1700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6877080" y="263700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7812000" y="26370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981000"/>
            <a:ext cx="71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4067280" y="981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La caída del Muro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765000"/>
            <a:ext cx="806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el símbolo de la crisis del régimen comunista en Euro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5564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stró que la URSS ya no estaba en condiciones políticas y económicas para evitar la liberalización de sus aliados europ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564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onia (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1101820104_400"/>
          <p:cNvPicPr/>
          <p:nvPr/>
        </p:nvPicPr>
        <p:blipFill>
          <a:blip r:embed="rId1"/>
          <a:stretch/>
        </p:blipFill>
        <p:spPr>
          <a:xfrm>
            <a:off x="826920" y="3141720"/>
            <a:ext cx="194796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mapash34"/>
          <p:cNvPicPr/>
          <p:nvPr/>
        </p:nvPicPr>
        <p:blipFill>
          <a:blip r:embed="rId2"/>
          <a:stretch/>
        </p:blipFill>
        <p:spPr>
          <a:xfrm>
            <a:off x="2916360" y="2349360"/>
            <a:ext cx="6011640" cy="418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CRISIS DEL COMUNISM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19280" y="62064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 de los regímenes comunistas en Europa del Este. Tres tipos de proce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ng_nm0099"/>
          <p:cNvPicPr/>
          <p:nvPr/>
        </p:nvPicPr>
        <p:blipFill>
          <a:blip r:embed="rId1"/>
          <a:stretch/>
        </p:blipFill>
        <p:spPr>
          <a:xfrm>
            <a:off x="1619280" y="4292640"/>
            <a:ext cx="184932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2" name="Picture 8" descr="ReunificacionAlemania"/>
          <p:cNvPicPr/>
          <p:nvPr/>
        </p:nvPicPr>
        <p:blipFill>
          <a:blip r:embed="rId2"/>
          <a:stretch/>
        </p:blipFill>
        <p:spPr>
          <a:xfrm>
            <a:off x="3635280" y="3213000"/>
            <a:ext cx="26640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4"/>
          <p:cNvGrpSpPr/>
          <p:nvPr/>
        </p:nvGrpSpPr>
        <p:grpSpPr>
          <a:xfrm>
            <a:off x="324000" y="1341360"/>
            <a:ext cx="8640720" cy="1759680"/>
            <a:chOff x="324000" y="1341360"/>
            <a:chExt cx="8640720" cy="1759680"/>
          </a:xfrm>
        </p:grpSpPr>
        <p:sp>
          <p:nvSpPr>
            <p:cNvPr id="254" name="Text Box 4"/>
            <p:cNvSpPr/>
            <p:nvPr/>
          </p:nvSpPr>
          <p:spPr>
            <a:xfrm>
              <a:off x="324000" y="1628640"/>
              <a:ext cx="243684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ptura Interior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lonia (1985), Hungrí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3352680" y="1628640"/>
              <a:ext cx="3029040" cy="147240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lización popular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DA (1989), Checoslovaquia (1989), Bulga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7047000" y="1628640"/>
              <a:ext cx="191772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urrección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mani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1359000" y="1341360"/>
              <a:ext cx="642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135900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68324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7786800" y="134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16" descr="Lech_Walesa"/>
          <p:cNvPicPr/>
          <p:nvPr/>
        </p:nvPicPr>
        <p:blipFill>
          <a:blip r:embed="rId3"/>
          <a:stretch/>
        </p:blipFill>
        <p:spPr>
          <a:xfrm>
            <a:off x="324000" y="2781360"/>
            <a:ext cx="1871640" cy="1376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2" name="Rectangle 17"/>
          <p:cNvSpPr/>
          <p:nvPr/>
        </p:nvSpPr>
        <p:spPr>
          <a:xfrm>
            <a:off x="325800" y="422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ch Wal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2122560" y="644040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erenc Gyurcs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0" descr="mu"/>
          <p:cNvPicPr/>
          <p:nvPr/>
        </p:nvPicPr>
        <p:blipFill>
          <a:blip r:embed="rId4"/>
          <a:stretch/>
        </p:blipFill>
        <p:spPr>
          <a:xfrm>
            <a:off x="4859280" y="4437000"/>
            <a:ext cx="1484280" cy="22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untitled[1]"/>
          <p:cNvPicPr/>
          <p:nvPr/>
        </p:nvPicPr>
        <p:blipFill>
          <a:blip r:embed="rId5"/>
          <a:stretch/>
        </p:blipFill>
        <p:spPr>
          <a:xfrm>
            <a:off x="7093080" y="2781360"/>
            <a:ext cx="17143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SCENSO DEL NEOLIBER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Milton%20Friedman%20Greyscale"/>
          <p:cNvPicPr/>
          <p:nvPr/>
        </p:nvPicPr>
        <p:blipFill>
          <a:blip r:embed="rId1"/>
          <a:stretch/>
        </p:blipFill>
        <p:spPr>
          <a:xfrm>
            <a:off x="6732720" y="692280"/>
            <a:ext cx="1908000" cy="2376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20050112-hayek"/>
          <p:cNvPicPr/>
          <p:nvPr/>
        </p:nvPicPr>
        <p:blipFill>
          <a:blip r:embed="rId2"/>
          <a:stretch/>
        </p:blipFill>
        <p:spPr>
          <a:xfrm>
            <a:off x="1116000" y="765000"/>
            <a:ext cx="2089080" cy="205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Rectangle 6"/>
          <p:cNvSpPr/>
          <p:nvPr/>
        </p:nvSpPr>
        <p:spPr>
          <a:xfrm>
            <a:off x="2993040" y="2997360"/>
            <a:ext cx="3059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tulados de esta doctr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79280" y="3213000"/>
            <a:ext cx="2376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ducción del rol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796000" y="4149720"/>
            <a:ext cx="23763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vatización de empres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085440" y="3429000"/>
            <a:ext cx="264960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ol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684360" y="4005360"/>
            <a:ext cx="309708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te de los costos fiscales: disminución del gast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eoliberalismo se aplicó por primera vez en Chile (1975), Inglaterra (1979) y Estados Unidos (198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7021800" y="2996640"/>
            <a:ext cx="14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lt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1116000" y="285192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rich Von Hay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72000" y="62064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2555640" y="3213000"/>
            <a:ext cx="43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6084720" y="314172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2555640" y="3429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5435640" y="342900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5060520" y="5084640"/>
            <a:ext cx="40838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regulación y flexibilidad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334520" y="5084640"/>
            <a:ext cx="3429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H="1">
            <a:off x="3924000" y="342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4716360" y="342900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4000" y="1268280"/>
            <a:ext cx="4105080" cy="49035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 un mundo bipolar a un mundo multipolar: el papel de Europa, China y Japón. Los países no-alineados y el Tercer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ída del muro: el fin del bloque socialista, la transformación de los estados de Europa Oriental y el debate sobre el futuro del soci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l ascenso del neoliberalismo en la década de 1980: Estados Unidos, Inglaterra y América La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 aline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ercer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 (post soviét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eo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27640" y="1268280"/>
            <a:ext cx="4321080" cy="489744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ces cómo a partir de los años setenta surge una diversidad actores que dinamizan el escenario político internacional y señalan el paso de un mundo bipolar a uno multipo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ndas los cambios ocurridos en el sistema internacional a fines del siglo, a partir de la caída de los socialismos reales en Europa y en la URSS, y del auge del neoliber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os contenidos están  desde la página 239 hasta la 2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" action="ppaction://hlinkshowjump?jump=firstslide"/>
          </p:cNvPr>
          <p:cNvSpPr/>
          <p:nvPr/>
        </p:nvSpPr>
        <p:spPr>
          <a:xfrm>
            <a:off x="8712360" y="566100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10800" y="11028"/>
                </a:moveTo>
                <a:lnTo>
                  <a:pt x="13376" y="13639"/>
                </a:ln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lnTo>
                  <a:pt x="17763" y="17991"/>
                </a:lnTo>
                <a:lnTo>
                  <a:pt x="16109" y="17991"/>
                </a:lnTo>
                <a:lnTo>
                  <a:pt x="16109" y="25180"/>
                </a:lnTo>
                <a:lnTo>
                  <a:pt x="5491" y="25180"/>
                </a:lnTo>
                <a:lnTo>
                  <a:pt x="5491" y="17991"/>
                </a:lnTo>
                <a:lnTo>
                  <a:pt x="3837" y="17991"/>
                </a:lnTo>
                <a:close/>
              </a:path>
              <a:path fill="darkenLess" w="21600" h="35982">
                <a:moveTo>
                  <a:pt x="13376" y="13639"/>
                </a:move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close/>
              </a:path>
              <a:path fill="darkenLess" w="21600" h="35982">
                <a:moveTo>
                  <a:pt x="9877" y="21490"/>
                </a:moveTo>
                <a:lnTo>
                  <a:pt x="11723" y="21490"/>
                </a:lnTo>
                <a:lnTo>
                  <a:pt x="11723" y="25180"/>
                </a:lnTo>
                <a:lnTo>
                  <a:pt x="16109" y="25180"/>
                </a:lnTo>
                <a:lnTo>
                  <a:pt x="16109" y="17991"/>
                </a:lnTo>
                <a:lnTo>
                  <a:pt x="5491" y="17991"/>
                </a:lnTo>
                <a:lnTo>
                  <a:pt x="5491" y="25180"/>
                </a:lnTo>
                <a:lnTo>
                  <a:pt x="9877" y="2518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9280" y="1268280"/>
            <a:ext cx="4105440" cy="3020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</a:rPr>
              <a:t>AMÉRICA LATINA CONTEMPORÁNEA: EVOLU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52 a 26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Latinoamerica"/>
          <p:cNvPicPr/>
          <p:nvPr/>
        </p:nvPicPr>
        <p:blipFill>
          <a:blip r:embed="rId1"/>
          <a:stretch/>
        </p:blipFill>
        <p:spPr>
          <a:xfrm>
            <a:off x="4427640" y="1268280"/>
            <a:ext cx="4216320" cy="49690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p:transition>
    <p:comb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31guerra"/>
          <p:cNvPicPr/>
          <p:nvPr/>
        </p:nvPicPr>
        <p:blipFill>
          <a:blip r:embed="rId1"/>
          <a:stretch/>
        </p:blipFill>
        <p:spPr>
          <a:xfrm>
            <a:off x="324000" y="1557360"/>
            <a:ext cx="4190760" cy="43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haldei_exhibit_0523[1]"/>
          <p:cNvPicPr/>
          <p:nvPr/>
        </p:nvPicPr>
        <p:blipFill>
          <a:blip r:embed="rId2"/>
          <a:stretch/>
        </p:blipFill>
        <p:spPr>
          <a:xfrm>
            <a:off x="4606920" y="333360"/>
            <a:ext cx="4537080" cy="296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oldados_EE_UU_colocan_bandera_pais_monte_Suribachi_Iwo_Jima_23_febrero"/>
          <p:cNvPicPr/>
          <p:nvPr/>
        </p:nvPicPr>
        <p:blipFill>
          <a:blip r:embed="rId3"/>
          <a:stretch/>
        </p:blipFill>
        <p:spPr>
          <a:xfrm>
            <a:off x="4572000" y="2025720"/>
            <a:ext cx="4572000" cy="4832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684360" y="404640"/>
            <a:ext cx="374472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De acuerdo a las imágenes, ¿Cuál era la situación de la Guerra F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De un mundo bipolar a uno multi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40000" y="5661000"/>
            <a:ext cx="518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MUNIDAD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08360" y="8366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342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lminaron en la creación de organismos tendientes a integrar distintos sectores públicos de los países asociados, entre és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uratom_eng"/>
          <p:cNvPicPr/>
          <p:nvPr/>
        </p:nvPicPr>
        <p:blipFill>
          <a:blip r:embed="rId1"/>
          <a:stretch/>
        </p:blipFill>
        <p:spPr>
          <a:xfrm>
            <a:off x="6730920" y="4076640"/>
            <a:ext cx="2162160" cy="140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113_UE-50-23-03-07"/>
          <p:cNvPicPr/>
          <p:nvPr/>
        </p:nvPicPr>
        <p:blipFill>
          <a:blip r:embed="rId2"/>
          <a:stretch/>
        </p:blipFill>
        <p:spPr>
          <a:xfrm>
            <a:off x="3564000" y="1628640"/>
            <a:ext cx="1800000" cy="1758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613440" y="836640"/>
            <a:ext cx="16149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1 EUROP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250px-CECA_países_integrantes"/>
          <p:cNvPicPr/>
          <p:nvPr/>
        </p:nvPicPr>
        <p:blipFill>
          <a:blip r:embed="rId3"/>
          <a:stretch/>
        </p:blipFill>
        <p:spPr>
          <a:xfrm>
            <a:off x="324000" y="3716280"/>
            <a:ext cx="1882800" cy="249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932360" y="4005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ATOM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unidad Europea de la Energía Atóm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68360" y="4005360"/>
            <a:ext cx="1584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munidad Europea del Carbón y del Acero), integrada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H="1">
            <a:off x="2195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521964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95280" y="1413000"/>
            <a:ext cx="217476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dación del Consejo de Europa (Londres, 194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063600" y="1125360"/>
            <a:ext cx="271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tados de P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 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6017040" y="1700280"/>
            <a:ext cx="274248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do de Roma (195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55600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>
            <a:off x="5364000" y="1844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4356000" y="148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a Uni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nion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90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ue"/>
          <p:cNvPicPr/>
          <p:nvPr/>
        </p:nvPicPr>
        <p:blipFill>
          <a:blip r:embed="rId2"/>
          <a:stretch/>
        </p:blipFill>
        <p:spPr>
          <a:xfrm>
            <a:off x="3419640" y="981000"/>
            <a:ext cx="5724360" cy="5877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4000" y="1413000"/>
            <a:ext cx="3168360" cy="3528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firma del Acta única planteó la libre circulación de personas, mercancías, capitales y servicios e implantó el Mercado Interior único que postulaba la creación de una moneda común .  Así surge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ur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s el Tratado de Maastricht se logró la fase final de la un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TRATADO DE MAAST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84360" y="9079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DO EN 1996, POSTULA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250920" y="1341360"/>
            <a:ext cx="4752720" cy="115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económ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Monetaria en un 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bios fijo respecto al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324000" y="2781360"/>
            <a:ext cx="4752720" cy="115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Institu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uerza el poder legislativ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lamento Europ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68360" y="4437000"/>
            <a:ext cx="475128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ueve intercambios cul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terceros países (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asmus y Comme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20080201164619-2007-07-11-xl-euro-01"/>
          <p:cNvPicPr/>
          <p:nvPr/>
        </p:nvPicPr>
        <p:blipFill>
          <a:blip r:embed="rId1"/>
          <a:stretch/>
        </p:blipFill>
        <p:spPr>
          <a:xfrm>
            <a:off x="6443640" y="9079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pa-euro"/>
          <p:cNvPicPr/>
          <p:nvPr/>
        </p:nvPicPr>
        <p:blipFill>
          <a:blip r:embed="rId2"/>
          <a:stretch/>
        </p:blipFill>
        <p:spPr>
          <a:xfrm>
            <a:off x="5724360" y="3429000"/>
            <a:ext cx="309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rganiz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de la Comunidad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0666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3520" y="2057400"/>
            <a:ext cx="3352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jo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4267080"/>
            <a:ext cx="3352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39640" y="3213000"/>
            <a:ext cx="33530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is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33520" y="54100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638680" y="11430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legislativo y definición de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562720" y="22096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de gobierno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562720" y="32004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nomía, Tecnología y Medio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62720" y="5334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calización y control de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562720" y="4419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886200" y="1295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8862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38862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3886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962520" y="571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1.2 El caso de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372360" y="4149720"/>
            <a:ext cx="24494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76: Muerte de Ma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765000"/>
            <a:ext cx="2449440" cy="10598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agricultu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eció una Reforma Agr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0920" y="3213000"/>
            <a:ext cx="2376360" cy="1882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industrial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gran salto adelante” (industrialización frustr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372360" y="2276640"/>
            <a:ext cx="2412720" cy="1739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65- 197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paña de las 100 flore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Cultu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orientalización de la educació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53800" y="692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eced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324000" y="2060640"/>
            <a:ext cx="237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5: Enfriamiento de relaciones con UR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372360" y="765000"/>
            <a:ext cx="2376360" cy="1334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milita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ción de fuerzas armadas profesionales (EL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132000" y="1052640"/>
            <a:ext cx="2881080" cy="4716000"/>
            <a:chOff x="3132000" y="1052640"/>
            <a:chExt cx="2881080" cy="4716000"/>
          </a:xfrm>
        </p:grpSpPr>
        <p:sp>
          <p:nvSpPr>
            <p:cNvPr id="152" name="Text Box 11"/>
            <p:cNvSpPr/>
            <p:nvPr/>
          </p:nvSpPr>
          <p:spPr>
            <a:xfrm>
              <a:off x="3132000" y="1915920"/>
              <a:ext cx="2881080" cy="1797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munista, dirigida por Mao Tse Tung, marcando una nueva era de transformaciones y modernización en agricultura, industria, educación, ejército y política exterio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2" descr="2629"/>
            <p:cNvPicPr/>
            <p:nvPr/>
          </p:nvPicPr>
          <p:blipFill>
            <a:blip r:embed="rId1"/>
            <a:stretch/>
          </p:blipFill>
          <p:spPr>
            <a:xfrm>
              <a:off x="3132000" y="3716280"/>
              <a:ext cx="2881080" cy="205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4" name="Picture 13" descr="image001-8"/>
            <p:cNvPicPr/>
            <p:nvPr/>
          </p:nvPicPr>
          <p:blipFill>
            <a:blip r:embed="rId2"/>
            <a:stretch/>
          </p:blipFill>
          <p:spPr>
            <a:xfrm>
              <a:off x="3132000" y="1052640"/>
              <a:ext cx="2881080" cy="86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55" name="Picture 14" descr="mao"/>
          <p:cNvPicPr/>
          <p:nvPr/>
        </p:nvPicPr>
        <p:blipFill>
          <a:blip r:embed="rId3"/>
          <a:stretch/>
        </p:blipFill>
        <p:spPr>
          <a:xfrm>
            <a:off x="6948360" y="4941720"/>
            <a:ext cx="1841760" cy="1916280"/>
          </a:xfrm>
          <a:prstGeom prst="rect">
            <a:avLst/>
          </a:prstGeom>
          <a:ln w="0">
            <a:noFill/>
          </a:ln>
        </p:spPr>
      </p:pic>
      <p:sp>
        <p:nvSpPr>
          <p:cNvPr id="156" name="Line 15"/>
          <p:cNvSpPr/>
          <p:nvPr/>
        </p:nvSpPr>
        <p:spPr>
          <a:xfrm flipH="1">
            <a:off x="270000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>
            <a:off x="2700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2627280" y="429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6012000" y="134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6084720" y="256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084720" y="4365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hina des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ués de M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4653000"/>
            <a:ext cx="626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 se transforma en potencia atóm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pasa a formar parte del Consejo de Seguridad de la ONU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MENTE, CHINA CONSTITUYE EL PAÍS DE MAYOR CRECIMIENTO INDUSTRIAL Y FINANCIERO EN 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2006228135703"/>
          <p:cNvPicPr/>
          <p:nvPr/>
        </p:nvPicPr>
        <p:blipFill>
          <a:blip r:embed="rId1"/>
          <a:stretch/>
        </p:blipFill>
        <p:spPr>
          <a:xfrm>
            <a:off x="3419640" y="1341360"/>
            <a:ext cx="171108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5" name="Rectangle 5"/>
          <p:cNvSpPr/>
          <p:nvPr/>
        </p:nvSpPr>
        <p:spPr>
          <a:xfrm>
            <a:off x="395280" y="549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1976: Llega  al poder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n XiaoPing:  Reformas eco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s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eralización del comercio exterior, socializac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35280" y="3862440"/>
            <a:ext cx="53290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gimen político de Partido Únic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ión a la oposición interna: Tianan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_40168780_chi203"/>
          <p:cNvPicPr/>
          <p:nvPr/>
        </p:nvPicPr>
        <p:blipFill>
          <a:blip r:embed="rId2"/>
          <a:stretch/>
        </p:blipFill>
        <p:spPr>
          <a:xfrm>
            <a:off x="6659640" y="4581360"/>
            <a:ext cx="2305080" cy="1860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042920" y="2997360"/>
            <a:ext cx="187164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975280" y="1413000"/>
            <a:ext cx="280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educ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80000" y="2997360"/>
            <a:ext cx="212580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5280" y="1413000"/>
            <a:ext cx="194472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2411280" y="1557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2916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21964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521964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21164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10T03:49:56Z</dcterms:modified>
  <cp:revision>57</cp:revision>
  <dc:subject/>
  <dc:title>Diapositiva 1</dc:title>
</cp:coreProperties>
</file>