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43.jpeg" ContentType="image/jpeg"/>
  <Override PartName="/ppt/media/image11.png" ContentType="image/png"/>
  <Override PartName="/ppt/media/image34.png" ContentType="image/png"/>
  <Override PartName="/ppt/media/image1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9.jpeg" ContentType="image/jpeg"/>
  <Override PartName="/ppt/media/image42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8E6F-5A76-488F-8855-DF4577758A8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B9B2-4EBB-4CD3-AC3A-206E52B6CD6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imagen muestra el Salón de Promoción al Comercio que se encuentra ubicado en la ciudad de Hirosh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9E9A-5A49-4EDE-B88D-2F7FB5732F8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Arriba: izquierda, Mac Arthur e Hirohito; derecha: Yoshida Shigeru, Primer Ministro japonés entre 1946 y 1954. Abajo: industria automotriz nipona, base del desarrollo que convirtió a Japón en una de las potencias industriales del mundo; derecha: Hayato Ikeda, Primer Ministro japonés entre 1960 y 1964; durante su gobierno se inició la época de crecimiento económico que permitió la expansión industrial japon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BB7A-1C96-4BA2-98A8-1D15CFB37BC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izquierda a derecha, Conferencia de Bandung (1956), en la que se fundó el Movimiento de Países No Alineados; símbolo de la XIII Cumbre del Movimiento No Alineados (MNOAL), de 2003; IV Cumbre del MNOAL, con presencia de Ernesto Guevara, como representante de Cu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E571-59C0-4A8B-A6FB-E9D7A73920A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6918-D1F8-4277-8F40-19977E8A0BF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3E62-B48B-4EA6-B534-FF5DAA724EB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D3B7-0C87-4BAE-8357-11CF42FB516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arriba: Lech Walesa,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fundador del sindicato Solidaridad y primer presidente democrático de Polonia tras la caída del comunismo  (primer jefe de gobierno no comunista en Polonia) ;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erenc Gyurcsany, Primer Ministro de Hungría reelecto en 1989, tras la disolución del PC de ese país. Abajo: Movilización popular en Berlín, antes de la caída del Muro. Rumania, Campaña política, uno de los pocos ejemplos  a favor del comunismo  tras la caída del mu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D8A5-9379-4711-A825-6CA4E59A007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los dos máximos exponentes del neoliberalismo, ambos Premios Nobel de Economía:  Friedrich von Hayek y  Milton Fried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A987-5071-47EE-B4C7-7DC7E349530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B76A-B94F-4581-88D9-563F60C711E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E056-C354-4661-B8FF-39A7A41CF49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1ED8-F2CA-440E-9E68-8F69443B173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s 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 corresponden a la Revolución Cultural Ch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6458-2CF3-4D5F-BFAC-190BFDF7486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BCDA-8FD5-4687-8510-D4F3B2F6F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DC75-6F02-475E-8C7E-9274287A8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DE47-FC43-406E-9761-83046D5CB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F88A-CEA7-46C7-9C8C-B0C06FC62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C7914-0D25-439E-9585-BB681678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010AA-D66E-4D2C-8BD3-EA4231F5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C0198-AD56-47AC-AC90-9FAD7CA0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AF2D8-6D95-49B5-AD95-1C44A1C7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E0905-4315-4576-9F73-EBB5AB0E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ABAC8-2E25-454E-9349-96A3E51A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564E9-BFB2-433C-AE88-5A0AE4B0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D4DB-66A4-462E-B140-C3D3C22FB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50F01-DC28-48F4-8ED3-59F37966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53C15-61BD-4942-98CE-3AEAA813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4AC06-4E74-43E8-9032-51EF6177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73D18-49D5-40F0-949F-0AD0161F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72FA1-4D73-4842-BCB3-2817BBB5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4670-66B7-4AF0-ABB7-01F1870CE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83DE-A979-4484-AA00-A3249D7F0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9048-D499-4118-994C-5C97D5A91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5FE3-C160-4672-B98E-108BB1F37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879F-6998-42C9-83CA-D02CF1C0E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387E-3FCE-43F3-9004-44634DA0B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C158-B2FB-4986-B946-7BFC2011A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8952-73C6-4988-9B8A-0381B7ACE10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15FA-143D-427D-9FD2-6E790E61BCF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Huniversal 1ªhoja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620640"/>
            <a:ext cx="7345440" cy="237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4400" spc="-1" strike="noStrike">
                <a:solidFill>
                  <a:srgbClr val="ffffff"/>
                </a:solidFill>
                <a:latin typeface="Verdana"/>
              </a:rPr>
              <a:t>Clase 26: </a:t>
            </a:r>
            <a:br>
              <a:rPr sz="44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ORDEN MUNDIAL DE POSGUERRA: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DE UN  MUNDO BIPOLAR A UNO MULTIPOLAR.</a:t>
            </a: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mans_arredor_do_mundo_590"/>
          <p:cNvPicPr/>
          <p:nvPr/>
        </p:nvPicPr>
        <p:blipFill>
          <a:blip r:embed="rId2"/>
          <a:stretch/>
        </p:blipFill>
        <p:spPr>
          <a:xfrm>
            <a:off x="2843280" y="3141720"/>
            <a:ext cx="4681440" cy="3514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84000" y="188640"/>
            <a:ext cx="3095640" cy="587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Ja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763640" y="9079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Cómo se logró este camb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547640" y="155736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ón en 1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788000" y="1557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ón actu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1"/>
          <p:cNvPicPr/>
          <p:nvPr/>
        </p:nvPicPr>
        <p:blipFill>
          <a:blip r:embed="rId1"/>
          <a:stretch/>
        </p:blipFill>
        <p:spPr>
          <a:xfrm>
            <a:off x="684360" y="2060640"/>
            <a:ext cx="7416720" cy="4560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2" name="Picture 7" descr="japononpeq"/>
          <p:cNvPicPr/>
          <p:nvPr/>
        </p:nvPicPr>
        <p:blipFill>
          <a:blip r:embed="rId2"/>
          <a:stretch/>
        </p:blipFill>
        <p:spPr>
          <a:xfrm>
            <a:off x="6732720" y="189000"/>
            <a:ext cx="215892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Factores del desarrollo de Japón, después de la Segunda Guerra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ss_japon_aichi_toyota"/>
          <p:cNvPicPr/>
          <p:nvPr/>
        </p:nvPicPr>
        <p:blipFill>
          <a:blip r:embed="rId1"/>
          <a:stretch/>
        </p:blipFill>
        <p:spPr>
          <a:xfrm>
            <a:off x="755640" y="3429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macarthurehirohito_noticias_1212"/>
          <p:cNvPicPr/>
          <p:nvPr/>
        </p:nvPicPr>
        <p:blipFill>
          <a:blip r:embed="rId2"/>
          <a:stretch/>
        </p:blipFill>
        <p:spPr>
          <a:xfrm>
            <a:off x="755640" y="1052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3924360" y="1197000"/>
            <a:ext cx="230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democracia impuesta: Durante la ocupación de Estados Unidos, el emperador Hirohito fue obligado a dejar el po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Yoshida"/>
          <p:cNvPicPr/>
          <p:nvPr/>
        </p:nvPicPr>
        <p:blipFill>
          <a:blip r:embed="rId3"/>
          <a:stretch/>
        </p:blipFill>
        <p:spPr>
          <a:xfrm>
            <a:off x="6443640" y="981000"/>
            <a:ext cx="2411280" cy="2592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3924360" y="3573360"/>
            <a:ext cx="2376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ante la década de 1960, se llevó a cabo un fuerte proceso de industrialización con el apoyo financiero de Estados Unidos y la gran capacidad productiva e innovadora japon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souri58"/>
          <p:cNvPicPr/>
          <p:nvPr/>
        </p:nvPicPr>
        <p:blipFill>
          <a:blip r:embed="rId4"/>
          <a:stretch/>
        </p:blipFill>
        <p:spPr>
          <a:xfrm>
            <a:off x="6443640" y="3645000"/>
            <a:ext cx="239076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03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OS PAÍSES NO ALIN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8360" y="54936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junto de países que rechazaron formar parte de las zonas de influencia de las dos superpot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564000" y="134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ecuencias de la Descolo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468360" y="1413000"/>
            <a:ext cx="2089080" cy="4363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6588000" y="1413000"/>
            <a:ext cx="2089440" cy="4363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neocolon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 flipH="1">
            <a:off x="2556000" y="1628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5580000" y="1628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692360" y="2060640"/>
            <a:ext cx="5400720" cy="9169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ONFERENCIA DE BANDUNG, EN 1956 SE CONSTITUYÓ EN EL GERMEN DEL MOVIMIENTO DE  PAÍSES NO ALINE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755640" y="328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pretende la transición al nuevo orden basado en la cooperación entre las naciones, fundado en la libertad, igualdad y justici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2"/>
          <p:cNvGrpSpPr/>
          <p:nvPr/>
        </p:nvGrpSpPr>
        <p:grpSpPr>
          <a:xfrm>
            <a:off x="179280" y="4292640"/>
            <a:ext cx="8642520" cy="2151000"/>
            <a:chOff x="179280" y="4292640"/>
            <a:chExt cx="8642520" cy="2151000"/>
          </a:xfrm>
        </p:grpSpPr>
        <p:pic>
          <p:nvPicPr>
            <p:cNvPr id="200" name="Picture 13" descr="Nico"/>
            <p:cNvPicPr/>
            <p:nvPr/>
          </p:nvPicPr>
          <p:blipFill>
            <a:blip r:embed="rId1"/>
            <a:stretch/>
          </p:blipFill>
          <p:spPr>
            <a:xfrm>
              <a:off x="6084720" y="4292640"/>
              <a:ext cx="2737080" cy="21510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1" name="Picture 14" descr="logo"/>
            <p:cNvPicPr/>
            <p:nvPr/>
          </p:nvPicPr>
          <p:blipFill>
            <a:blip r:embed="rId2"/>
            <a:stretch/>
          </p:blipFill>
          <p:spPr>
            <a:xfrm>
              <a:off x="3419640" y="4292640"/>
              <a:ext cx="2592360" cy="21351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2" name="Picture 15" descr=""/>
            <p:cNvPicPr/>
            <p:nvPr/>
          </p:nvPicPr>
          <p:blipFill>
            <a:blip r:embed="rId3"/>
            <a:stretch/>
          </p:blipFill>
          <p:spPr>
            <a:xfrm>
              <a:off x="179280" y="4292640"/>
              <a:ext cx="3241800" cy="21463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1203244462_0"/>
          <p:cNvPicPr/>
          <p:nvPr/>
        </p:nvPicPr>
        <p:blipFill>
          <a:blip r:embed="rId1"/>
          <a:stretch/>
        </p:blipFill>
        <p:spPr>
          <a:xfrm>
            <a:off x="468360" y="1125360"/>
            <a:ext cx="1930320" cy="2374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4" name="Picture 3" descr="nasser"/>
          <p:cNvPicPr/>
          <p:nvPr/>
        </p:nvPicPr>
        <p:blipFill>
          <a:blip r:embed="rId2"/>
          <a:stretch/>
        </p:blipFill>
        <p:spPr>
          <a:xfrm>
            <a:off x="6659640" y="1125360"/>
            <a:ext cx="2160360" cy="2087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5" name="Picture 4" descr="9196-004-F4D96022"/>
          <p:cNvPicPr/>
          <p:nvPr/>
        </p:nvPicPr>
        <p:blipFill>
          <a:blip r:embed="rId3"/>
          <a:stretch/>
        </p:blipFill>
        <p:spPr>
          <a:xfrm>
            <a:off x="6804000" y="3789360"/>
            <a:ext cx="1874880" cy="2138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06" name="Text Box 5"/>
          <p:cNvSpPr/>
          <p:nvPr/>
        </p:nvSpPr>
        <p:spPr>
          <a:xfrm>
            <a:off x="539640" y="3573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ito (Yugoslavia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7093080" y="3357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asser (Egipt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7451640" y="609300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ka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nehru_3"/>
          <p:cNvPicPr/>
          <p:nvPr/>
        </p:nvPicPr>
        <p:blipFill>
          <a:blip r:embed="rId4"/>
          <a:stretch/>
        </p:blipFill>
        <p:spPr>
          <a:xfrm>
            <a:off x="395280" y="3933720"/>
            <a:ext cx="1924200" cy="2354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0" name="Text Box 9"/>
          <p:cNvSpPr/>
          <p:nvPr/>
        </p:nvSpPr>
        <p:spPr>
          <a:xfrm>
            <a:off x="468360" y="6381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ehru (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PROTAGONISTAS DEL MOVIMIENTO DE PAÍSES NO ALINE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noal1"/>
          <p:cNvPicPr/>
          <p:nvPr/>
        </p:nvPicPr>
        <p:blipFill>
          <a:blip r:embed="rId5"/>
          <a:stretch/>
        </p:blipFill>
        <p:spPr>
          <a:xfrm>
            <a:off x="3059280" y="1989000"/>
            <a:ext cx="3168360" cy="3087720"/>
          </a:xfrm>
          <a:prstGeom prst="rect">
            <a:avLst/>
          </a:prstGeom>
          <a:ln w="0">
            <a:noFill/>
          </a:ln>
        </p:spPr>
      </p:pic>
      <p:sp>
        <p:nvSpPr>
          <p:cNvPr id="213" name="Line 13"/>
          <p:cNvSpPr/>
          <p:nvPr/>
        </p:nvSpPr>
        <p:spPr>
          <a:xfrm flipH="1" flipV="1">
            <a:off x="2484000" y="1628640"/>
            <a:ext cx="1150920" cy="6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411280" y="4149720"/>
            <a:ext cx="122400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5724360" y="4149720"/>
            <a:ext cx="100836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 flipV="1">
            <a:off x="5508720" y="1628640"/>
            <a:ext cx="107928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L TERCER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765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concepto surge en 1950 por el francés Savny para distinguirlo del primer mundo (capitalista) y el segundo mundo (socialis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79280" y="1484280"/>
            <a:ext cx="4248360" cy="51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rdemos algunas 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insuficiencia aliment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recursos naturales infertiliz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gran número de agricultores con baja productiv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industrialización restringida o incomple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Excesivo desarrollo del sector terci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Situación de subordinación económica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Violentas desigualdades so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Elevado índice de desempleo y trabajo infant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Analfabet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Escasa integración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Enfermedade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Ying_Yang_del_mundo[1]"/>
          <p:cNvPicPr/>
          <p:nvPr/>
        </p:nvPicPr>
        <p:blipFill>
          <a:blip r:embed="rId1"/>
          <a:stretch/>
        </p:blipFill>
        <p:spPr>
          <a:xfrm>
            <a:off x="4500720" y="1484280"/>
            <a:ext cx="446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IGA ÁR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324000" y="76500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 fundada en 1945 por Egipto, Iraq, Jordania, Líbano, Arabia Saudí, Siria y Yemen del Norte. Actualmente agrupa a 23 Estados árabes. Entre sus objetivos iniciales estuvo el de lograr la independencia de todas las naciones árabes que eran colon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Map_of_League_of_Arab_States_countries"/>
          <p:cNvPicPr/>
          <p:nvPr/>
        </p:nvPicPr>
        <p:blipFill>
          <a:blip r:embed="rId1"/>
          <a:stretch/>
        </p:blipFill>
        <p:spPr>
          <a:xfrm>
            <a:off x="5940360" y="620640"/>
            <a:ext cx="3203640" cy="2583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onflic"/>
          <p:cNvPicPr/>
          <p:nvPr/>
        </p:nvPicPr>
        <p:blipFill>
          <a:blip r:embed="rId2"/>
          <a:stretch/>
        </p:blipFill>
        <p:spPr>
          <a:xfrm>
            <a:off x="324000" y="2708280"/>
            <a:ext cx="5832360" cy="3908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5" name="Text Box 6"/>
          <p:cNvSpPr/>
          <p:nvPr/>
        </p:nvSpPr>
        <p:spPr>
          <a:xfrm>
            <a:off x="6156360" y="3789360"/>
            <a:ext cx="28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rincipal conflicto que enfrentó a los países árabes con las potencias occidentales fue la Guerra árabe Israelí, cuyos antecedentes se remontan a  la constitución del estado de Israel e territorio de Palestina con apoyo de  Estados Un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03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A CAÍDA DEL MURO DE BER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916360" y="549360"/>
            <a:ext cx="19447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50920" y="3645000"/>
            <a:ext cx="28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reformas pusieron en evidencia que la URSS estaba al borde del colapso econó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Yuri Andropov"/>
          <p:cNvPicPr/>
          <p:nvPr/>
        </p:nvPicPr>
        <p:blipFill>
          <a:blip r:embed="rId1"/>
          <a:stretch/>
        </p:blipFill>
        <p:spPr>
          <a:xfrm>
            <a:off x="3348000" y="2781360"/>
            <a:ext cx="2117880" cy="28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0" name="Picture 6" descr="Mikhail Gorbachev"/>
          <p:cNvPicPr/>
          <p:nvPr/>
        </p:nvPicPr>
        <p:blipFill>
          <a:blip r:embed="rId2"/>
          <a:stretch/>
        </p:blipFill>
        <p:spPr>
          <a:xfrm>
            <a:off x="6372360" y="3357720"/>
            <a:ext cx="2158920" cy="2860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1" name="Rectangle 7"/>
          <p:cNvSpPr/>
          <p:nvPr/>
        </p:nvSpPr>
        <p:spPr>
          <a:xfrm>
            <a:off x="395280" y="1052640"/>
            <a:ext cx="2521080" cy="14655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risis del petróleo (1973) y la decadencia económica de los países socialistas (1973- 198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4788000" y="1052640"/>
            <a:ext cx="2935080" cy="6426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icio de un ciclo de reformas en la URS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5943960" y="2852640"/>
            <a:ext cx="1462680" cy="3682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estroik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7959960" y="2852640"/>
            <a:ext cx="1031040" cy="3682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lasno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3569040" y="1916280"/>
            <a:ext cx="148536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drop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982- 1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6869160" y="1844640"/>
            <a:ext cx="1549440" cy="7855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rbach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985- 199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H="1">
            <a:off x="5074920" y="1700280"/>
            <a:ext cx="863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6227640" y="1700280"/>
            <a:ext cx="64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 flipH="1">
            <a:off x="6877080" y="2637000"/>
            <a:ext cx="503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7812000" y="263700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981000"/>
            <a:ext cx="718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8"/>
          <p:cNvSpPr/>
          <p:nvPr/>
        </p:nvSpPr>
        <p:spPr>
          <a:xfrm>
            <a:off x="4067280" y="98100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La caída del Muro (19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755640" y="765000"/>
            <a:ext cx="8064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 el símbolo de la crisis del régimen comunista en Euro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55640" y="1484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stró que la URSS ya no estaba en condiciones políticas y económicas para evitar la liberalización de sus aliados europe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755640" y="2492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onia (19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1101820104_400"/>
          <p:cNvPicPr/>
          <p:nvPr/>
        </p:nvPicPr>
        <p:blipFill>
          <a:blip r:embed="rId1"/>
          <a:stretch/>
        </p:blipFill>
        <p:spPr>
          <a:xfrm>
            <a:off x="826920" y="3141720"/>
            <a:ext cx="1947960" cy="256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mapash34"/>
          <p:cNvPicPr/>
          <p:nvPr/>
        </p:nvPicPr>
        <p:blipFill>
          <a:blip r:embed="rId2"/>
          <a:stretch/>
        </p:blipFill>
        <p:spPr>
          <a:xfrm>
            <a:off x="2916360" y="2349360"/>
            <a:ext cx="6011640" cy="4184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03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A CRISIS DEL COMUNISMO EUROP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619280" y="620640"/>
            <a:ext cx="66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 de los regímenes comunistas en Europa del Este. Tres tipos de proce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eng_nm0099"/>
          <p:cNvPicPr/>
          <p:nvPr/>
        </p:nvPicPr>
        <p:blipFill>
          <a:blip r:embed="rId1"/>
          <a:stretch/>
        </p:blipFill>
        <p:spPr>
          <a:xfrm>
            <a:off x="1619280" y="4292640"/>
            <a:ext cx="1849320" cy="2060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52" name="Picture 8" descr="ReunificacionAlemania"/>
          <p:cNvPicPr/>
          <p:nvPr/>
        </p:nvPicPr>
        <p:blipFill>
          <a:blip r:embed="rId2"/>
          <a:stretch/>
        </p:blipFill>
        <p:spPr>
          <a:xfrm>
            <a:off x="3635280" y="3213000"/>
            <a:ext cx="2664000" cy="199224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4"/>
          <p:cNvGrpSpPr/>
          <p:nvPr/>
        </p:nvGrpSpPr>
        <p:grpSpPr>
          <a:xfrm>
            <a:off x="324000" y="1341360"/>
            <a:ext cx="8640720" cy="1759680"/>
            <a:chOff x="324000" y="1341360"/>
            <a:chExt cx="8640720" cy="1759680"/>
          </a:xfrm>
        </p:grpSpPr>
        <p:sp>
          <p:nvSpPr>
            <p:cNvPr id="254" name="Text Box 4"/>
            <p:cNvSpPr/>
            <p:nvPr/>
          </p:nvSpPr>
          <p:spPr>
            <a:xfrm>
              <a:off x="324000" y="1628640"/>
              <a:ext cx="2436840" cy="100872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uptura Interior: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Polonia (1985), Hungría (1989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5"/>
            <p:cNvSpPr/>
            <p:nvPr/>
          </p:nvSpPr>
          <p:spPr>
            <a:xfrm>
              <a:off x="3352680" y="1628640"/>
              <a:ext cx="3029040" cy="147240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vilización popular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DA (1989), Checoslovaquia (1989), Bulgar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"/>
            <p:cNvSpPr/>
            <p:nvPr/>
          </p:nvSpPr>
          <p:spPr>
            <a:xfrm>
              <a:off x="7047000" y="1628640"/>
              <a:ext cx="1917720" cy="100872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surrección: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umania (1989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1359000" y="1341360"/>
              <a:ext cx="642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>
              <a:off x="1359000" y="134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>
              <a:off x="4683240" y="134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7786800" y="1341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Picture 16" descr="Lech_Walesa"/>
          <p:cNvPicPr/>
          <p:nvPr/>
        </p:nvPicPr>
        <p:blipFill>
          <a:blip r:embed="rId3"/>
          <a:stretch/>
        </p:blipFill>
        <p:spPr>
          <a:xfrm>
            <a:off x="324000" y="2781360"/>
            <a:ext cx="1871640" cy="1376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2" name="Rectangle 17"/>
          <p:cNvSpPr/>
          <p:nvPr/>
        </p:nvSpPr>
        <p:spPr>
          <a:xfrm>
            <a:off x="325800" y="422100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ch Wal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2122560" y="644040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erenc Gyurcs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0" descr="mu"/>
          <p:cNvPicPr/>
          <p:nvPr/>
        </p:nvPicPr>
        <p:blipFill>
          <a:blip r:embed="rId4"/>
          <a:stretch/>
        </p:blipFill>
        <p:spPr>
          <a:xfrm>
            <a:off x="4859280" y="4437000"/>
            <a:ext cx="1484280" cy="2205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1" descr="untitled[1]"/>
          <p:cNvPicPr/>
          <p:nvPr/>
        </p:nvPicPr>
        <p:blipFill>
          <a:blip r:embed="rId5"/>
          <a:stretch/>
        </p:blipFill>
        <p:spPr>
          <a:xfrm>
            <a:off x="7093080" y="2781360"/>
            <a:ext cx="17143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7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ASCENSO DEL NEOLIBER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Milton%20Friedman%20Greyscale"/>
          <p:cNvPicPr/>
          <p:nvPr/>
        </p:nvPicPr>
        <p:blipFill>
          <a:blip r:embed="rId1"/>
          <a:stretch/>
        </p:blipFill>
        <p:spPr>
          <a:xfrm>
            <a:off x="6732720" y="692280"/>
            <a:ext cx="1908000" cy="2376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20050112-hayek"/>
          <p:cNvPicPr/>
          <p:nvPr/>
        </p:nvPicPr>
        <p:blipFill>
          <a:blip r:embed="rId2"/>
          <a:stretch/>
        </p:blipFill>
        <p:spPr>
          <a:xfrm>
            <a:off x="1116000" y="765000"/>
            <a:ext cx="2089080" cy="205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9" name="Rectangle 6"/>
          <p:cNvSpPr/>
          <p:nvPr/>
        </p:nvSpPr>
        <p:spPr>
          <a:xfrm>
            <a:off x="2993040" y="2997360"/>
            <a:ext cx="3059640" cy="368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stulados de esta doctri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179280" y="3213000"/>
            <a:ext cx="2376720" cy="6426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ducción del rol d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5796000" y="4149720"/>
            <a:ext cx="2376360" cy="64260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ivatización de empresas públ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085440" y="3429000"/>
            <a:ext cx="2649600" cy="3682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ol de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684360" y="4005360"/>
            <a:ext cx="3097080" cy="91692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te de los costos fiscales: disminución del gasto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0" y="57340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neoliberalismo se aplicó por primera vez en Chile (1975), Inglaterra (1979) y Estados Unidos (198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7021800" y="2996640"/>
            <a:ext cx="14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ilto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ried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1116000" y="285192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riedrich Von Hay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572000" y="62064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2555640" y="3213000"/>
            <a:ext cx="431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6084720" y="314172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2555640" y="3429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>
            <a:off x="5435640" y="3429000"/>
            <a:ext cx="649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5060520" y="5084640"/>
            <a:ext cx="408384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sregulación y flexibilidad lab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2"/>
          <p:cNvSpPr/>
          <p:nvPr/>
        </p:nvSpPr>
        <p:spPr>
          <a:xfrm>
            <a:off x="1334520" y="5084640"/>
            <a:ext cx="34297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pertura al comercio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"/>
          <p:cNvSpPr/>
          <p:nvPr/>
        </p:nvSpPr>
        <p:spPr>
          <a:xfrm flipH="1">
            <a:off x="3924000" y="3429000"/>
            <a:ext cx="360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4"/>
          <p:cNvSpPr/>
          <p:nvPr/>
        </p:nvSpPr>
        <p:spPr>
          <a:xfrm>
            <a:off x="4716360" y="342900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24000" y="1268280"/>
            <a:ext cx="4105080" cy="49035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De un mundo bipolar a un mundo multipolar: el papel de Europa, China y Japón. Los países no-alineados y el Tercer Mu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La caída del muro: el fin del bloque socialista, la transformación de los estados de Europa Oriental y el debate sobre el futuro del social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l ascenso del neoliberalismo en la década de 1980: Estados Unidos, Inglaterra y América Lat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No aline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Tercer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ocialismo (post soviétic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Neoliber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427640" y="1268280"/>
            <a:ext cx="4321080" cy="489744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ces cómo a partir de los años setenta surge una diversidad actores que dinamizan el escenario político internacional y señalan el paso de un mundo bipolar a uno multipol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endas los cambios ocurridos en el sistema internacional a fines del siglo, a partir de la caída de los socialismos reales en Europa y en la URSS, y del auge del neoliberal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stos contenidos están  desde la página 239 hasta la 24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">
            <a:hlinkClick r:id="" action="ppaction://hlinkshowjump?jump=firstslide"/>
          </p:cNvPr>
          <p:cNvSpPr/>
          <p:nvPr/>
        </p:nvSpPr>
        <p:spPr>
          <a:xfrm>
            <a:off x="8712360" y="566100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  <a:path fill="darken" w="21600" h="35982">
                <a:moveTo>
                  <a:pt x="10800" y="11028"/>
                </a:moveTo>
                <a:lnTo>
                  <a:pt x="13376" y="13639"/>
                </a:lnTo>
                <a:lnTo>
                  <a:pt x="13376" y="11898"/>
                </a:lnTo>
                <a:lnTo>
                  <a:pt x="15152" y="11898"/>
                </a:lnTo>
                <a:lnTo>
                  <a:pt x="15152" y="15415"/>
                </a:lnTo>
                <a:lnTo>
                  <a:pt x="17763" y="17991"/>
                </a:lnTo>
                <a:lnTo>
                  <a:pt x="16109" y="17991"/>
                </a:lnTo>
                <a:lnTo>
                  <a:pt x="16109" y="25180"/>
                </a:lnTo>
                <a:lnTo>
                  <a:pt x="5491" y="25180"/>
                </a:lnTo>
                <a:lnTo>
                  <a:pt x="5491" y="17991"/>
                </a:lnTo>
                <a:lnTo>
                  <a:pt x="3837" y="17991"/>
                </a:lnTo>
                <a:close/>
              </a:path>
              <a:path fill="darkenLess" w="21600" h="35982">
                <a:moveTo>
                  <a:pt x="13376" y="13639"/>
                </a:moveTo>
                <a:lnTo>
                  <a:pt x="13376" y="11898"/>
                </a:lnTo>
                <a:lnTo>
                  <a:pt x="15152" y="11898"/>
                </a:lnTo>
                <a:lnTo>
                  <a:pt x="15152" y="15415"/>
                </a:lnTo>
                <a:close/>
              </a:path>
              <a:path fill="darkenLess" w="21600" h="35982">
                <a:moveTo>
                  <a:pt x="9877" y="21490"/>
                </a:moveTo>
                <a:lnTo>
                  <a:pt x="11723" y="21490"/>
                </a:lnTo>
                <a:lnTo>
                  <a:pt x="11723" y="25180"/>
                </a:lnTo>
                <a:lnTo>
                  <a:pt x="16109" y="25180"/>
                </a:lnTo>
                <a:lnTo>
                  <a:pt x="16109" y="17991"/>
                </a:lnTo>
                <a:lnTo>
                  <a:pt x="5491" y="17991"/>
                </a:lnTo>
                <a:lnTo>
                  <a:pt x="5491" y="25180"/>
                </a:lnTo>
                <a:lnTo>
                  <a:pt x="9877" y="2518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79280" y="1268280"/>
            <a:ext cx="4105440" cy="3020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Verdana"/>
              </a:rPr>
              <a:t>AMÉRICA LATINA CONTEMPORÁNEA: EVOLUCIÓN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Período 1930- 19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íodo 1960- 198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visa estos contenidos con la ayuda del tomo II de CEPECH, capítulo 7  (páginas 252 a 26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Latinoamerica"/>
          <p:cNvPicPr/>
          <p:nvPr/>
        </p:nvPicPr>
        <p:blipFill>
          <a:blip r:embed="rId1"/>
          <a:stretch/>
        </p:blipFill>
        <p:spPr>
          <a:xfrm>
            <a:off x="4427640" y="1268280"/>
            <a:ext cx="4216320" cy="496908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</p:spTree>
  </p:cSld>
  <p:transition>
    <p:comb dir="horz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31guerra"/>
          <p:cNvPicPr/>
          <p:nvPr/>
        </p:nvPicPr>
        <p:blipFill>
          <a:blip r:embed="rId1"/>
          <a:stretch/>
        </p:blipFill>
        <p:spPr>
          <a:xfrm>
            <a:off x="324000" y="1557360"/>
            <a:ext cx="4190760" cy="431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khaldei_exhibit_0523[1]"/>
          <p:cNvPicPr/>
          <p:nvPr/>
        </p:nvPicPr>
        <p:blipFill>
          <a:blip r:embed="rId2"/>
          <a:stretch/>
        </p:blipFill>
        <p:spPr>
          <a:xfrm>
            <a:off x="4606920" y="333360"/>
            <a:ext cx="4537080" cy="296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Soldados_EE_UU_colocan_bandera_pais_monte_Suribachi_Iwo_Jima_23_febrero"/>
          <p:cNvPicPr/>
          <p:nvPr/>
        </p:nvPicPr>
        <p:blipFill>
          <a:blip r:embed="rId3"/>
          <a:stretch/>
        </p:blipFill>
        <p:spPr>
          <a:xfrm>
            <a:off x="4572000" y="2025720"/>
            <a:ext cx="4572000" cy="4832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684360" y="404640"/>
            <a:ext cx="3744720" cy="9169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De acuerdo a las imágenes, ¿Cuál era la situación de la Guerra Fr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1. De un mundo bipolar a uno multi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340000" y="5661000"/>
            <a:ext cx="51847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MUNIDAD EUR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708360" y="83664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eced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39640" y="342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lminaron en la creación de organismos tendientes a integrar distintos sectores públicos de los países asociados, entre ést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euratom_eng"/>
          <p:cNvPicPr/>
          <p:nvPr/>
        </p:nvPicPr>
        <p:blipFill>
          <a:blip r:embed="rId1"/>
          <a:stretch/>
        </p:blipFill>
        <p:spPr>
          <a:xfrm>
            <a:off x="6730920" y="4076640"/>
            <a:ext cx="2162160" cy="1401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2113_UE-50-23-03-07"/>
          <p:cNvPicPr/>
          <p:nvPr/>
        </p:nvPicPr>
        <p:blipFill>
          <a:blip r:embed="rId2"/>
          <a:stretch/>
        </p:blipFill>
        <p:spPr>
          <a:xfrm>
            <a:off x="3564000" y="1628640"/>
            <a:ext cx="1800000" cy="1758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613440" y="836640"/>
            <a:ext cx="16149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.1 EUROP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250px-CECA_países_integrantes"/>
          <p:cNvPicPr/>
          <p:nvPr/>
        </p:nvPicPr>
        <p:blipFill>
          <a:blip r:embed="rId3"/>
          <a:stretch/>
        </p:blipFill>
        <p:spPr>
          <a:xfrm>
            <a:off x="324000" y="3716280"/>
            <a:ext cx="1882800" cy="2492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4932360" y="4005360"/>
            <a:ext cx="18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ATOM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omunidad Europea de la Energía Atómi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2268360" y="4005360"/>
            <a:ext cx="1584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C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Comunidad Europea del Carbón y del Acero), integrada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 flipH="1">
            <a:off x="2195640" y="5373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5219640" y="537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95280" y="1413000"/>
            <a:ext cx="2174760" cy="9169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dación del Consejo de Europa (Londres, 194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3063600" y="1125360"/>
            <a:ext cx="271836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tados de P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s (19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6017040" y="1700280"/>
            <a:ext cx="274248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ado de Roma (195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>
            <a:off x="2556000" y="1916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H="1">
            <a:off x="5364000" y="1844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4356000" y="148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907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La Uni</a:t>
            </a:r>
            <a:r>
              <a:rPr b="1" i="1" lang="es-ES_tradnl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Europ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union"/>
          <p:cNvPicPr/>
          <p:nvPr/>
        </p:nvPicPr>
        <p:blipFill>
          <a:blip r:embed="rId1"/>
          <a:stretch/>
        </p:blipFill>
        <p:spPr>
          <a:xfrm>
            <a:off x="7956720" y="0"/>
            <a:ext cx="1187280" cy="907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ue"/>
          <p:cNvPicPr/>
          <p:nvPr/>
        </p:nvPicPr>
        <p:blipFill>
          <a:blip r:embed="rId2"/>
          <a:stretch/>
        </p:blipFill>
        <p:spPr>
          <a:xfrm>
            <a:off x="3419640" y="981000"/>
            <a:ext cx="5724360" cy="5877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324000" y="1413000"/>
            <a:ext cx="3168360" cy="3528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firma del Acta única planteó la libre circulación de personas, mercancías, capitales y servicios e implantó el Mercado Interior único que postulaba la creación de una moneda común .  Así surge el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uro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2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Tras el Tratado de Maastricht se logró la fase final de la unif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TRATADO DE MAAST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484360" y="90792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RMADO EN 1996, POSTULAB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250920" y="1341360"/>
            <a:ext cx="4752720" cy="1152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 económ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Monetaria en un siste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mbios fijo respecto al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324000" y="2781360"/>
            <a:ext cx="4752720" cy="1152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 Institu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fuerza el poder legislativo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lamento Europ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468360" y="4437000"/>
            <a:ext cx="4751280" cy="1295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 So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ueve intercambios cultu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terceros países (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rasmus y Commet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20080201164619-2007-07-11-xl-euro-01"/>
          <p:cNvPicPr/>
          <p:nvPr/>
        </p:nvPicPr>
        <p:blipFill>
          <a:blip r:embed="rId1"/>
          <a:stretch/>
        </p:blipFill>
        <p:spPr>
          <a:xfrm>
            <a:off x="6443640" y="90792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mapa-euro"/>
          <p:cNvPicPr/>
          <p:nvPr/>
        </p:nvPicPr>
        <p:blipFill>
          <a:blip r:embed="rId2"/>
          <a:stretch/>
        </p:blipFill>
        <p:spPr>
          <a:xfrm>
            <a:off x="5724360" y="3429000"/>
            <a:ext cx="309744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Organizaci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n de la Comunidad Europ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57200" y="1066680"/>
            <a:ext cx="34290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amento Europ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3520" y="2057400"/>
            <a:ext cx="33526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jo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ón Euro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33520" y="4267080"/>
            <a:ext cx="33526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ibunal de Just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39640" y="3213000"/>
            <a:ext cx="335304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isión Euro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533520" y="5410080"/>
            <a:ext cx="34290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ibunal de Cu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638680" y="11430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der legislativo y definición del presupu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562720" y="22096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es de gobierno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562720" y="32004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onomía, Tecnología y Medio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562720" y="53341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scalización y control de ga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5562720" y="4419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der judi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886200" y="1295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3886200" y="2514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3886200" y="3429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388620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3962520" y="5715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Verdana"/>
              </a:rPr>
              <a:t>1.2 El caso de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372360" y="4149720"/>
            <a:ext cx="2449440" cy="7038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76: Muerte de Ma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50920" y="765000"/>
            <a:ext cx="2449440" cy="10598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a agricultur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eció una Reforma Agr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50920" y="3213000"/>
            <a:ext cx="2376360" cy="18828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l campo industrial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gran salto adelante” (industrialización frustrad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6372360" y="2276640"/>
            <a:ext cx="2412720" cy="1739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65- 1970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mpaña de las 100 flores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olución Cultur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orientalización de la educación 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53800" y="6922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teced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324000" y="2060640"/>
            <a:ext cx="237636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55: Enfriamiento de relaciones con UR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372360" y="765000"/>
            <a:ext cx="2376360" cy="13341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l campo militar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ción de fuerzas armadas profesionales (EL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0"/>
          <p:cNvGrpSpPr/>
          <p:nvPr/>
        </p:nvGrpSpPr>
        <p:grpSpPr>
          <a:xfrm>
            <a:off x="3132000" y="1052640"/>
            <a:ext cx="2881080" cy="4716000"/>
            <a:chOff x="3132000" y="1052640"/>
            <a:chExt cx="2881080" cy="4716000"/>
          </a:xfrm>
        </p:grpSpPr>
        <p:sp>
          <p:nvSpPr>
            <p:cNvPr id="152" name="Text Box 11"/>
            <p:cNvSpPr/>
            <p:nvPr/>
          </p:nvSpPr>
          <p:spPr>
            <a:xfrm>
              <a:off x="3132000" y="1915920"/>
              <a:ext cx="2881080" cy="17974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voluci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n comunista, dirigida por Mao Tse Tung, marcando una nueva era de transformaciones y modernización en agricultura, industria, educación, ejército y política exterio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12" descr="2629"/>
            <p:cNvPicPr/>
            <p:nvPr/>
          </p:nvPicPr>
          <p:blipFill>
            <a:blip r:embed="rId1"/>
            <a:stretch/>
          </p:blipFill>
          <p:spPr>
            <a:xfrm>
              <a:off x="3132000" y="3716280"/>
              <a:ext cx="2881080" cy="2052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54" name="Picture 13" descr="image001-8"/>
            <p:cNvPicPr/>
            <p:nvPr/>
          </p:nvPicPr>
          <p:blipFill>
            <a:blip r:embed="rId2"/>
            <a:stretch/>
          </p:blipFill>
          <p:spPr>
            <a:xfrm>
              <a:off x="3132000" y="1052640"/>
              <a:ext cx="2881080" cy="863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pic>
        <p:nvPicPr>
          <p:cNvPr id="155" name="Picture 14" descr="mao"/>
          <p:cNvPicPr/>
          <p:nvPr/>
        </p:nvPicPr>
        <p:blipFill>
          <a:blip r:embed="rId3"/>
          <a:stretch/>
        </p:blipFill>
        <p:spPr>
          <a:xfrm>
            <a:off x="6948360" y="4941720"/>
            <a:ext cx="1841760" cy="1916280"/>
          </a:xfrm>
          <a:prstGeom prst="rect">
            <a:avLst/>
          </a:prstGeom>
          <a:ln w="0">
            <a:noFill/>
          </a:ln>
        </p:spPr>
      </p:pic>
      <p:sp>
        <p:nvSpPr>
          <p:cNvPr id="156" name="Line 15"/>
          <p:cNvSpPr/>
          <p:nvPr/>
        </p:nvSpPr>
        <p:spPr>
          <a:xfrm flipH="1">
            <a:off x="2700000" y="14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H="1">
            <a:off x="2700000" y="256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H="1">
            <a:off x="2627280" y="429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6012000" y="134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6084720" y="2565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>
            <a:off x="6084720" y="4365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China des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ués de M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24000" y="4653000"/>
            <a:ext cx="6264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na se transforma en potencia atómic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pasa a formar parte del Consejo de Seguridad de la ONU.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UALMENTE, CHINA CONSTITUYE EL PAÍS DE MAYOR CRECIMIENTO INDUSTRIAL Y FINANCIERO EN EL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s2006228135703"/>
          <p:cNvPicPr/>
          <p:nvPr/>
        </p:nvPicPr>
        <p:blipFill>
          <a:blip r:embed="rId1"/>
          <a:stretch/>
        </p:blipFill>
        <p:spPr>
          <a:xfrm>
            <a:off x="3419640" y="1341360"/>
            <a:ext cx="1711080" cy="223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65" name="Rectangle 5"/>
          <p:cNvSpPr/>
          <p:nvPr/>
        </p:nvSpPr>
        <p:spPr>
          <a:xfrm>
            <a:off x="395280" y="549360"/>
            <a:ext cx="87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1976: Llega  al poder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n XiaoPing:  Reformas econ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icas: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beralización del comercio exterior, socialización de la p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835280" y="3862440"/>
            <a:ext cx="5329080" cy="6426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égimen político de Partido Único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resión a la oposición interna: Tianan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_40168780_chi203"/>
          <p:cNvPicPr/>
          <p:nvPr/>
        </p:nvPicPr>
        <p:blipFill>
          <a:blip r:embed="rId2"/>
          <a:stretch/>
        </p:blipFill>
        <p:spPr>
          <a:xfrm>
            <a:off x="6659640" y="4581360"/>
            <a:ext cx="2305080" cy="18608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1042920" y="2997360"/>
            <a:ext cx="187164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la ind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5975280" y="1413000"/>
            <a:ext cx="280836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materia educ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5580000" y="2997360"/>
            <a:ext cx="212580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materi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395280" y="1413000"/>
            <a:ext cx="1944720" cy="3682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 flipH="1">
            <a:off x="2411280" y="155736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 flipH="1">
            <a:off x="291636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5219640" y="155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521964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421164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mago</cp:lastModifiedBy>
  <dcterms:modified xsi:type="dcterms:W3CDTF">2008-10-10T03:49:56Z</dcterms:modified>
  <cp:revision>57</cp:revision>
  <dc:subject/>
  <dc:title>Diapositiva 1</dc:title>
</cp:coreProperties>
</file>