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1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6.jpeg" ContentType="image/jpeg"/>
  <Override PartName="/ppt/media/image27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B1FF0-29A5-4CEE-A9EC-981D18B3ED5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Nota: 1. Imperio ruso (expansi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sobre el Turquestán y Persia, y conflicto con Japón por Mongolia); 2. Imperio Inglés; 3. Imperio nipón. 4. Imperio holandés (Sumatra, Java, Borneo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magen: caricatura inglesa de 1914 que representa al kaiser alem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n Guillermo, que quiere utilizar a Europa como esponja de su baño. Leyenda: “No será feliz hasta que lo consiga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magen: Inmanuel K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mágenes: Heg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magen:   “La libertad guiando al pueblo” (Delacroix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magen: Augusto Com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stimados Profesores(as):  las diapositivas siguientes corresponden a las utilizadas en el PPT de la clase correspondiente a revolución Industrial.  Si usted ya revisó estos contenidos (ideologías), obvie hasta la diapositiva 20 (existe un hipervínculo destinado para ello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ma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n, Delacroix, La muerte de Sardanap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m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genes: Couvert, Los picapedreros; Charles Dick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m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genes: Pissarro, La avenida Sydenham (1871); Edouard Manet, Música en las Tullerías (1862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magen: Delacroix, La barca de Da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5E3B2-738B-43E8-801B-779B3CA018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F58DE-4979-4902-931C-BAA534A669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37028-3A18-44BA-9EC9-DCEC6869C4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9D554-C5F2-4933-AB9E-3DED7F589F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AE3859-C5AB-4C65-9D0E-CC746AE98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CCC074-4847-4440-AC7C-A8B88CC30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C4DC78-523F-4E4F-B995-996FCB532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1F0BBF-64FF-4740-A3C8-D211D217D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12777A-AF62-42AE-942C-EEA12C614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39011F-2071-468B-96B5-AE16E10F3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F8EE2B-52B9-4B8E-B35F-22FE4D79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5967E-EA64-4FFD-8979-AF96FE2625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A6F3B7-D81A-491F-8387-7B6776D8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C5C0E9-2BA3-4296-B350-5218409C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019DBE-484E-4139-AA22-4D98DF55C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433C79-C0CA-402A-B769-72EF877B9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6396BC-98D3-4555-A00F-00C774FC8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E687D-AF04-4C31-9CDB-B018D7AFC0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F5CEC-AC62-4AD8-AC17-44C153CE53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C9D74-C585-42DA-8682-8AFDDAB1AF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E10ED-5A29-4386-B5B5-B142AC81AD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39868-F872-427A-A17C-C867445717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89B9A-9510-4C0F-B1F2-51DBB4D6B3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DB647-9960-456E-9105-F30C0AF52B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BA0A7-1B19-46D9-9FF8-04443E73BB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8A22E-74B2-4D29-A75D-FCAA0D9F1C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21.xm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476360" y="0"/>
            <a:ext cx="388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Área: Historia y Ciencias Soci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Sección: Historia Univers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7636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19280" y="692280"/>
            <a:ext cx="7345440" cy="26654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ffff"/>
                </a:solidFill>
                <a:latin typeface="Verdana"/>
              </a:rPr>
              <a:t>CLASE HU 20</a:t>
            </a:r>
            <a:br>
              <a:rPr sz="4400"/>
            </a:br>
            <a:r>
              <a:rPr b="1" i="1" lang="es-ES" sz="4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s-ES_tradnl" sz="3200" spc="-1" strike="noStrike">
                <a:solidFill>
                  <a:srgbClr val="ffffff"/>
                </a:solidFill>
                <a:latin typeface="Verdana"/>
              </a:rPr>
              <a:t>IMPERIALISMO, COLONIALISMO Y SOCIEDAD EUROPEA FINISE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132000" y="3449520"/>
            <a:ext cx="4176720" cy="3206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137440" cy="6858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Asia en el siglo X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8137440" cy="58993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18920" y="188640"/>
            <a:ext cx="6135480" cy="6094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Consecuencias del Imperial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1052640"/>
            <a:ext cx="2952720" cy="1224000"/>
          </a:xfrm>
          <a:prstGeom prst="ellips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onflictos imperiali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43280" y="907920"/>
            <a:ext cx="3961080" cy="36036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uerra del Opio (1841- 42,  Chin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43280" y="1413000"/>
            <a:ext cx="3961080" cy="43164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Rebeli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ón de los Cipayos (1857,  Indi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43280" y="1989000"/>
            <a:ext cx="3961080" cy="36036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uerra de los Boers (1899- 190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643280" y="2492280"/>
            <a:ext cx="3961080" cy="36036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uerra Ruso- japonesa (1904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16360" y="3141720"/>
            <a:ext cx="3888000" cy="358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arrollo del proteccion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716360" y="3716280"/>
            <a:ext cx="3888000" cy="289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etencia armada en Euro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68360" y="2997360"/>
            <a:ext cx="2952720" cy="12236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trol de rut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mercia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68360" y="4941720"/>
            <a:ext cx="3168720" cy="129708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recimiento de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fraestructura produ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427640" y="5013360"/>
            <a:ext cx="3168720" cy="129708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Desarrollo de u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burgues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a n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419640" y="1484280"/>
            <a:ext cx="720720" cy="287280"/>
          </a:xfrm>
          <a:prstGeom prst="rightArrow">
            <a:avLst>
              <a:gd name="adj1" fmla="val 50000"/>
              <a:gd name="adj2" fmla="val 6271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427640" y="907920"/>
            <a:ext cx="73080" cy="1873440"/>
          </a:xfrm>
          <a:custGeom>
            <a:avLst/>
            <a:gdLst>
              <a:gd name="textAreaLeft" fmla="*/ 46800 w 73080"/>
              <a:gd name="textAreaRight" fmla="*/ 73440 w 73080"/>
              <a:gd name="textAreaTop" fmla="*/ 48600 h 1873440"/>
              <a:gd name="textAreaBottom" fmla="*/ 1824840 h 187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356000" y="3068640"/>
            <a:ext cx="216000" cy="1081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670"/>
                </a:lnTo>
                <a:cubicBezTo>
                  <a:pt x="10800" y="9570"/>
                  <a:pt x="5400" y="10470"/>
                  <a:pt x="0" y="10470"/>
                </a:cubicBezTo>
                <a:cubicBezTo>
                  <a:pt x="5400" y="10470"/>
                  <a:pt x="10800" y="11370"/>
                  <a:pt x="10800" y="1227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492360" y="3284640"/>
            <a:ext cx="720720" cy="287280"/>
          </a:xfrm>
          <a:prstGeom prst="rightArrow">
            <a:avLst>
              <a:gd name="adj1" fmla="val 50000"/>
              <a:gd name="adj2" fmla="val 6271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908000" y="4292640"/>
            <a:ext cx="287640" cy="576360"/>
          </a:xfrm>
          <a:prstGeom prst="downArrow">
            <a:avLst>
              <a:gd name="adj1" fmla="val 50000"/>
              <a:gd name="adj2" fmla="val 500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708360" y="5516640"/>
            <a:ext cx="647640" cy="217440"/>
          </a:xfrm>
          <a:prstGeom prst="rightArrow">
            <a:avLst>
              <a:gd name="adj1" fmla="val 50000"/>
              <a:gd name="adj2" fmla="val 7446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2. EUROPA FINISECU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4000" y="907920"/>
            <a:ext cx="4032000" cy="398880"/>
          </a:xfrm>
          <a:prstGeom prst="rect">
            <a:avLst/>
          </a:prstGeom>
          <a:solidFill>
            <a:srgbClr val="99663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2.1 La Paz Arm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4103640" cy="388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79" name=""/>
          <p:cNvSpPr/>
          <p:nvPr/>
        </p:nvSpPr>
        <p:spPr>
          <a:xfrm>
            <a:off x="4572000" y="177336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arrollo de políticas comerciales proteccionist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43280" y="2565360"/>
            <a:ext cx="407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eo de un equilibrio territorial entre las potenci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43280" y="342900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arrollo de una propaganda nacionalis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643280" y="4149720"/>
            <a:ext cx="39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xistencia de un foco de conflictos en los Balcanes, entre Rusia y Austria- Hung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43280" y="765000"/>
            <a:ext cx="4286520" cy="79236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íodo político que siguió a las  unifica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cionales, caracterizado po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47960" y="5157720"/>
            <a:ext cx="3672360" cy="45972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arrera armamentíst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Verdana"/>
              </a:rPr>
              <a:t>2.2 Ideolog</a:t>
            </a:r>
            <a:r>
              <a:rPr b="1" i="1" lang="es-ES_tradnl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ías europeas del siglo X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55640" y="907920"/>
            <a:ext cx="2879640" cy="129564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IDEAL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2720" y="981000"/>
            <a:ext cx="3527280" cy="1191240"/>
          </a:xfrm>
          <a:prstGeom prst="rect">
            <a:avLst/>
          </a:prstGeom>
          <a:solidFill>
            <a:srgbClr val="edd8f4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urge como reacción al empirismo y al racionalismo. Se sustentó en los ideales de Rosseau y Ka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635280" y="148428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49440" y="2421000"/>
            <a:ext cx="2619360" cy="37242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4500720" y="2349360"/>
            <a:ext cx="4321080" cy="3743640"/>
          </a:xfrm>
          <a:prstGeom prst="wedgeRoundRectCallout">
            <a:avLst>
              <a:gd name="adj1" fmla="val -70097"/>
              <a:gd name="adj2" fmla="val -467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A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mente es capaz de hacer cosas que serían imposibles sin ella, tales como la ley, la religión, el arte o cien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conocimiento es el resultado de principios que se hallan a priori en la razón humana. No se puede conocer la realidad, sólo se conocen los fenómenos que esa realidad provoca en el entendimiento huma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3456000" cy="31006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2556000" y="3789360"/>
            <a:ext cx="2239920" cy="27352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4859280" y="404640"/>
            <a:ext cx="3959280" cy="2953080"/>
          </a:xfrm>
          <a:prstGeom prst="wedgeRoundRectCallout">
            <a:avLst>
              <a:gd name="adj1" fmla="val -47472"/>
              <a:gd name="adj2" fmla="val 70162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HEGEL,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desarrolló el idealismo planteando el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Método dialéctico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 aplicado a la filosofía de la historia y al Estado Nac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La historia es un camino evolutivo determinado por la oposición entre la idea del Progreso y el Estado Nacional: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este es el fin último de la histor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3959280" cy="38052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5" name=""/>
          <p:cNvSpPr/>
          <p:nvPr/>
        </p:nvSpPr>
        <p:spPr>
          <a:xfrm>
            <a:off x="4572000" y="333360"/>
            <a:ext cx="4248000" cy="4464000"/>
          </a:xfrm>
          <a:prstGeom prst="wedgeRoundRectCallout">
            <a:avLst>
              <a:gd name="adj1" fmla="val -49814"/>
              <a:gd name="adj2" fmla="val 60064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Resaltó las emociones y los sentimientos por encima de la pretendida perfección de la razón, buscó la libertad y espontaneidad en la expresión artíst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Criticó el capitalismo y el imperialismo, por su excesivo individualismo y por priorizar en la competencia, en vez de la fraternidad y la solidar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Su máxima expresión política fue la Revolución Francesa de 1848, la que fue denominada por los románticos como la Primavera de las Nac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9640" y="260280"/>
            <a:ext cx="3167280" cy="122400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L ROMANTIC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755640" y="2708280"/>
            <a:ext cx="2986200" cy="3097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8" name=""/>
          <p:cNvSpPr/>
          <p:nvPr/>
        </p:nvSpPr>
        <p:spPr>
          <a:xfrm>
            <a:off x="4500720" y="404640"/>
            <a:ext cx="4464000" cy="5113440"/>
          </a:xfrm>
          <a:prstGeom prst="wedgeRoundRectCallout">
            <a:avLst>
              <a:gd name="adj1" fmla="val -66143"/>
              <a:gd name="adj2" fmla="val 42578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Idea de evolución hacia el progreso basado el desarrollo científico y técn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COMTE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, plantea los tres estadios históricos de la humanida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La etapa prehistóric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La etapa metafísic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La etapa científica (progreso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Justificación del imperialismo: sólo Europa alcanzó la etapa científ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El positivismo tuvo gran influencia en la educación y en las ciencias sociale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55640" y="476280"/>
            <a:ext cx="3024360" cy="129528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OSITIV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>
            <a:hlinkClick r:id="rId2" action="ppaction://hlinksldjump"/>
          </p:cNvPr>
          <p:cNvSpPr/>
          <p:nvPr/>
        </p:nvSpPr>
        <p:spPr>
          <a:xfrm>
            <a:off x="7451640" y="6093000"/>
            <a:ext cx="865440" cy="288720"/>
          </a:xfrm>
          <a:custGeom>
            <a:avLst/>
            <a:gdLst>
              <a:gd name="textAreaLeft" fmla="*/ 18720 w 865440"/>
              <a:gd name="textAreaRight" fmla="*/ 846720 w 8654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92" h="21600">
                <a:moveTo>
                  <a:pt x="25340" y="3794"/>
                </a:moveTo>
                <a:lnTo>
                  <a:pt x="39353" y="10800"/>
                </a:lnTo>
                <a:lnTo>
                  <a:pt x="25340" y="17806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95280" y="1413000"/>
            <a:ext cx="3384720" cy="131364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uestas para solucionar el problema obrero sin atacar las bases del capitalism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211640" y="333360"/>
            <a:ext cx="201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int Simon: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“a cada cual según sus capacidades y obras”.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284720" y="1341360"/>
            <a:ext cx="1884240" cy="23623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4" name=""/>
          <p:cNvSpPr/>
          <p:nvPr/>
        </p:nvSpPr>
        <p:spPr>
          <a:xfrm>
            <a:off x="755640" y="3284640"/>
            <a:ext cx="34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urier: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reación de los falansteri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1042920" y="3716280"/>
            <a:ext cx="2293920" cy="24703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6" name=""/>
          <p:cNvSpPr/>
          <p:nvPr/>
        </p:nvSpPr>
        <p:spPr>
          <a:xfrm>
            <a:off x="6516720" y="260280"/>
            <a:ext cx="2305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wen: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socialismo mutualista. Edificó escuelas y viviendas para obrer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6516720" y="1341360"/>
            <a:ext cx="1895400" cy="2376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8" name=""/>
          <p:cNvSpPr/>
          <p:nvPr/>
        </p:nvSpPr>
        <p:spPr>
          <a:xfrm>
            <a:off x="250920" y="333360"/>
            <a:ext cx="3852720" cy="9349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Arial"/>
              </a:rPr>
              <a:t>SOCIALISMO UT</a:t>
            </a:r>
            <a:r>
              <a:rPr b="1" i="1" lang="es-ES_tradnl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ÓP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51280" y="4149720"/>
            <a:ext cx="24480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udhon: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Obrero autodidacta, considerado el padre del anarquismo. Criticó la propiedad privada, fue contrario a toda forma de jerarquía y tuvo un rol activo en la Revolución Frances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6516720" y="4005360"/>
            <a:ext cx="1893960" cy="222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547640" y="1197000"/>
            <a:ext cx="2106720" cy="2243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1332000" y="3573360"/>
            <a:ext cx="2952720" cy="28940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3" name=""/>
          <p:cNvSpPr/>
          <p:nvPr/>
        </p:nvSpPr>
        <p:spPr>
          <a:xfrm>
            <a:off x="539640" y="189000"/>
            <a:ext cx="3853080" cy="9349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Arial"/>
              </a:rPr>
              <a:t>SOCIALISMO CIENTÍF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040360" y="404640"/>
            <a:ext cx="3779640" cy="6093000"/>
          </a:xfrm>
          <a:prstGeom prst="wedgeRoundRectCallout">
            <a:avLst>
              <a:gd name="adj1" fmla="val -85407"/>
              <a:gd name="adj2" fmla="val -4509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Método dialéctico materialista que explica, por la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lógica de las oposiciones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, la evolución de la histo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Formulación de la lucha de clases como motor de la histo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Contradicción principal del capitalismo: desarrollo de la miseria de la mayoría de la población y surgimiento  del proletari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Solución política: la Revolución Socialista y la superación del capital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332000" y="5950080"/>
            <a:ext cx="2952720" cy="520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RLOS MARX Y FEDERICO ENG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2581200" cy="40338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332000" y="544500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jail Bakun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924360" y="1197000"/>
            <a:ext cx="4608360" cy="2952720"/>
          </a:xfrm>
          <a:prstGeom prst="wedgeRoundRectCallout">
            <a:avLst>
              <a:gd name="adj1" fmla="val -58129"/>
              <a:gd name="adj2" fmla="val 72578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Postuló la necesidad de la revolución social para superar el capitalismo y toda forma de jerarqu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Postuló como método de lucha la huelga general, el boicot de la producción y las barricad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Consideró como ideal de sociedad la libre cooperación de los individuos y grupos soci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11280" y="189000"/>
            <a:ext cx="3024000" cy="129528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NARQU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5619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¿Qué estudiaremos en esta cla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5280" y="836640"/>
            <a:ext cx="345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CONTEN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907920"/>
            <a:ext cx="46087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APRENDIZAJES ESPE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427640" y="1268280"/>
            <a:ext cx="4321080" cy="5040360"/>
          </a:xfrm>
          <a:prstGeom prst="rect">
            <a:avLst/>
          </a:prstGeom>
          <a:solidFill>
            <a:srgbClr val="f3f5a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imensionar la transformación demográfica del período en relación al ritmo de crecimiento poblacional y a la magnitud de los movimientos migrator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oblematizar el optimismo racionalista del siglo XIX y sus ilusiones sobre el progreso humano basado en la ciencia, la investigación y una visión laica de la existen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racterizar el apogeo del imperialismo como una etapa del desarrollo del capitalismo.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 tu libro estos  contenidos están  desde la página 184 hasta la 18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1268280"/>
            <a:ext cx="4105080" cy="5031720"/>
          </a:xfrm>
          <a:prstGeom prst="rect">
            <a:avLst/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Imperialismo y colonialismo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: Causas, caracter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sticas y consecuenci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Sociedad europea finisecular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Paz arm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Las ideolog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as europ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cultura ilustrada del siglo XI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Conceptos cla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Imperialismo/ Imper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Colonialismo/ Colon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Ideolog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Romantic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Positiv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Social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580000" y="765000"/>
            <a:ext cx="3282840" cy="45864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826920" y="189000"/>
            <a:ext cx="3456000" cy="129528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DOCTRINA SOC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DE LA IGLE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68360" y="1557360"/>
            <a:ext cx="4070160" cy="4608360"/>
          </a:xfrm>
          <a:prstGeom prst="wedgeRoundRectCallout">
            <a:avLst>
              <a:gd name="adj1" fmla="val 81004"/>
              <a:gd name="adj2" fmla="val -37495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Criticó tanto al capitalismo como al desarrollo del comunismo obre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Validó como natural la desigualdad social entre los seres human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Postuló la caridad organizada, como forma de superación de la miseria de la mayoría de la pobl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Permitió la formación de organizaciones sociales y políticas (partidos católicos) que comenzaron a presionar, por medios pacíficos, por reformas sociales a favor de los desposeí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788360" y="5445000"/>
            <a:ext cx="41706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León XIII: Encíclica Rerum Novar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431200" cy="7920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Verdana"/>
              </a:rPr>
              <a:t>3. Cultura ilustrada europea: </a:t>
            </a:r>
            <a:br>
              <a:rPr sz="2400"/>
            </a:br>
            <a:r>
              <a:rPr b="1" i="1" lang="es-ES_tradnl" sz="2400" spc="-1" strike="noStrike">
                <a:solidFill>
                  <a:srgbClr val="ffffff"/>
                </a:solidFill>
                <a:latin typeface="Verdana"/>
              </a:rPr>
              <a:t>tendencias art</a:t>
            </a:r>
            <a:r>
              <a:rPr b="1" i="1" lang="es-ES_tradnl" sz="2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ísticas y literari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8200" y="3860640"/>
            <a:ext cx="3101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 términos políticos, inspiró sentimientos nacionalistas y libertarios exalt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4427640" y="2060640"/>
            <a:ext cx="4190760" cy="33433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611280" y="1341360"/>
            <a:ext cx="3313080" cy="71928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OMANTIC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1280" y="2421000"/>
            <a:ext cx="309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xaltac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los sentimientos, la melancolía, la nostalg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539640" y="2060640"/>
            <a:ext cx="79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uvo fuertemente influido por el positivismo y las primeras teorías sicológ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971640" y="3068640"/>
            <a:ext cx="4033800" cy="3362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867280" y="3068640"/>
            <a:ext cx="1976400" cy="29322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232" name=""/>
          <p:cNvSpPr/>
          <p:nvPr/>
        </p:nvSpPr>
        <p:spPr>
          <a:xfrm>
            <a:off x="3132000" y="404640"/>
            <a:ext cx="2952720" cy="71928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EAL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68360" y="1341360"/>
            <a:ext cx="835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Pretendi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 ver la realidad tal cual era, sin dar lugar a la fantasía o a la exaltación de los sentimien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43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000"/>
                            </p:stCondLst>
                            <p:childTnLst>
                              <p:par>
                                <p:cTn id="4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539640" y="2133720"/>
            <a:ext cx="820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e movimiento se caracterizó por destacar la luz solar y rechazar el negro, por considerar que este color no se hallaba en la naturalez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324000" y="3357720"/>
            <a:ext cx="4319280" cy="29509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236" name=""/>
          <p:cNvSpPr/>
          <p:nvPr/>
        </p:nvSpPr>
        <p:spPr>
          <a:xfrm>
            <a:off x="2916360" y="333360"/>
            <a:ext cx="2952720" cy="71928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IMPRESIONIS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8360" y="1125360"/>
            <a:ext cx="835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enta representar la realidad tal como la reciben los sentidos, con todas las influencias del medio. Se trata de un conocimiento experimen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4716360" y="3357720"/>
            <a:ext cx="4248360" cy="29764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BALANCE Y CARACTERÍSTICAS DE LA SOCIEDAD EUROPEA FINISEC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248520" y="2057400"/>
            <a:ext cx="16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 lo so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867280" y="2362320"/>
            <a:ext cx="3276720" cy="10666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censo y protagonism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 la burguesía y d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letari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838080" y="19051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 lo económ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80880" y="2286000"/>
            <a:ext cx="2819520" cy="15238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olidación 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pitalismo indust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 de la doctrina lib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42670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 lo polít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486400" y="4724280"/>
            <a:ext cx="2895480" cy="12956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iunfo del liberalism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 de la monarquí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lament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04920" y="4724280"/>
            <a:ext cx="3276360" cy="12956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a del progreso indefin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timismo científ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l civilizador del europ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38080" y="4267080"/>
            <a:ext cx="19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 lo cultu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572000" y="1828800"/>
            <a:ext cx="0" cy="358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564000" y="544500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00400" y="297180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987640" y="1197000"/>
            <a:ext cx="3024360" cy="72072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iglo X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71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0" y="119160"/>
            <a:ext cx="9144000" cy="673884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ffffff"/>
                </a:solidFill>
                <a:latin typeface="Verdana"/>
              </a:rPr>
              <a:t>Realicemos la gu</a:t>
            </a:r>
            <a:r>
              <a:rPr b="1" i="1" lang="es-ES_tradnl" sz="40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ía HU 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5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"/>
          <p:cNvGraphicFramePr/>
          <p:nvPr/>
        </p:nvGraphicFramePr>
        <p:xfrm>
          <a:off x="2050920" y="692280"/>
          <a:ext cx="4176720" cy="5754600"/>
        </p:xfrm>
        <a:graphic>
          <a:graphicData uri="http://schemas.openxmlformats.org/drawingml/2006/table">
            <a:tbl>
              <a:tblPr/>
              <a:tblGrid>
                <a:gridCol w="865440"/>
                <a:gridCol w="1120680"/>
                <a:gridCol w="2190600"/>
              </a:tblGrid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E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LA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ABIL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áli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ocimi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ocimi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n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n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áli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ocimi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n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áli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n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n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áli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n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n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áli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5" name=""/>
          <p:cNvSpPr/>
          <p:nvPr/>
        </p:nvSpPr>
        <p:spPr>
          <a:xfrm>
            <a:off x="1692360" y="189000"/>
            <a:ext cx="49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REVISEMOS LA GUÍA HU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PREPARA PARA TU PRÓXIMA CLASE LOS SIGUIENTES CONTEN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351640" cy="1800360"/>
          </a:xfrm>
          <a:prstGeom prst="rect">
            <a:avLst/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UROPA EN CRIS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imera Guerra Mund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volución Ru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risis de 192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repara estos contenidos con la ayuda de tu libro (páginas 200 a 208  del Tomo II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>
            <a:hlinkClick r:id="" action="ppaction://hlinkshowjump?jump=firstslide"/>
          </p:cNvPr>
          <p:cNvSpPr/>
          <p:nvPr/>
        </p:nvSpPr>
        <p:spPr>
          <a:xfrm>
            <a:off x="8028000" y="5445000"/>
            <a:ext cx="792000" cy="1008360"/>
          </a:xfrm>
          <a:custGeom>
            <a:avLst/>
            <a:gdLst>
              <a:gd name="textAreaLeft" fmla="*/ 51120 w 792000"/>
              <a:gd name="textAreaRight" fmla="*/ 740880 w 792000"/>
              <a:gd name="textAreaTop" fmla="*/ 51120 h 1008360"/>
              <a:gd name="textAreaBottom" fmla="*/ 957240 h 1008360"/>
            </a:gdLst>
            <a:ahLst/>
            <a:rect l="textAreaLeft" t="textAreaTop" r="textAreaRight" b="textAreaBottom"/>
            <a:pathLst>
              <a:path w="21600" h="27498">
                <a:moveTo>
                  <a:pt x="0" y="0"/>
                </a:moveTo>
                <a:lnTo>
                  <a:pt x="21600" y="0"/>
                </a:lnTo>
                <a:lnTo>
                  <a:pt x="21600" y="27498"/>
                </a:lnTo>
                <a:lnTo>
                  <a:pt x="0" y="27498"/>
                </a:lnTo>
                <a:close/>
              </a:path>
              <a:path fill="lightenLess" w="21600" h="274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498">
                <a:moveTo>
                  <a:pt x="21600" y="0"/>
                </a:moveTo>
                <a:lnTo>
                  <a:pt x="21600" y="27498"/>
                </a:lnTo>
                <a:lnTo>
                  <a:pt x="20200" y="26098"/>
                </a:lnTo>
                <a:lnTo>
                  <a:pt x="20200" y="1400"/>
                </a:lnTo>
                <a:close/>
              </a:path>
              <a:path fill="darkenLess" w="21600" h="27498">
                <a:moveTo>
                  <a:pt x="21600" y="27498"/>
                </a:moveTo>
                <a:lnTo>
                  <a:pt x="0" y="27498"/>
                </a:lnTo>
                <a:lnTo>
                  <a:pt x="1400" y="26098"/>
                </a:lnTo>
                <a:lnTo>
                  <a:pt x="20200" y="26098"/>
                </a:lnTo>
                <a:close/>
              </a:path>
              <a:path fill="lighten" w="21600" h="27498">
                <a:moveTo>
                  <a:pt x="0" y="2749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098"/>
                </a:lnTo>
                <a:close/>
              </a:path>
              <a:path fill="darken" w="21600" h="27498">
                <a:moveTo>
                  <a:pt x="10800" y="6786"/>
                </a:moveTo>
                <a:lnTo>
                  <a:pt x="13376" y="9397"/>
                </a:lnTo>
                <a:lnTo>
                  <a:pt x="13376" y="7656"/>
                </a:lnTo>
                <a:lnTo>
                  <a:pt x="15152" y="7656"/>
                </a:lnTo>
                <a:lnTo>
                  <a:pt x="15152" y="11173"/>
                </a:lnTo>
                <a:lnTo>
                  <a:pt x="17763" y="13749"/>
                </a:lnTo>
                <a:lnTo>
                  <a:pt x="16109" y="13749"/>
                </a:lnTo>
                <a:lnTo>
                  <a:pt x="16109" y="20938"/>
                </a:lnTo>
                <a:lnTo>
                  <a:pt x="5491" y="20938"/>
                </a:lnTo>
                <a:lnTo>
                  <a:pt x="5491" y="13749"/>
                </a:lnTo>
                <a:lnTo>
                  <a:pt x="3837" y="13749"/>
                </a:lnTo>
                <a:close/>
              </a:path>
              <a:path fill="darkenLess" w="21600" h="27498">
                <a:moveTo>
                  <a:pt x="13376" y="9397"/>
                </a:moveTo>
                <a:lnTo>
                  <a:pt x="13376" y="7656"/>
                </a:lnTo>
                <a:lnTo>
                  <a:pt x="15152" y="7656"/>
                </a:lnTo>
                <a:lnTo>
                  <a:pt x="15152" y="11173"/>
                </a:lnTo>
                <a:close/>
              </a:path>
              <a:path fill="darkenLess" w="21600" h="27498">
                <a:moveTo>
                  <a:pt x="9877" y="17248"/>
                </a:moveTo>
                <a:lnTo>
                  <a:pt x="11723" y="17248"/>
                </a:lnTo>
                <a:lnTo>
                  <a:pt x="11723" y="20938"/>
                </a:lnTo>
                <a:lnTo>
                  <a:pt x="16109" y="20938"/>
                </a:lnTo>
                <a:lnTo>
                  <a:pt x="16109" y="13749"/>
                </a:lnTo>
                <a:lnTo>
                  <a:pt x="5491" y="13749"/>
                </a:lnTo>
                <a:lnTo>
                  <a:pt x="5491" y="20938"/>
                </a:lnTo>
                <a:lnTo>
                  <a:pt x="9877" y="20938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364000" y="3141720"/>
            <a:ext cx="2536920" cy="3240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1547640" y="3141720"/>
            <a:ext cx="3878280" cy="3240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0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8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8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8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8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8353440" cy="5140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1" name=""/>
          <p:cNvSpPr/>
          <p:nvPr/>
        </p:nvSpPr>
        <p:spPr>
          <a:xfrm>
            <a:off x="324000" y="189000"/>
            <a:ext cx="8459640" cy="9363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¿Puedes reconocer en el siguiente mapa algunas potencias imperiales con sus respectivas colonia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Revisemos en primer lugar los siguientes concep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27440" y="1039680"/>
            <a:ext cx="8958600" cy="4470480"/>
            <a:chOff x="127440" y="1039680"/>
            <a:chExt cx="8958600" cy="4470480"/>
          </a:xfrm>
        </p:grpSpPr>
        <p:sp>
          <p:nvSpPr>
            <p:cNvPr id="104" name="_s138267"/>
            <p:cNvSpPr/>
            <p:nvPr/>
          </p:nvSpPr>
          <p:spPr>
            <a:xfrm>
              <a:off x="3397320" y="1833840"/>
              <a:ext cx="2421720" cy="2270520"/>
            </a:xfrm>
            <a:prstGeom prst="ellipse">
              <a:avLst/>
            </a:prstGeom>
            <a:solidFill>
              <a:srgbClr val="333399">
                <a:alpha val="50000"/>
              </a:srgbClr>
            </a:solidFill>
            <a:ln w="4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138268"/>
            <p:cNvSpPr/>
            <p:nvPr/>
          </p:nvSpPr>
          <p:spPr>
            <a:xfrm>
              <a:off x="3397320" y="1039680"/>
              <a:ext cx="2421720" cy="56592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MPERI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138269"/>
            <p:cNvSpPr/>
            <p:nvPr/>
          </p:nvSpPr>
          <p:spPr>
            <a:xfrm>
              <a:off x="4194360" y="3127320"/>
              <a:ext cx="2421720" cy="2271240"/>
            </a:xfrm>
            <a:prstGeom prst="ellipse">
              <a:avLst/>
            </a:prstGeom>
            <a:solidFill>
              <a:srgbClr val="009999">
                <a:alpha val="50000"/>
              </a:srgbClr>
            </a:solidFill>
            <a:ln w="46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38270"/>
            <p:cNvSpPr/>
            <p:nvPr/>
          </p:nvSpPr>
          <p:spPr>
            <a:xfrm>
              <a:off x="6664320" y="4944240"/>
              <a:ext cx="2421720" cy="56592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MPERIALISM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138271"/>
            <p:cNvSpPr/>
            <p:nvPr/>
          </p:nvSpPr>
          <p:spPr>
            <a:xfrm>
              <a:off x="2599560" y="3127320"/>
              <a:ext cx="2421720" cy="227124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46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38272"/>
            <p:cNvSpPr/>
            <p:nvPr/>
          </p:nvSpPr>
          <p:spPr>
            <a:xfrm>
              <a:off x="127440" y="4942080"/>
              <a:ext cx="2421360" cy="56592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OLONIALISM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654720" y="2131200"/>
              <a:ext cx="205596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EXPANSIÓN  TERRITORIAL SUSTENTADA EN CONQUISTAS MILITARE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556000" y="3758040"/>
              <a:ext cx="20606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INSTALACIÓN DE UN ESTABLECIMIENTO COMERCIAL O MILITAR FUERA DE UN ESTADO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4859280" y="3645000"/>
            <a:ext cx="16574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ORMA MÁS COMPLEJA DE EXPANSIÓN, NO NECESARIAMENTE TERRITOR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92360" y="5805360"/>
            <a:ext cx="54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¿Cuáles eran las formas de dominació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403280" y="407664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03280" y="407664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588000" y="4005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812000" y="4005360"/>
            <a:ext cx="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484360" y="189000"/>
            <a:ext cx="3600360" cy="72072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ERIALISMO 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L SIGLO X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0920" y="1197000"/>
            <a:ext cx="2663640" cy="57456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LON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59280" y="1197000"/>
            <a:ext cx="2663640" cy="57456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CE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940360" y="1197000"/>
            <a:ext cx="2664000" cy="57456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TECTO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395280" y="2060640"/>
            <a:ext cx="2592000" cy="3455640"/>
            <a:chOff x="395280" y="2060640"/>
            <a:chExt cx="2592000" cy="3455640"/>
          </a:xfrm>
        </p:grpSpPr>
        <p:sp>
          <p:nvSpPr>
            <p:cNvPr id="124" name=""/>
            <p:cNvSpPr/>
            <p:nvPr/>
          </p:nvSpPr>
          <p:spPr>
            <a:xfrm>
              <a:off x="395280" y="2060640"/>
              <a:ext cx="2592000" cy="3455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79880" y="2209680"/>
              <a:ext cx="2341080" cy="2837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ometidas a la soberanía  de la potencia colonizadora y administrada por ella. Supone anexión territorial y pérdida de soberanía del país colonizado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j. Congo Belg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3203640" y="2060640"/>
            <a:ext cx="2374920" cy="3600360"/>
            <a:chOff x="3203640" y="2060640"/>
            <a:chExt cx="2374920" cy="3600360"/>
          </a:xfrm>
        </p:grpSpPr>
        <p:sp>
          <p:nvSpPr>
            <p:cNvPr id="127" name=""/>
            <p:cNvSpPr/>
            <p:nvPr/>
          </p:nvSpPr>
          <p:spPr>
            <a:xfrm>
              <a:off x="3203640" y="2060640"/>
              <a:ext cx="2374920" cy="3600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348000" y="2205000"/>
              <a:ext cx="2217600" cy="3254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Las potencias colonizadoras obtenían ventajas comerciales de países que eran independientes y que les cedían  una serie de puertos en calidad de franquicia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Ej: China, India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6012000" y="2060640"/>
            <a:ext cx="2663640" cy="3600360"/>
            <a:chOff x="6012000" y="2060640"/>
            <a:chExt cx="2663640" cy="3600360"/>
          </a:xfrm>
        </p:grpSpPr>
        <p:sp>
          <p:nvSpPr>
            <p:cNvPr id="130" name=""/>
            <p:cNvSpPr/>
            <p:nvPr/>
          </p:nvSpPr>
          <p:spPr>
            <a:xfrm>
              <a:off x="6012000" y="2060640"/>
              <a:ext cx="2663640" cy="3600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084720" y="2276640"/>
              <a:ext cx="2486160" cy="31114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La potencia protectora controlaba la política exterior y las riquezas del país, mientras que las autoridades nativas controlaban la política interior. Ej: España y Francia sobre Marruecos. Gran Bretaña sobre Egipto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 flipH="1">
            <a:off x="2268360" y="907920"/>
            <a:ext cx="19432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11640" y="90792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211640" y="907920"/>
            <a:ext cx="244800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76360" y="189000"/>
            <a:ext cx="6546960" cy="6681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Factores del Imperial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24000" y="4149720"/>
            <a:ext cx="1726920" cy="2306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37" name=""/>
          <p:cNvSpPr/>
          <p:nvPr/>
        </p:nvSpPr>
        <p:spPr>
          <a:xfrm>
            <a:off x="250920" y="1197000"/>
            <a:ext cx="3673440" cy="13683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con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mico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 capital monopólic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necesidad  de expandir  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rc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 desarrollo del capital financie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50920" y="2852640"/>
            <a:ext cx="3816360" cy="1152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ultural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dea de superioridad del europe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eurocentrismo). Teo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as racist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5013360"/>
            <a:ext cx="4896000" cy="13683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mogr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fic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explosión demográfica, que provoc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 crecimiento de la deman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gración del excedente de población europ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788000" y="1197000"/>
            <a:ext cx="4068720" cy="1368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lític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expansión mundial entreg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stigio internacional: nacionalism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788000" y="2852640"/>
            <a:ext cx="4066920" cy="1152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cnológic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revolución de las comunicaci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 de  los transpor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56000" y="836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067280" y="907920"/>
            <a:ext cx="28872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4067280" y="907920"/>
            <a:ext cx="28872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356000" y="907920"/>
            <a:ext cx="36036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356000" y="907920"/>
            <a:ext cx="360360" cy="187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250920" y="189000"/>
            <a:ext cx="8677080" cy="6507000"/>
            <a:chOff x="250920" y="189000"/>
            <a:chExt cx="8677080" cy="6507000"/>
          </a:xfrm>
        </p:grpSpPr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539640" y="1197000"/>
              <a:ext cx="6048360" cy="549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50920" y="189000"/>
              <a:ext cx="8642160" cy="89676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Verdana"/>
                </a:rPr>
                <a:t>La estructura imperial: </a:t>
              </a:r>
              <a:br>
                <a:rPr sz="2400"/>
              </a:br>
              <a:r>
                <a:rPr b="1" i="1" lang="es-ES_tradnl" sz="2400" spc="-1" strike="noStrike">
                  <a:solidFill>
                    <a:srgbClr val="ffffff"/>
                  </a:solidFill>
                  <a:latin typeface="Verdana"/>
                </a:rPr>
                <a:t>distribuci</a:t>
              </a:r>
              <a:r>
                <a:rPr b="1" i="1" lang="es-ES_tradnl" sz="2400" spc="-1" strike="noStrike">
                  <a:solidFill>
                    <a:srgbClr val="ffffff"/>
                  </a:solidFill>
                  <a:latin typeface="Verdana"/>
                  <a:ea typeface="ＭＳ Ｐゴシック"/>
                </a:rPr>
                <a:t>ón y control de zonas de influenc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PlaceHolder 1"/>
            <p:cNvSpPr>
              <a:spLocks noGrp="1"/>
            </p:cNvSpPr>
            <p:nvPr>
              <p:ph type="title"/>
            </p:nvPr>
          </p:nvSpPr>
          <p:spPr>
            <a:xfrm>
              <a:off x="6372000" y="1412640"/>
              <a:ext cx="2447640" cy="13683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txBody>
            <a:bodyPr lIns="90000" rIns="90000" tIns="46800" bIns="46800" anchor="t">
              <a:noAutofit/>
            </a:bodyPr>
            <a:p>
              <a:pPr indent="0" algn="ctr"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CONFERENCIA DE BERLÍN  (1884-1885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227640" y="3357720"/>
              <a:ext cx="2700360" cy="23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Reparto de África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Inglaterra: 30 millones de Kms. cuadrados; Francia, (10 millones); Alemania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Otras potencias también obtienen territorio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524720" y="278136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24000" y="189000"/>
            <a:ext cx="864072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El imperialismo inglés: dominion inglé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24000" y="765000"/>
            <a:ext cx="8381880" cy="5220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5763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Verdana"/>
              </a:rPr>
              <a:t>El imperialismo franc</a:t>
            </a:r>
            <a:r>
              <a:rPr b="1" i="1" lang="es-ES_tradnl" sz="2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és: </a:t>
            </a:r>
            <a:r>
              <a:rPr b="0" i="1" lang="es-ES_tradnl" sz="2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assimilation france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8664480" cy="5291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5T03:30:29Z</dcterms:created>
  <dc:creator>WinuE</dc:creator>
  <dc:description/>
  <dc:language>en-US</dc:language>
  <cp:lastModifiedBy>WinuE</cp:lastModifiedBy>
  <dcterms:modified xsi:type="dcterms:W3CDTF">2008-08-18T05:22:20Z</dcterms:modified>
  <cp:revision>63</cp:revision>
  <dc:subject/>
  <dc:title>Diapositiva 1</dc:title>
</cp:coreProperties>
</file>