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5A83-6AE7-4E2A-B311-0DE76480F82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ta: 1. Imperio ruso (expansi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sobre el Turquestán y Persia, y conflicto con Japón por Mongolia); 2. Imperio Inglés; 3. Imperio nipón. 4. Imperio holandés (Sumatra, Java, Borneo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agen: caricatura inglesa de 1914 que representa al kaiser ale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 Guillermo, que quiere utilizar a Europa como esponja de su baño. Leyenda: “No será feliz hasta que lo consiga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agen: Inmanuel K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ágenes: He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agen:   “La libertad guiando al pueblo” (Delacroix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agen: Augusto Com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imados Profesores(as):  las diapositivas siguientes corresponden a las utilizadas en el PPT de la clase correspondiente a revolución Industrial.  Si usted ya revisó estos contenidos (ideologías), obvie hasta la diapositiva 20 (existe un hipervínculo destinado para ello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a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, Delacroix, La muerte de Sardanap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enes: Couvert, Los picapedreros; Charles Dick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enes: Pissarro, La avenida Sydenham (1871); Edouard Manet, Música en las Tullerías (186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agen: Delacroix, La barca de Da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4CB3C-900F-456B-93AF-0A6D7ACEF7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15858-5B72-4936-9343-C8DC2834C4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964D8-7F48-4A6C-AFEE-E3BA9FA8C4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FE88B-7D50-4DF2-BBEA-91AF3C61B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2C6E3-511D-4DD4-956D-CD48B8F6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3AFB4-EA13-4257-B971-C7D0EDB6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2EE9F-3456-421E-AAD5-0DDB7F05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D61E6-7CB0-4344-B6FC-6542A26E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1D543-6C8B-4BD7-BEA1-261DABB9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B66BD-807F-488B-9095-78669A3C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949B0-6E7C-4B90-ACF0-B3E88F8C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1F951-B2DD-4538-9797-4D0FB1AFFD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AD880-5FA8-4808-8735-4492E073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60E75-0E4B-4236-9E16-3F7E631A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27283-AD79-4C7B-872F-D89C1B43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F93FB-8315-466A-A48F-54ADA5D8E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C23EF-D03E-426B-9C9D-BE629F1B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988D2-8F7D-4601-88AA-4AF9FF2808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3C2DA-72BC-4B4F-A03B-82251BE9F9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5EA88-C784-46A0-B6AA-ABC2EEC466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173A7-47E0-464D-83BF-4891F5278F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FB092-1C1E-411A-881E-73D4D35B75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0A940-144D-4439-AF28-E0E6CE0705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1AB7A-0090-4BD9-8E5B-2DB36369CA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C1CF-C540-4303-9D2C-D4AAF67AE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21EA-F9DC-407E-A457-4680A457A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21.xm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76360" y="0"/>
            <a:ext cx="38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Área: Historia y Ciencias 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Sección: Historia Uni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7345440" cy="26654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Verdana"/>
              </a:rPr>
              <a:t>CLASE HU 20</a:t>
            </a:r>
            <a:br>
              <a:rPr sz="4400"/>
            </a:br>
            <a:r>
              <a:rPr b="1" i="1" lang="es-E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s-ES_tradnl" sz="3200" spc="-1" strike="noStrike">
                <a:solidFill>
                  <a:srgbClr val="ffffff"/>
                </a:solidFill>
                <a:latin typeface="Verdana"/>
              </a:rPr>
              <a:t>IMPERIALISMO, COLONIALISMO Y SOCIEDAD EUROPEA FINISE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132000" y="3449520"/>
            <a:ext cx="4176720" cy="3206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137440" cy="6858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Asia en el siglo X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137440" cy="5899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18920" y="188640"/>
            <a:ext cx="613548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Consecuencias del Imperia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52640"/>
            <a:ext cx="2952720" cy="12240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nflictos imperial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43280" y="907920"/>
            <a:ext cx="3961080" cy="360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erra del Opio (1841- 42,  Chin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43280" y="1413000"/>
            <a:ext cx="3961080" cy="43164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ebeli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ón de los Cipayos (1857,  Indi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3280" y="1989000"/>
            <a:ext cx="3961080" cy="360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uerra de los Boers (1899- 190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43280" y="2492280"/>
            <a:ext cx="3961080" cy="360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uerra Ruso- japonesa (190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6360" y="3141720"/>
            <a:ext cx="3888000" cy="358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rrollo del proteccion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16360" y="3716280"/>
            <a:ext cx="3888000" cy="289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etencia armada en Eu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2997360"/>
            <a:ext cx="2952720" cy="1223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rol de ru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merci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4941720"/>
            <a:ext cx="3168720" cy="12970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ecimiento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fraestructura produ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27640" y="5013360"/>
            <a:ext cx="3168720" cy="12970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Desarrollo de 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burgues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n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19640" y="148428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27640" y="907920"/>
            <a:ext cx="73080" cy="1873440"/>
          </a:xfrm>
          <a:custGeom>
            <a:avLst/>
            <a:gdLst>
              <a:gd name="textAreaLeft" fmla="*/ 46800 w 73080"/>
              <a:gd name="textAreaRight" fmla="*/ 73440 w 73080"/>
              <a:gd name="textAreaTop" fmla="*/ 48600 h 1873440"/>
              <a:gd name="textAreaBottom" fmla="*/ 1824840 h 18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56000" y="3068640"/>
            <a:ext cx="216000" cy="1081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70"/>
                </a:lnTo>
                <a:cubicBezTo>
                  <a:pt x="10800" y="9570"/>
                  <a:pt x="5400" y="10470"/>
                  <a:pt x="0" y="10470"/>
                </a:cubicBezTo>
                <a:cubicBezTo>
                  <a:pt x="5400" y="10470"/>
                  <a:pt x="10800" y="11370"/>
                  <a:pt x="10800" y="1227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92360" y="328464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08000" y="4292640"/>
            <a:ext cx="287640" cy="576360"/>
          </a:xfrm>
          <a:prstGeom prst="downArrow">
            <a:avLst>
              <a:gd name="adj1" fmla="val 50000"/>
              <a:gd name="adj2" fmla="val 500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08360" y="5516640"/>
            <a:ext cx="647640" cy="217440"/>
          </a:xfrm>
          <a:prstGeom prst="rightArrow">
            <a:avLst>
              <a:gd name="adj1" fmla="val 50000"/>
              <a:gd name="adj2" fmla="val 7446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2. EUROPA FINISE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907920"/>
            <a:ext cx="4032000" cy="398880"/>
          </a:xfrm>
          <a:prstGeom prst="rect">
            <a:avLst/>
          </a:prstGeom>
          <a:solidFill>
            <a:srgbClr val="9966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2.1 La Paz Arm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4103640" cy="388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79" name=""/>
          <p:cNvSpPr/>
          <p:nvPr/>
        </p:nvSpPr>
        <p:spPr>
          <a:xfrm>
            <a:off x="4572000" y="1773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arrollo de políticas comerciales proteccionis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43280" y="2565360"/>
            <a:ext cx="407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o de un equilibrio territorial entre las potenc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43280" y="342900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rrollo de una propaganda nacionali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43280" y="4149720"/>
            <a:ext cx="39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istencia de un foco de conflictos en los Balcanes, entre Rusia y Austria- Hung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765000"/>
            <a:ext cx="4286520" cy="79236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íodo político que siguió a las  unific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cionales, caracterizado p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47960" y="5157720"/>
            <a:ext cx="3672360" cy="4597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arrera armamentí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Verdana"/>
              </a:rPr>
              <a:t>2.2 Ideolog</a:t>
            </a:r>
            <a:r>
              <a:rPr b="1" i="1" lang="es-ES_tradnl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ías europeas del siglo X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5640" y="907920"/>
            <a:ext cx="2879640" cy="129564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DEA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81000"/>
            <a:ext cx="3527280" cy="1191240"/>
          </a:xfrm>
          <a:prstGeom prst="rect">
            <a:avLst/>
          </a:prstGeom>
          <a:solidFill>
            <a:srgbClr val="edd8f4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rge como reacción al empirismo y al racionalismo. Se sustentó en los ideales de Rosseau y K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35280" y="148428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49440" y="2421000"/>
            <a:ext cx="2619360" cy="37242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500720" y="2349360"/>
            <a:ext cx="4321080" cy="3743640"/>
          </a:xfrm>
          <a:prstGeom prst="wedgeRoundRectCallout">
            <a:avLst>
              <a:gd name="adj1" fmla="val -70097"/>
              <a:gd name="adj2" fmla="val -46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ente es capaz de hacer cosas que serían imposibles sin ella, tales como la ley, la religión, el arte o ci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conocimiento es el resultado de principios que se hallan a priori en la razón humana. No se puede conocer la realidad, sólo se conocen los fenómenos que esa realidad provoca en el entendimiento hum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3456000" cy="3100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556000" y="3789360"/>
            <a:ext cx="2239920" cy="2735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859280" y="404640"/>
            <a:ext cx="3959280" cy="2953080"/>
          </a:xfrm>
          <a:prstGeom prst="wedgeRoundRectCallout">
            <a:avLst>
              <a:gd name="adj1" fmla="val -47472"/>
              <a:gd name="adj2" fmla="val 70162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HEGEL,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desarrolló el idealismo planteando el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Método dialéctico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aplicado a la filosofía de la historia y al Estado N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historia es un camino evolutivo determinado por la oposición entre la idea del Progreso y el Estado Nacional: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este es el fin último de la histor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959280" cy="3805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4572000" y="333360"/>
            <a:ext cx="4248000" cy="4464000"/>
          </a:xfrm>
          <a:prstGeom prst="wedgeRoundRectCallout">
            <a:avLst>
              <a:gd name="adj1" fmla="val -49814"/>
              <a:gd name="adj2" fmla="val 6006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Resaltó las emociones y los sentimientos por encima de la pretendida perfección de la razón, buscó la libertad y espontaneidad en la expresión artís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Criticó el capitalismo y el imperialismo, por su excesivo individualismo y por priorizar en la competencia, en vez de la fraternidad y la solidar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Su máxima expresión política fue la Revolución Francesa de 1848, la que fue denominada por los románticos como la Primavera de las N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260280"/>
            <a:ext cx="3167280" cy="12240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L ROMANTIC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55640" y="2708280"/>
            <a:ext cx="2986200" cy="3097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8" name=""/>
          <p:cNvSpPr/>
          <p:nvPr/>
        </p:nvSpPr>
        <p:spPr>
          <a:xfrm>
            <a:off x="4500720" y="404640"/>
            <a:ext cx="4464000" cy="5113440"/>
          </a:xfrm>
          <a:prstGeom prst="wedgeRoundRectCallout">
            <a:avLst>
              <a:gd name="adj1" fmla="val -66143"/>
              <a:gd name="adj2" fmla="val 4257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Idea de evolución hacia el progreso basado el desarrollo científico y técn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COMTE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, plantea los tres estadios históricos de la humanid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etapa prehistór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etapa metafís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etapa científica (progres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Justificación del imperialismo: sólo Europa alcanzó la etapa científ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El positivismo tuvo gran influencia en la educación y en las ciencias social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5640" y="476280"/>
            <a:ext cx="3024360" cy="12952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OSITIV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rId2" action="ppaction://hlinksldjump"/>
          </p:cNvPr>
          <p:cNvSpPr/>
          <p:nvPr/>
        </p:nvSpPr>
        <p:spPr>
          <a:xfrm>
            <a:off x="7451640" y="6093000"/>
            <a:ext cx="865440" cy="288720"/>
          </a:xfrm>
          <a:custGeom>
            <a:avLst/>
            <a:gdLst>
              <a:gd name="textAreaLeft" fmla="*/ 18720 w 865440"/>
              <a:gd name="textAreaRight" fmla="*/ 846720 w 8654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92" h="21600">
                <a:moveTo>
                  <a:pt x="25340" y="3794"/>
                </a:moveTo>
                <a:lnTo>
                  <a:pt x="39353" y="10800"/>
                </a:lnTo>
                <a:lnTo>
                  <a:pt x="25340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95280" y="1413000"/>
            <a:ext cx="3384720" cy="13136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uestas para solucionar el problema obrero sin atacar las bases del capitalis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11640" y="33336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nt Simon: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“a cada cual según sus capacidades y obras”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1884240" cy="2362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4" name=""/>
          <p:cNvSpPr/>
          <p:nvPr/>
        </p:nvSpPr>
        <p:spPr>
          <a:xfrm>
            <a:off x="755640" y="3284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urier: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reación de los falansteri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042920" y="3716280"/>
            <a:ext cx="2293920" cy="2470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6" name=""/>
          <p:cNvSpPr/>
          <p:nvPr/>
        </p:nvSpPr>
        <p:spPr>
          <a:xfrm>
            <a:off x="6516720" y="260280"/>
            <a:ext cx="2305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wen: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ocialismo mutualista. Edificó escuelas y viviendas para obrer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6516720" y="1341360"/>
            <a:ext cx="1895400" cy="2376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8" name=""/>
          <p:cNvSpPr/>
          <p:nvPr/>
        </p:nvSpPr>
        <p:spPr>
          <a:xfrm>
            <a:off x="250920" y="333360"/>
            <a:ext cx="3852720" cy="934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SOCIALISMO UT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ÓP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51280" y="4149720"/>
            <a:ext cx="244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udhon: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brero autodidacta, considerado el padre del anarquismo. Criticó la propiedad privada, fue contrario a toda forma de jerarquía y tuvo un rol activo en la Revolución Frances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6516720" y="4005360"/>
            <a:ext cx="1893960" cy="222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2106720" cy="2243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332000" y="3573360"/>
            <a:ext cx="2952720" cy="2894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3" name=""/>
          <p:cNvSpPr/>
          <p:nvPr/>
        </p:nvSpPr>
        <p:spPr>
          <a:xfrm>
            <a:off x="539640" y="189000"/>
            <a:ext cx="3853080" cy="934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SOCIALISMO CIENTÍ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40360" y="404640"/>
            <a:ext cx="3779640" cy="6093000"/>
          </a:xfrm>
          <a:prstGeom prst="wedgeRoundRectCallout">
            <a:avLst>
              <a:gd name="adj1" fmla="val -85407"/>
              <a:gd name="adj2" fmla="val -450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Método dialéctico materialista que explica, por la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ógica de las oposiciones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, la evolución de la histo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Formulación de la lucha de clases como motor de la histo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Contradicción principal del capitalismo: desarrollo de la miseria de la mayoría de la población y surgimiento  del proletari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Solución política: la Revolución Socialista y la superación del capit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32000" y="5950080"/>
            <a:ext cx="2952720" cy="52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RLOS MARX Y FEDERICO EN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2581200" cy="4033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332000" y="54450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jail Bakun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24360" y="1197000"/>
            <a:ext cx="4608360" cy="2952720"/>
          </a:xfrm>
          <a:prstGeom prst="wedgeRoundRectCallout">
            <a:avLst>
              <a:gd name="adj1" fmla="val -58129"/>
              <a:gd name="adj2" fmla="val 7257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Postuló la necesidad de la revolución social para superar el capitalismo y toda forma de jerarqu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Postuló como método de lucha la huelga general, el boicot de la producción y las barric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Consideró como ideal de sociedad la libre cooperación de los individuos y grupos soc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189000"/>
            <a:ext cx="3024000" cy="12952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NARQU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¿Qué estudiaremos en esta cl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836640"/>
            <a:ext cx="34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907920"/>
            <a:ext cx="4608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427640" y="1268280"/>
            <a:ext cx="4321080" cy="5040360"/>
          </a:xfrm>
          <a:prstGeom prst="rect">
            <a:avLst/>
          </a:prstGeom>
          <a:solidFill>
            <a:srgbClr val="f3f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mensionar la transformación demográfica del período en relación al ritmo de crecimiento poblacional y a la magnitud de los movimientos migrato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blematizar el optimismo racionalista del siglo XIX y sus ilusiones sobre el progreso humano basado en la ciencia, la investigación y una visión laica de la exist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racterizar el apogeo del imperialismo como una etapa del desarrollo del capitalismo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 tu libro estos  contenidos están  desde la página 184 hasta la 18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268280"/>
            <a:ext cx="4105080" cy="503172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mperialismo y colonialismo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: Causas, caracter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sticas y consecuenc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Sociedad europea finisecular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Paz arm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s ideolog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s europ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ultura ilustrada del siglo X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Conceptos cl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Imperialismo/ Impe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Colonialismo/ Colo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Ideolog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Romantic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Positiv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Soci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580000" y="765000"/>
            <a:ext cx="3282840" cy="45864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26920" y="189000"/>
            <a:ext cx="3456000" cy="12952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OCTRINA SOC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E LA IGL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1557360"/>
            <a:ext cx="4070160" cy="4608360"/>
          </a:xfrm>
          <a:prstGeom prst="wedgeRoundRectCallout">
            <a:avLst>
              <a:gd name="adj1" fmla="val 81004"/>
              <a:gd name="adj2" fmla="val -3749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Criticó tanto al capitalismo como al desarrollo del comunismo obr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Validó como natural la desigualdad social entre los seres huma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Postuló la caridad organizada, como forma de superación de la miseria de la mayoría de la pob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Permitió la formación de organizaciones sociales y políticas (partidos católicos) que comenzaron a presionar, por medios pacíficos, por reformas sociales a favor de los desposeí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88360" y="5445000"/>
            <a:ext cx="41706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eón XIII: Encíclica Rerum Novar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31200" cy="792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3. Cultura ilustrada europea: </a:t>
            </a:r>
            <a:br>
              <a:rPr sz="2400"/>
            </a:b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tendencias art</a:t>
            </a:r>
            <a:r>
              <a:rPr b="1" i="1" lang="es-ES_tradnl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ísticas y litera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8200" y="3860640"/>
            <a:ext cx="3101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términos políticos, inspiró sentimientos nacionalistas y libertarios exal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427640" y="2060640"/>
            <a:ext cx="4190760" cy="33433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11280" y="1341360"/>
            <a:ext cx="3313080" cy="7192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MANTIC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2421000"/>
            <a:ext cx="309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altac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los sentimientos, la melancolía, la nostal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39640" y="206064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uvo fuertemente influido por el positivismo y las primeras teorías sicológ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971640" y="3068640"/>
            <a:ext cx="4033800" cy="3362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867280" y="3068640"/>
            <a:ext cx="1976400" cy="2932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3132000" y="404640"/>
            <a:ext cx="2952720" cy="7192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A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8360" y="134136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Pretendi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 ver la realidad tal cual era, sin dar lugar a la fantasía o a la exaltación de los sentimi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39640" y="213372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e movimiento se caracterizó por destacar la luz solar y rechazar el negro, por considerar que este color no se hallaba en la naturale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24000" y="3357720"/>
            <a:ext cx="4319280" cy="2950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36" name=""/>
          <p:cNvSpPr/>
          <p:nvPr/>
        </p:nvSpPr>
        <p:spPr>
          <a:xfrm>
            <a:off x="2916360" y="333360"/>
            <a:ext cx="2952720" cy="7192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MPRESION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8360" y="112536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nta representar la realidad tal como la reciben los sentidos, con todas las influencias del medio. Se trata de un conocimiento experim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716360" y="3357720"/>
            <a:ext cx="4248360" cy="29764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BALANCE Y CARACTERÍSTICAS DE LA SOCIEDAD EUROPEA FINIS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248520" y="205740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lo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867280" y="2362320"/>
            <a:ext cx="3276720" cy="10666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censo y protagonis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la burguesía y 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letari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19051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lo económ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2286000"/>
            <a:ext cx="2819520" cy="15238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olidación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pitalismo 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 de la doctrina lib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4267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lo polí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86400" y="4724280"/>
            <a:ext cx="2895480" cy="1295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iunfo del liberalis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 de la monarquí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amen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4724280"/>
            <a:ext cx="3276360" cy="1295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a del progreso indefin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imismo cientí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l civilizador del europ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42670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lo cultu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182880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564000" y="54450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00400" y="29718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987640" y="1197000"/>
            <a:ext cx="3024360" cy="7207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glo X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119160"/>
            <a:ext cx="9144000" cy="67388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Verdana"/>
              </a:rPr>
              <a:t>Realicemos la gu</a:t>
            </a:r>
            <a:r>
              <a:rPr b="1" i="1" lang="es-ES_tradnl" sz="4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ía HU 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2050920" y="692280"/>
          <a:ext cx="4176720" cy="5754600"/>
        </p:xfrm>
        <a:graphic>
          <a:graphicData uri="http://schemas.openxmlformats.org/drawingml/2006/table">
            <a:tbl>
              <a:tblPr/>
              <a:tblGrid>
                <a:gridCol w="865440"/>
                <a:gridCol w="1120680"/>
                <a:gridCol w="219060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A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BI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1692360" y="18900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EVISEMOS LA GUÍA HU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PREPARA PARA TU PRÓXIMA CLASE LOS SIGUIENTE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351640" cy="180036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UROPA EN CRI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imera Guerra Mund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volución Ru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risis de 192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epara estos contenidos con la ayuda de tu libro (páginas 200 a 208  del Tomo I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" action="ppaction://hlinkshowjump?jump=firstslide"/>
          </p:cNvPr>
          <p:cNvSpPr/>
          <p:nvPr/>
        </p:nvSpPr>
        <p:spPr>
          <a:xfrm>
            <a:off x="8028000" y="5445000"/>
            <a:ext cx="792000" cy="100836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1008360"/>
              <a:gd name="textAreaBottom" fmla="*/ 957240 h 1008360"/>
            </a:gdLst>
            <a:ahLst/>
            <a:rect l="textAreaLeft" t="textAreaTop" r="textAreaRight" b="textAreaBottom"/>
            <a:pathLst>
              <a:path w="21600" h="27498">
                <a:moveTo>
                  <a:pt x="0" y="0"/>
                </a:moveTo>
                <a:lnTo>
                  <a:pt x="21600" y="0"/>
                </a:lnTo>
                <a:lnTo>
                  <a:pt x="21600" y="27498"/>
                </a:lnTo>
                <a:lnTo>
                  <a:pt x="0" y="27498"/>
                </a:lnTo>
                <a:close/>
              </a:path>
              <a:path fill="lightenLess" w="21600" h="274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498">
                <a:moveTo>
                  <a:pt x="21600" y="0"/>
                </a:moveTo>
                <a:lnTo>
                  <a:pt x="21600" y="27498"/>
                </a:lnTo>
                <a:lnTo>
                  <a:pt x="20200" y="26098"/>
                </a:lnTo>
                <a:lnTo>
                  <a:pt x="20200" y="1400"/>
                </a:lnTo>
                <a:close/>
              </a:path>
              <a:path fill="darkenLess" w="21600" h="27498">
                <a:moveTo>
                  <a:pt x="21600" y="27498"/>
                </a:moveTo>
                <a:lnTo>
                  <a:pt x="0" y="27498"/>
                </a:lnTo>
                <a:lnTo>
                  <a:pt x="1400" y="26098"/>
                </a:lnTo>
                <a:lnTo>
                  <a:pt x="20200" y="26098"/>
                </a:lnTo>
                <a:close/>
              </a:path>
              <a:path fill="lighten" w="21600" h="27498">
                <a:moveTo>
                  <a:pt x="0" y="274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098"/>
                </a:lnTo>
                <a:close/>
              </a:path>
              <a:path fill="darken" w="21600" h="27498">
                <a:moveTo>
                  <a:pt x="10800" y="6786"/>
                </a:moveTo>
                <a:lnTo>
                  <a:pt x="13376" y="9397"/>
                </a:lnTo>
                <a:lnTo>
                  <a:pt x="13376" y="7656"/>
                </a:lnTo>
                <a:lnTo>
                  <a:pt x="15152" y="7656"/>
                </a:lnTo>
                <a:lnTo>
                  <a:pt x="15152" y="11173"/>
                </a:lnTo>
                <a:lnTo>
                  <a:pt x="17763" y="13749"/>
                </a:lnTo>
                <a:lnTo>
                  <a:pt x="16109" y="13749"/>
                </a:lnTo>
                <a:lnTo>
                  <a:pt x="16109" y="20938"/>
                </a:lnTo>
                <a:lnTo>
                  <a:pt x="5491" y="20938"/>
                </a:lnTo>
                <a:lnTo>
                  <a:pt x="5491" y="13749"/>
                </a:lnTo>
                <a:lnTo>
                  <a:pt x="3837" y="13749"/>
                </a:lnTo>
                <a:close/>
              </a:path>
              <a:path fill="darkenLess" w="21600" h="27498">
                <a:moveTo>
                  <a:pt x="13376" y="9397"/>
                </a:moveTo>
                <a:lnTo>
                  <a:pt x="13376" y="7656"/>
                </a:lnTo>
                <a:lnTo>
                  <a:pt x="15152" y="7656"/>
                </a:lnTo>
                <a:lnTo>
                  <a:pt x="15152" y="11173"/>
                </a:lnTo>
                <a:close/>
              </a:path>
              <a:path fill="darkenLess" w="21600" h="27498">
                <a:moveTo>
                  <a:pt x="9877" y="17248"/>
                </a:moveTo>
                <a:lnTo>
                  <a:pt x="11723" y="17248"/>
                </a:lnTo>
                <a:lnTo>
                  <a:pt x="11723" y="20938"/>
                </a:lnTo>
                <a:lnTo>
                  <a:pt x="16109" y="20938"/>
                </a:lnTo>
                <a:lnTo>
                  <a:pt x="16109" y="13749"/>
                </a:lnTo>
                <a:lnTo>
                  <a:pt x="5491" y="13749"/>
                </a:lnTo>
                <a:lnTo>
                  <a:pt x="5491" y="20938"/>
                </a:lnTo>
                <a:lnTo>
                  <a:pt x="9877" y="20938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364000" y="3141720"/>
            <a:ext cx="2536920" cy="3240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1547640" y="3141720"/>
            <a:ext cx="3878280" cy="3240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8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353440" cy="5140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324000" y="189000"/>
            <a:ext cx="8459640" cy="936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¿Puedes reconocer en el siguiente mapa algunas potencias imperiales con sus respectivas colonia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Revisemos en primer lugar los siguientes concep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27440" y="1039680"/>
            <a:ext cx="8958600" cy="4470480"/>
            <a:chOff x="127440" y="1039680"/>
            <a:chExt cx="8958600" cy="4470480"/>
          </a:xfrm>
        </p:grpSpPr>
        <p:sp>
          <p:nvSpPr>
            <p:cNvPr id="104" name="_s138267"/>
            <p:cNvSpPr/>
            <p:nvPr/>
          </p:nvSpPr>
          <p:spPr>
            <a:xfrm>
              <a:off x="3397320" y="1833840"/>
              <a:ext cx="2421720" cy="227052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38268"/>
            <p:cNvSpPr/>
            <p:nvPr/>
          </p:nvSpPr>
          <p:spPr>
            <a:xfrm>
              <a:off x="3397320" y="1039680"/>
              <a:ext cx="2421720" cy="56592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PER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38269"/>
            <p:cNvSpPr/>
            <p:nvPr/>
          </p:nvSpPr>
          <p:spPr>
            <a:xfrm>
              <a:off x="4194360" y="3127320"/>
              <a:ext cx="2421720" cy="227124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38270"/>
            <p:cNvSpPr/>
            <p:nvPr/>
          </p:nvSpPr>
          <p:spPr>
            <a:xfrm>
              <a:off x="6664320" y="4944240"/>
              <a:ext cx="2421720" cy="56592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PERIALISM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38271"/>
            <p:cNvSpPr/>
            <p:nvPr/>
          </p:nvSpPr>
          <p:spPr>
            <a:xfrm>
              <a:off x="2599560" y="3127320"/>
              <a:ext cx="2421720" cy="22712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38272"/>
            <p:cNvSpPr/>
            <p:nvPr/>
          </p:nvSpPr>
          <p:spPr>
            <a:xfrm>
              <a:off x="127440" y="4942080"/>
              <a:ext cx="2421360" cy="56592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LONIALISM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54720" y="2131200"/>
              <a:ext cx="20559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EXPANSIÓN  TERRITORIAL SUSTENTADA EN CONQUISTAS MILITAR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56000" y="3758040"/>
              <a:ext cx="2060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INSTALACIÓN DE UN ESTABLECIMIENTO COMERCIAL O MILITAR FUERA DE UN ESTADO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859280" y="3645000"/>
            <a:ext cx="1657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ORMA MÁS COMPLEJA DE EXPANSIÓN, NO NECESARIAMENTE TERRITO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92360" y="580536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Cuáles eran las formas de domin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403280" y="4076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03280" y="407664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88000" y="4005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812000" y="400536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484360" y="189000"/>
            <a:ext cx="3600360" cy="7207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ERIALISMO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 SIGLO X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1197000"/>
            <a:ext cx="2663640" cy="5745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LON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59280" y="1197000"/>
            <a:ext cx="2663640" cy="5745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E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40360" y="1197000"/>
            <a:ext cx="2664000" cy="5745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ECTO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95280" y="2060640"/>
            <a:ext cx="2592000" cy="3455640"/>
            <a:chOff x="395280" y="2060640"/>
            <a:chExt cx="2592000" cy="3455640"/>
          </a:xfrm>
        </p:grpSpPr>
        <p:sp>
          <p:nvSpPr>
            <p:cNvPr id="124" name=""/>
            <p:cNvSpPr/>
            <p:nvPr/>
          </p:nvSpPr>
          <p:spPr>
            <a:xfrm>
              <a:off x="395280" y="2060640"/>
              <a:ext cx="2592000" cy="3455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9880" y="2209680"/>
              <a:ext cx="2341080" cy="2837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metidas a la soberanía  de la potencia colonizadora y administrada por ella. Supone anexión territorial y pérdida de soberanía del país colonizado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j. Congo Belg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203640" y="2060640"/>
            <a:ext cx="2374920" cy="3600360"/>
            <a:chOff x="3203640" y="2060640"/>
            <a:chExt cx="2374920" cy="3600360"/>
          </a:xfrm>
        </p:grpSpPr>
        <p:sp>
          <p:nvSpPr>
            <p:cNvPr id="127" name=""/>
            <p:cNvSpPr/>
            <p:nvPr/>
          </p:nvSpPr>
          <p:spPr>
            <a:xfrm>
              <a:off x="3203640" y="2060640"/>
              <a:ext cx="2374920" cy="360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48000" y="2205000"/>
              <a:ext cx="2217600" cy="3254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Las potencias colonizadoras obtenían ventajas comerciales de países que eran independientes y que les cedían  una serie de puertos en calidad de franquicia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j: China, India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012000" y="2060640"/>
            <a:ext cx="2663640" cy="3600360"/>
            <a:chOff x="6012000" y="2060640"/>
            <a:chExt cx="2663640" cy="3600360"/>
          </a:xfrm>
        </p:grpSpPr>
        <p:sp>
          <p:nvSpPr>
            <p:cNvPr id="130" name=""/>
            <p:cNvSpPr/>
            <p:nvPr/>
          </p:nvSpPr>
          <p:spPr>
            <a:xfrm>
              <a:off x="6012000" y="2060640"/>
              <a:ext cx="2663640" cy="360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84720" y="2276640"/>
              <a:ext cx="2486160" cy="3111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La potencia protectora controlaba la política exterior y las riquezas del país, mientras que las autoridades nativas controlaban la política interior. Ej: España y Francia sobre Marruecos. Gran Bretaña sobre Egipt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 flipH="1">
            <a:off x="2268360" y="907920"/>
            <a:ext cx="194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1640" y="907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11640" y="907920"/>
            <a:ext cx="24480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76360" y="189000"/>
            <a:ext cx="6546960" cy="6681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Factores del Imperia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1726920" cy="2306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250920" y="1197000"/>
            <a:ext cx="3673440" cy="1368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co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ico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capital monopólic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necesidad  de expandir  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rc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desarrollo del capital financi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2852640"/>
            <a:ext cx="3816360" cy="1152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ultural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dea de superioridad del europe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eurocentrismo). Teo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s racis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5013360"/>
            <a:ext cx="4896000" cy="1368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mogr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fic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explosión demográfica, que provoc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crecimiento de la deman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gración del excedente de población europ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88000" y="1197000"/>
            <a:ext cx="4068720" cy="1368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ític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expansión mundial entreg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tigio internacional: nacionalis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88000" y="2852640"/>
            <a:ext cx="4066920" cy="1152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nológic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revolución de las comunica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 de  los transpo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56000" y="836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067280" y="907920"/>
            <a:ext cx="2887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067280" y="907920"/>
            <a:ext cx="28872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56000" y="907920"/>
            <a:ext cx="36036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56000" y="907920"/>
            <a:ext cx="360360" cy="187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250920" y="189000"/>
            <a:ext cx="8677080" cy="6507000"/>
            <a:chOff x="250920" y="189000"/>
            <a:chExt cx="8677080" cy="650700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9640" y="1197000"/>
              <a:ext cx="6048360" cy="549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50920" y="189000"/>
              <a:ext cx="8642160" cy="8967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Verdana"/>
                </a:rPr>
                <a:t>La estructura imperial: </a:t>
              </a:r>
              <a:br>
                <a:rPr sz="2400"/>
              </a:br>
              <a:r>
                <a:rPr b="1" i="1" lang="es-ES_tradnl" sz="2400" spc="-1" strike="noStrike">
                  <a:solidFill>
                    <a:srgbClr val="ffffff"/>
                  </a:solidFill>
                  <a:latin typeface="Verdana"/>
                </a:rPr>
                <a:t>distribuci</a:t>
              </a:r>
              <a:r>
                <a:rPr b="1" i="1" lang="es-ES_tradnl" sz="2400" spc="-1" strike="noStrike">
                  <a:solidFill>
                    <a:srgbClr val="ffffff"/>
                  </a:solidFill>
                  <a:latin typeface="Verdana"/>
                  <a:ea typeface="ＭＳ Ｐゴシック"/>
                </a:rPr>
                <a:t>ón y control de zonas de influ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PlaceHolder 1"/>
            <p:cNvSpPr>
              <a:spLocks noGrp="1"/>
            </p:cNvSpPr>
            <p:nvPr>
              <p:ph type="title"/>
            </p:nvPr>
          </p:nvSpPr>
          <p:spPr>
            <a:xfrm>
              <a:off x="6372000" y="1412640"/>
              <a:ext cx="2447640" cy="1368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txBody>
            <a:bodyPr lIns="90000" rIns="90000" tIns="46800" bIns="46800" anchor="t">
              <a:noAutofit/>
            </a:bodyPr>
            <a:p>
              <a:pPr indent="0" algn="ctr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CONFERENCIA DE BERLÍN  (1884-188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27640" y="3357720"/>
              <a:ext cx="2700360" cy="23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eparto de África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nglaterra: 30 millones de Kms. cuadrados; Francia, (10 millones); Alemania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tras potencias también obtienen territorio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24720" y="2781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24000" y="189000"/>
            <a:ext cx="86407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El imperialismo inglés: dominion ingl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381880" cy="5220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576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El imperialismo franc</a:t>
            </a:r>
            <a:r>
              <a:rPr b="1" i="1" lang="es-ES_tradnl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és: </a:t>
            </a:r>
            <a:r>
              <a:rPr b="0" i="1" lang="es-ES_tradnl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ssimilation franc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64480" cy="5291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3:30:29Z</dcterms:created>
  <dc:creator>WinuE</dc:creator>
  <dc:description/>
  <dc:language>en-US</dc:language>
  <cp:lastModifiedBy>WinuE</cp:lastModifiedBy>
  <dcterms:modified xsi:type="dcterms:W3CDTF">2008-08-18T05:22:20Z</dcterms:modified>
  <cp:revision>63</cp:revision>
  <dc:subject/>
  <dc:title>Diapositiva 1</dc:title>
</cp:coreProperties>
</file>